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31A-7CB8-4EF2-9C96-100E7EDF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91D-53A2-4F58-B52E-380F9777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37A-0562-48DD-998E-AE74C078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560-BD40-4E18-9C14-0FCCF638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328-06DD-4A78-9456-993A273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6AD-A97F-4E75-8133-98683061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B6D-752C-483E-8B71-6234B030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7FA-176F-41C4-B513-6807956F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F7C-4C71-47E5-9E4E-98E85E86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C3C-A059-4BDB-8ADF-A3FA333A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77F-84B2-42CF-AD31-BCEE4681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365-CE11-4B1D-BB1C-723DAF6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57AD-70B1-43FC-A55B-97AC31BF0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leinbottle.com/gaus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rmalna (Gaussova) raspodj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77724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mda postoje mnoge druge raspodjele, normalna raspodjela objašnjava najveći broj statističkih opaž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va primj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podjela visina odraslih lj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zultati mjerenja fizikalnih velič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994440" cy="338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87560" y="6297480"/>
            <a:ext cx="409284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kleinbottle.com/gaus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311720" cy="495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685800"/>
            <a:ext cx="80773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noštvo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itnih pogrešaka utječe na rezult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k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a pogreška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čavlić u Galt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voj dasc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nač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pogrešk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j svih tih utjeca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42900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itnih pogreš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a jako mnogo, Gaussova krivulja dobro opisuje raspodje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5840" y="228600"/>
            <a:ext cx="40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odje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grešaka mjere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6680" y="833400"/>
          <a:ext cx="6858000" cy="60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3400"/>
                    <a:ext cx="6858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1040" y="304920"/>
                <a:ext cx="3257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800600" y="304920"/>
                <a:ext cx="384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48120" y="1295280"/>
                <a:ext cx="1908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76720" y="3733920"/>
                <a:ext cx="1434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29720" cy="526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34120" y="4419720"/>
                <a:ext cx="26557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791320" y="5943600"/>
                <a:ext cx="1760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152280"/>
          <a:ext cx="8458200" cy="64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45820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5638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na normalna raspodj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71600" y="2085840"/>
                <a:ext cx="13525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43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505320" y="2619360"/>
                <a:ext cx="2511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747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581280" y="4114800"/>
                <a:ext cx="32641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122400"/>
          <a:ext cx="9144000" cy="66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400"/>
                    <a:ext cx="9144000" cy="66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80880"/>
            <a:ext cx="5638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ziranje općenit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normaln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aspodjel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95280" y="1371600"/>
                <a:ext cx="1760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133720" y="2819520"/>
            <a:ext cx="5058720" cy="788760"/>
            <a:chOff x="2133720" y="2819520"/>
            <a:chExt cx="5058720" cy="788760"/>
          </a:xfrm>
        </p:grpSpPr>
        <p:sp>
          <p:nvSpPr>
            <p:cNvPr id="72" name=""/>
            <p:cNvSpPr/>
            <p:nvPr/>
          </p:nvSpPr>
          <p:spPr>
            <a:xfrm>
              <a:off x="2133720" y="2971440"/>
              <a:ext cx="495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vodimo slučajnu varijabl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5775120" y="2819520"/>
                  <a:ext cx="14173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" name=""/>
          <p:cNvSpPr/>
          <p:nvPr/>
        </p:nvSpPr>
        <p:spPr>
          <a:xfrm>
            <a:off x="42292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3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47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8-05-12T13:42:25Z</dcterms:modified>
  <cp:revision>59</cp:revision>
  <dc:subject/>
  <dc:title>No Slide Title</dc:title>
</cp:coreProperties>
</file>