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36F9-FE8F-453E-B77E-905855A2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406-C7D3-47B7-B91C-15BB213A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310-CE27-489B-BF4C-C2F0D57A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270-B297-4619-9E5C-7B7CEA84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077-0F3A-4B42-905C-FCDC1D79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607-6180-410D-B86A-4D855E2D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2C1-4877-4266-964C-DF58721E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BFE3-0E0A-4115-B912-AD5642FC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E52-9256-4C88-BABF-B695AFD8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3E3-C705-4807-BF1B-6DDF45E3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AF5-3501-4213-A475-62ADF188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1FC-C3C2-4766-86F0-4F3AE5D9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467A-8F4A-491A-86DE-A34A6A6BA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632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imjena Poissonove raspodj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300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. Poissnova raspodjela kao granični slučaj binom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tavimo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∞, a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0 tako da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const. &gt; 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071440" y="3006720"/>
            <a:ext cx="3424320" cy="525600"/>
            <a:chOff x="2071440" y="3006720"/>
            <a:chExt cx="3424320" cy="525600"/>
          </a:xfrm>
        </p:grpSpPr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2724120" y="3048120"/>
                  <a:ext cx="277164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r>
                        <m:t xml:space="preserve"> </m:t>
                      </m:r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071440" y="3006720"/>
              <a:ext cx="5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3520" y="4495680"/>
            <a:ext cx="3460680" cy="795600"/>
            <a:chOff x="533520" y="4495680"/>
            <a:chExt cx="3460680" cy="795600"/>
          </a:xfrm>
        </p:grpSpPr>
        <p:sp>
          <p:nvSpPr>
            <p:cNvPr id="48" name=""/>
            <p:cNvSpPr/>
            <p:nvPr/>
          </p:nvSpPr>
          <p:spPr>
            <a:xfrm>
              <a:off x="533520" y="449568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aktično: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752480" y="4952880"/>
                  <a:ext cx="224172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≤</m:t>
                      </m:r>
                      <m:r>
                        <m:t xml:space="preserve">0,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72120" y="14292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Funkcija raspodj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1066680"/>
            <a:ext cx="7696080" cy="1621080"/>
            <a:chOff x="457200" y="1066680"/>
            <a:chExt cx="7696080" cy="1621080"/>
          </a:xfrm>
        </p:grpSpPr>
        <p:sp>
          <p:nvSpPr>
            <p:cNvPr id="95" name=""/>
            <p:cNvSpPr/>
            <p:nvPr/>
          </p:nvSpPr>
          <p:spPr>
            <a:xfrm>
              <a:off x="457200" y="1066680"/>
              <a:ext cx="7696080" cy="155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kcija raspodjel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za kontinuiranu slučajnu varijablu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finirana j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                                                                                  </a:t>
              </a:r>
              <a:r>
                <a:rPr b="1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2971800" y="1752480"/>
                  <a:ext cx="3544920" cy="93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523880" y="3581280"/>
                <a:ext cx="36496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304920" y="4495680"/>
            <a:ext cx="7315200" cy="1373760"/>
            <a:chOff x="304920" y="4495680"/>
            <a:chExt cx="7315200" cy="1373760"/>
          </a:xfrm>
        </p:grpSpPr>
        <p:sp>
          <p:nvSpPr>
            <p:cNvPr id="99" name=""/>
            <p:cNvSpPr/>
            <p:nvPr/>
          </p:nvSpPr>
          <p:spPr>
            <a:xfrm>
              <a:off x="304920" y="4495680"/>
              <a:ext cx="7315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o poznajemo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F(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da  lako određujem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352680" y="5029200"/>
                  <a:ext cx="184644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0"/>
          <a:ext cx="8967960" cy="71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6796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47360" y="29520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čekivanje kontinuirane slučajne varijable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8600" y="1066680"/>
            <a:ext cx="8381880" cy="2105280"/>
            <a:chOff x="228600" y="1066680"/>
            <a:chExt cx="8381880" cy="2105280"/>
          </a:xfrm>
        </p:grpSpPr>
        <p:sp>
          <p:nvSpPr>
            <p:cNvPr id="105" name=""/>
            <p:cNvSpPr/>
            <p:nvPr/>
          </p:nvSpPr>
          <p:spPr>
            <a:xfrm>
              <a:off x="228600" y="1066680"/>
              <a:ext cx="8381880" cy="21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ko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ontinuirana slučajna varijabla i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jezina funkcija gustoće vjerojatnosti, onda j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njezino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čekivan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</a:rPr>
                <a:t>je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2666880" y="1981080"/>
                  <a:ext cx="3321000" cy="111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⋅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7" name=""/>
          <p:cNvGraphicFramePr/>
          <p:nvPr/>
        </p:nvGraphicFramePr>
        <p:xfrm>
          <a:off x="1905120" y="3246480"/>
          <a:ext cx="4952880" cy="36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246480"/>
                    <a:ext cx="495288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09160" y="27000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Očekivanje funkcije kontinuirane slučajne varij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1143000"/>
            <a:ext cx="8458200" cy="2654280"/>
            <a:chOff x="304920" y="1143000"/>
            <a:chExt cx="8458200" cy="2654280"/>
          </a:xfrm>
        </p:grpSpPr>
        <p:sp>
          <p:nvSpPr>
            <p:cNvPr id="111" name=""/>
            <p:cNvSpPr/>
            <p:nvPr/>
          </p:nvSpPr>
          <p:spPr>
            <a:xfrm>
              <a:off x="304920" y="1143000"/>
              <a:ext cx="8458200" cy="265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</a:t>
              </a:r>
              <a:r>
                <a:rPr b="0" i="1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o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ontinuirana slučajna varijabla i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jezina funkcija gustoće vjerojatnosti, 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ilo koja funkcija od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onda j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2133720" y="2362320"/>
                  <a:ext cx="4297320" cy="111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" name=""/>
          <p:cNvSpPr/>
          <p:nvPr/>
        </p:nvSpPr>
        <p:spPr>
          <a:xfrm>
            <a:off x="592920" y="4613400"/>
            <a:ext cx="565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linearnu funkcij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vrij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66720" y="396720"/>
            <a:ext cx="610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janca kontinuirane slučajne varij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04920" y="1295280"/>
            <a:ext cx="8229600" cy="3385800"/>
            <a:chOff x="304920" y="1295280"/>
            <a:chExt cx="8229600" cy="3385800"/>
          </a:xfrm>
        </p:grpSpPr>
        <p:sp>
          <p:nvSpPr>
            <p:cNvPr id="116" name=""/>
            <p:cNvSpPr/>
            <p:nvPr/>
          </p:nvSpPr>
          <p:spPr>
            <a:xfrm>
              <a:off x="304920" y="1295280"/>
              <a:ext cx="8229600" cy="33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ko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ontinuirana slučajna varijabl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jezina funkcija gustoće vjerojatnosti, 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μ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njezino očekivanj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onda j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njezin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ijanc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dana relacij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      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ndardna devijacij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je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2057400" y="2362320"/>
                  <a:ext cx="5746680" cy="103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μ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3809880" y="3809880"/>
                  <a:ext cx="166716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971800" y="5334120"/>
                <a:ext cx="3218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838080" y="1171440"/>
          <a:ext cx="670572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71440"/>
                    <a:ext cx="670572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791240" y="650880"/>
            <a:ext cx="18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=1.94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08800" y="1295280"/>
            <a:ext cx="19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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0280" y="28954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men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14400" y="3457440"/>
                <a:ext cx="22636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343400" y="3459240"/>
                <a:ext cx="3033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9006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11520" y="1752480"/>
            <a:ext cx="5337000" cy="511200"/>
            <a:chOff x="911520" y="1752480"/>
            <a:chExt cx="5337000" cy="511200"/>
          </a:xfrm>
        </p:grpSpPr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3581280" y="1752480"/>
                  <a:ext cx="266724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"/>
            <p:cNvSpPr/>
            <p:nvPr/>
          </p:nvSpPr>
          <p:spPr>
            <a:xfrm>
              <a:off x="911520" y="1752480"/>
              <a:ext cx="242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Linearna funkcij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920" y="380880"/>
            <a:ext cx="8381880" cy="1191240"/>
            <a:chOff x="304920" y="380880"/>
            <a:chExt cx="8381880" cy="1191240"/>
          </a:xfrm>
        </p:grpSpPr>
        <p:sp>
          <p:nvSpPr>
            <p:cNvPr id="132" name=""/>
            <p:cNvSpPr/>
            <p:nvPr/>
          </p:nvSpPr>
          <p:spPr>
            <a:xfrm>
              <a:off x="304920" y="380880"/>
              <a:ext cx="8381880" cy="119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janca funkcij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1370160" y="863640"/>
                  <a:ext cx="67276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E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h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d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=</m:t>
                      </m:r>
                      <m:r>
                        <m:t xml:space="preserve">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−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E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h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d>
                                </m:e>
                              </m:d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813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8948880" cy="72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8880" cy="72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097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533520"/>
          <a:ext cx="7450200" cy="58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745020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701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. Poissonova raspodjela kao zakon malih broje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7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jetki događa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2280" y="320040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nski ili prostorni interval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7360" y="4156200"/>
            <a:ext cx="730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issonovi proces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jerojatnost događaja proporcionalna je veličini interva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28600"/>
            <a:ext cx="9144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ilagođavanje empirijskih podataka Poissonovoj raspodjel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66680" y="662040"/>
          <a:ext cx="7097760" cy="61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62040"/>
                    <a:ext cx="70977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0680" y="304920"/>
            <a:ext cx="77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Times New Roman"/>
              </a:rPr>
              <a:t>Kontinuirana raspodjela vjerojatnos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286000"/>
            <a:ext cx="8458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: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učajna varijabl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inuiran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ko skup njezinih mogućih vrijednosti čini cijeli interval brojeva, t.j. ako je za nek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&lt;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vak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gu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5181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ljin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ije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52280" y="2971800"/>
          <a:ext cx="414972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971800"/>
                    <a:ext cx="414972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689360" y="2971800"/>
          <a:ext cx="4149720" cy="30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9360" y="2971800"/>
                    <a:ext cx="4149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0" y="0"/>
          <a:ext cx="4255920" cy="30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0"/>
                    <a:ext cx="425592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2280" y="-15840"/>
          <a:ext cx="4186440" cy="307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-15840"/>
                    <a:ext cx="418644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181480" y="5715000"/>
                <a:ext cx="14464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/>
                    </m:nary>
                    <m:r>
                      <m:t xml:space="preserve">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819520" y="6172200"/>
                <a:ext cx="14475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0480" y="5756400"/>
            <a:ext cx="27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jelaz s diskretne na kontinuira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9480" y="21924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a gustoće vjerojatnosti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28600" y="1143000"/>
            <a:ext cx="8610480" cy="2288520"/>
            <a:chOff x="228600" y="1143000"/>
            <a:chExt cx="8610480" cy="2288520"/>
          </a:xfrm>
        </p:grpSpPr>
        <p:sp>
          <p:nvSpPr>
            <p:cNvPr id="79" name=""/>
            <p:cNvSpPr/>
            <p:nvPr/>
          </p:nvSpPr>
          <p:spPr>
            <a:xfrm>
              <a:off x="228600" y="1143000"/>
              <a:ext cx="8610480" cy="228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eka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ontinuirana slučajna varijabla.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spodjela vjerojatnosti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li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kcija gustoć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jerojatnosti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jabl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je funkcij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takva da za bilo koja dva broja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rijed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5715000" y="1905120"/>
                  <a:ext cx="69048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≤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2895480" y="2286000"/>
                  <a:ext cx="3044880" cy="106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" name=""/>
          <p:cNvGrpSpPr/>
          <p:nvPr/>
        </p:nvGrpSpPr>
        <p:grpSpPr>
          <a:xfrm>
            <a:off x="457200" y="3581280"/>
            <a:ext cx="7864560" cy="1191240"/>
            <a:chOff x="457200" y="3581280"/>
            <a:chExt cx="7864560" cy="119124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828800" y="3962520"/>
                  <a:ext cx="6904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" name=""/>
            <p:cNvSpPr/>
            <p:nvPr/>
          </p:nvSpPr>
          <p:spPr>
            <a:xfrm>
              <a:off x="457200" y="3581280"/>
              <a:ext cx="7864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iječima: Vjerojatnost d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vrijednost varijabl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bude u intervalu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na je površinom ispod funkcije gustoće vjerojatnosti u tom intervalu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57400" y="6172200"/>
                <a:ext cx="22068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120760" y="5041800"/>
                <a:ext cx="15894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12400" y="50706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vje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124080" y="457200"/>
                <a:ext cx="16988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9" name=""/>
          <p:cNvGraphicFramePr/>
          <p:nvPr/>
        </p:nvGraphicFramePr>
        <p:xfrm>
          <a:off x="533520" y="584280"/>
          <a:ext cx="8381880" cy="66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84280"/>
                    <a:ext cx="8381880" cy="66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876920" y="152280"/>
                <a:ext cx="1388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324480" y="457200"/>
                <a:ext cx="10112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8-05-05T13:49:00Z</dcterms:modified>
  <cp:revision>55</cp:revision>
  <dc:subject/>
  <dc:title>No Slide Title</dc:title>
</cp:coreProperties>
</file>