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2E7-A8E6-4805-B560-A3041A8B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43D-EA65-451F-8B5D-61C811D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2CF-D0CC-4B6E-A71D-DE13A37F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7E7-AFC5-4413-9084-23E8A2DB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35C-1463-4B95-B193-56578653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CEE-C567-46CA-874F-AC7FCC64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AB0-3C11-4B57-9DC0-8A2A4141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FBB-0427-4977-803D-91E2C26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867-A791-4B40-B780-AFF1D51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725-065A-4DA5-8A19-1646BD2D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7F8-836F-4313-861F-A7A07A0F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501-477A-41DD-A3B4-7095321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0A7F-B609-4E2B-9876-A284D61B3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hyperlink" Target="http://www.uni-koeln.de/math-nat-fak/didaktiken/mathe/Projekte/VisuPro/galton/galton.html" TargetMode="External"/><Relationship Id="rId6" Type="http://schemas.openxmlformats.org/officeDocument/2006/relationships/hyperlink" Target="http://www.uni-koeln.de/math-nat-fak/didaktiken/mathe/Projekte/VisuPro/galton/galton.html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87960" y="4255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Times New Roman"/>
              </a:rPr>
              <a:t>Binomna raspodj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371600"/>
          <a:ext cx="548640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5486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609480" y="2666880"/>
          <a:ext cx="7963200" cy="365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666880"/>
                    <a:ext cx="7963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5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ssonova raspodjel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1523880"/>
            <a:ext cx="9144000" cy="3473280"/>
            <a:chOff x="228600" y="1523880"/>
            <a:chExt cx="9144000" cy="3473280"/>
          </a:xfrm>
        </p:grpSpPr>
        <p:sp>
          <p:nvSpPr>
            <p:cNvPr id="80" name=""/>
            <p:cNvSpPr/>
            <p:nvPr/>
          </p:nvSpPr>
          <p:spPr>
            <a:xfrm>
              <a:off x="228600" y="1523880"/>
              <a:ext cx="914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kretna slučajna varijabla ima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oissonovu raspodjelu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oj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 raspodjela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 neki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Poissonovu s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lučajnu varijabl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značava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2666880" y="2742840"/>
                  <a:ext cx="47246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1371600" y="3733560"/>
                  <a:ext cx="7621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419720" y="4571640"/>
                  <a:ext cx="1600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Po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4808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880" y="380880"/>
          <a:ext cx="8097840" cy="581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09784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304920"/>
            <a:ext cx="91440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čekivanje i varija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895480" y="1219320"/>
                <a:ext cx="1220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2133720"/>
                <a:ext cx="18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895480" y="4038480"/>
                <a:ext cx="12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95480" y="3124080"/>
                <a:ext cx="3108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9144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kurzivna formul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38280" y="1143000"/>
                <a:ext cx="2816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57200" y="243828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jvjerojatnija vrijedn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38280" y="3505320"/>
                <a:ext cx="1735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228600" y="4343400"/>
            <a:ext cx="9144000" cy="1617840"/>
            <a:chOff x="228600" y="4343400"/>
            <a:chExt cx="9144000" cy="1617840"/>
          </a:xfrm>
        </p:grpSpPr>
        <p:sp>
          <p:nvSpPr>
            <p:cNvPr id="97" name=""/>
            <p:cNvSpPr/>
            <p:nvPr/>
          </p:nvSpPr>
          <p:spPr>
            <a:xfrm>
              <a:off x="228600" y="4343400"/>
              <a:ext cx="9144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Funkcija raspodje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2971800" y="5105520"/>
                  <a:ext cx="234324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f>
                            <m:num>
                              <m:sSup>
                                <m:e>
                                  <m:r>
                                    <m:t xml:space="preserve">λ</m:t>
                                  </m:r>
                                </m:e>
                                <m:sup>
                                  <m:r>
                                    <m:t xml:space="preserve">y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80880"/>
            <a:ext cx="632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mjena Poissonove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14300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. Poissnova raspodjela kao granični slučaj binom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vimo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∞, 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0 tako d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. &gt;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071440" y="3006720"/>
            <a:ext cx="3424320" cy="525600"/>
            <a:chOff x="2071440" y="3006720"/>
            <a:chExt cx="3424320" cy="52560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724120" y="3048120"/>
                  <a:ext cx="2771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4" name=""/>
            <p:cNvSpPr/>
            <p:nvPr/>
          </p:nvSpPr>
          <p:spPr>
            <a:xfrm>
              <a:off x="2071440" y="300672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33520" y="4495680"/>
            <a:ext cx="3460680" cy="795600"/>
            <a:chOff x="533520" y="4495680"/>
            <a:chExt cx="3460680" cy="795600"/>
          </a:xfrm>
        </p:grpSpPr>
        <p:sp>
          <p:nvSpPr>
            <p:cNvPr id="106" name=""/>
            <p:cNvSpPr/>
            <p:nvPr/>
          </p:nvSpPr>
          <p:spPr>
            <a:xfrm>
              <a:off x="533520" y="44956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ktično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752480" y="4952880"/>
                  <a:ext cx="224172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≤</m:t>
                      </m:r>
                      <m:r>
                        <m:t xml:space="preserve">0,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5800" y="1143000"/>
          <a:ext cx="3627360" cy="47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36273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029200" y="990720"/>
          <a:ext cx="3490920" cy="47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90720"/>
                    <a:ext cx="349092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93840" y="193680"/>
            <a:ext cx="38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altonova dask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F. Gal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8200" y="5867280"/>
            <a:ext cx="6901560" cy="703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uni-koeln.de/math-nat-fak/didaktiken/mathe/Projekt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VisuPro/galton/galto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228600"/>
          <a:ext cx="781056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781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09480" y="4114800"/>
          <a:ext cx="7753320" cy="245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14800"/>
                    <a:ext cx="7753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8524800" y="1523880"/>
          <a:ext cx="2582208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24800" y="1523880"/>
                    <a:ext cx="258220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66680" y="533520"/>
                <a:ext cx="69343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roj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hod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j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maju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spjeha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jerojatnos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vakog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kvog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hoda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914400" y="2990880"/>
          <a:ext cx="6705720" cy="22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90880"/>
                    <a:ext cx="6705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14400" y="762120"/>
          <a:ext cx="5486400" cy="97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54864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76520" y="2133720"/>
          <a:ext cx="54864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486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19320" y="106668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81080" y="1509840"/>
                <a:ext cx="3962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762120" y="3048120"/>
          <a:ext cx="794376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79437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219320" y="5334120"/>
          <a:ext cx="5486400" cy="36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412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66680" y="457200"/>
          <a:ext cx="5486400" cy="39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54864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666880" y="1676520"/>
                <a:ext cx="2210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666880" y="3809880"/>
                <a:ext cx="24386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066680" y="838080"/>
          <a:ext cx="7620120" cy="7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76201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8-05-03T16:28:37Z</dcterms:modified>
  <cp:revision>52</cp:revision>
  <dc:subject/>
  <dc:title>No Slide Title</dc:title>
</cp:coreProperties>
</file>