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088-F060-4988-BE74-1D9405B0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17F-A2E5-4DA5-814B-DC3475B1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873-35CB-438E-A1C6-F3673C0C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A0A-E6E6-447B-9406-6056D744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C5A-3673-45F8-83C4-3769FA8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D16-3325-4617-A8CE-9DBDE110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BB8-3FD3-4C56-9599-0CB8D19F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7DE-2101-4D8D-BA8B-BB2C056B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D51F-0020-4746-A64D-6D11898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FA4-531A-4E3A-8DEC-AE5340C6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247-9D99-4E4B-AF93-9CBEF76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80C-08B0-4972-9066-3F37CC9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3F8E-1CF3-471A-BAC2-789128A1E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lučajna varij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85800" y="1219320"/>
          <a:ext cx="756936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5693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22416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8120" y="228600"/>
                <a:ext cx="26953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33160" y="523800"/>
            <a:ext cx="59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66880" y="1066680"/>
          <a:ext cx="413856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066680"/>
                    <a:ext cx="41385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80880" y="457200"/>
          <a:ext cx="83440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44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66680" y="4702320"/>
          <a:ext cx="7315200" cy="116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702320"/>
                    <a:ext cx="731520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438280" y="304920"/>
          <a:ext cx="4543560" cy="63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543560" cy="63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00240" y="422280"/>
            <a:ext cx="51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Očekivanje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90720" y="1447920"/>
          <a:ext cx="7785000" cy="135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7850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346040" y="368316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6040" y="368316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52480" y="4248000"/>
          <a:ext cx="2438640" cy="1095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248000"/>
                    <a:ext cx="24386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19320" y="5791320"/>
          <a:ext cx="5651280" cy="635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791320"/>
                    <a:ext cx="565128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77280" y="2700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ijanca funkcij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679400"/>
          <a:ext cx="731520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9400"/>
                    <a:ext cx="73152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219320" y="3733920"/>
          <a:ext cx="5486400" cy="2152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33520" y="523800"/>
            <a:ext cx="31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menti višeg re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914400"/>
          <a:ext cx="4174920" cy="59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4174920" cy="59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495680" y="990720"/>
          <a:ext cx="4175280" cy="59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990720"/>
                    <a:ext cx="4175280" cy="59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009800" y="685800"/>
          <a:ext cx="723888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685800"/>
                    <a:ext cx="72388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990720" y="2590920"/>
          <a:ext cx="7524720" cy="1790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590920"/>
                    <a:ext cx="75247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95280" y="4952880"/>
                <a:ext cx="22370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359000" y="5384880"/>
                <a:ext cx="1216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876920" y="5334120"/>
                <a:ext cx="24667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59000" y="5818320"/>
                <a:ext cx="2827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066680" y="838080"/>
                <a:ext cx="28879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28800" y="2590920"/>
                <a:ext cx="388620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685800" y="685800"/>
          <a:ext cx="5486400" cy="51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609480" y="1523880"/>
          <a:ext cx="5905800" cy="14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523880"/>
                    <a:ext cx="590580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143000" y="4038480"/>
          <a:ext cx="569592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038480"/>
                    <a:ext cx="5695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9160" y="3276720"/>
            <a:ext cx="2910600" cy="1713600"/>
            <a:chOff x="839160" y="3276720"/>
            <a:chExt cx="2910600" cy="1713600"/>
          </a:xfrm>
        </p:grpSpPr>
        <p:sp>
          <p:nvSpPr>
            <p:cNvPr id="43" name=""/>
            <p:cNvSpPr/>
            <p:nvPr/>
          </p:nvSpPr>
          <p:spPr>
            <a:xfrm>
              <a:off x="853920" y="3276720"/>
              <a:ext cx="289584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911320" y="4419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87440" y="42670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20960" y="36576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49560" y="44956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35360" y="3962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9160" y="45306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35560" y="4232160"/>
            <a:ext cx="3962160" cy="464040"/>
            <a:chOff x="4435560" y="4232160"/>
            <a:chExt cx="3962160" cy="464040"/>
          </a:xfrm>
        </p:grpSpPr>
        <p:sp>
          <p:nvSpPr>
            <p:cNvPr id="51" name=""/>
            <p:cNvSpPr/>
            <p:nvPr/>
          </p:nvSpPr>
          <p:spPr>
            <a:xfrm>
              <a:off x="4435560" y="42670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5944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1980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0052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8016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49960" y="4267080"/>
              <a:ext cx="14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-1   0   1  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08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1172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92960" y="4267080"/>
              <a:ext cx="288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452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" name=""/>
          <p:cNvCxnSpPr>
            <a:stCxn id="46" idx="0"/>
            <a:endCxn id="59" idx="1"/>
          </p:cNvCxnSpPr>
          <p:nvPr/>
        </p:nvCxnSpPr>
        <p:spPr>
          <a:xfrm flipH="1" rot="16200000">
            <a:off x="3920040" y="1693440"/>
            <a:ext cx="610200" cy="4536360"/>
          </a:xfrm>
          <a:prstGeom prst="curvedConnector5">
            <a:avLst>
              <a:gd name="adj1" fmla="val -37485"/>
              <a:gd name="adj2" fmla="val 50000"/>
              <a:gd name="adj3" fmla="val -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7"/>
            <a:endCxn id="58" idx="7"/>
          </p:cNvCxnSpPr>
          <p:nvPr/>
        </p:nvCxnSpPr>
        <p:spPr>
          <a:xfrm flipH="1" flipV="1" rot="5400000">
            <a:off x="3775680" y="1938600"/>
            <a:ext cx="11880" cy="4667760"/>
          </a:xfrm>
          <a:prstGeom prst="curvedConnector5">
            <a:avLst>
              <a:gd name="adj1" fmla="val 15012500"/>
              <a:gd name="adj2" fmla="val 49996"/>
              <a:gd name="adj3" fmla="val 15012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6"/>
            <a:endCxn id="57" idx="7"/>
          </p:cNvCxnSpPr>
          <p:nvPr/>
        </p:nvCxnSpPr>
        <p:spPr>
          <a:xfrm flipV="1">
            <a:off x="2220480" y="4266360"/>
            <a:ext cx="3513960" cy="266040"/>
          </a:xfrm>
          <a:prstGeom prst="curvedConnector5">
            <a:avLst>
              <a:gd name="adj1" fmla="val 49928"/>
              <a:gd name="adj2" fmla="val 89159"/>
              <a:gd name="adj3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8" idx="0"/>
            <a:endCxn id="58" idx="1"/>
          </p:cNvCxnSpPr>
          <p:nvPr/>
        </p:nvCxnSpPr>
        <p:spPr>
          <a:xfrm flipH="1" rot="16200000">
            <a:off x="4339440" y="2494440"/>
            <a:ext cx="305280" cy="3240720"/>
          </a:xfrm>
          <a:prstGeom prst="curvedConnector5">
            <a:avLst>
              <a:gd name="adj1" fmla="val -74970"/>
              <a:gd name="adj2" fmla="val 49994"/>
              <a:gd name="adj3" fmla="val -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4" idx="7"/>
            <a:endCxn id="60" idx="1"/>
          </p:cNvCxnSpPr>
          <p:nvPr/>
        </p:nvCxnSpPr>
        <p:spPr>
          <a:xfrm flipH="1" flipV="1" rot="5400000">
            <a:off x="4726440" y="2511720"/>
            <a:ext cx="164520" cy="3674160"/>
          </a:xfrm>
          <a:prstGeom prst="curvedConnector5">
            <a:avLst>
              <a:gd name="adj1" fmla="val 856140"/>
              <a:gd name="adj2" fmla="val 49995"/>
              <a:gd name="adj3" fmla="val 856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66" name=""/>
          <p:cNvGraphicFramePr/>
          <p:nvPr/>
        </p:nvGraphicFramePr>
        <p:xfrm>
          <a:off x="1066680" y="5715000"/>
          <a:ext cx="7658280" cy="59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715000"/>
                    <a:ext cx="7658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0" y="0"/>
          <a:ext cx="8867880" cy="253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86788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685800" y="685800"/>
          <a:ext cx="5486400" cy="36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685800" y="1828800"/>
          <a:ext cx="5486400" cy="112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54864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295280" y="3962520"/>
          <a:ext cx="5486400" cy="1104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962520"/>
                    <a:ext cx="54864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-14400" y="457200"/>
          <a:ext cx="4494240" cy="64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00" y="457200"/>
                    <a:ext cx="4494240" cy="64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074600" y="83808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8280" y="4876920"/>
            <a:ext cx="12690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-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95680" y="533520"/>
          <a:ext cx="4497480" cy="636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533520"/>
                    <a:ext cx="4497480" cy="63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494320" y="7621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4320" y="2819520"/>
            <a:ext cx="7858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8000" y="487692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4,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8640" y="2743200"/>
            <a:ext cx="116676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hr-HR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</a:rPr>
              <a:t>=0,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44720" cy="65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0" y="990720"/>
          <a:ext cx="6183360" cy="446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6183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1447920"/>
            <a:ext cx="65530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gađaj koji ima samo dva moguća ishoda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 događa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a slučajna varijabla koja ga opisuje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a slučajna varijab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35040" y="3213000"/>
          <a:ext cx="831852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213000"/>
                    <a:ext cx="831852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Diskretna slučajna varijabla i raspodjela vjeroja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85800" y="1066680"/>
          <a:ext cx="736596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65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120" y="449568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62120" y="5410080"/>
          <a:ext cx="5486400" cy="279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100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5400" y="22860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spodjela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664240" y="4648320"/>
                <a:ext cx="14479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5840" y="262080"/>
          <a:ext cx="9110520" cy="63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262080"/>
                    <a:ext cx="911052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4800" y="15228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nkcija raspodjele (kumulativna funkcija distribucij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995400"/>
          <a:ext cx="8259840" cy="211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95400"/>
                    <a:ext cx="825984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7200" y="3657600"/>
          <a:ext cx="5486400" cy="380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54864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09480" y="4724280"/>
          <a:ext cx="8331480" cy="144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724280"/>
                    <a:ext cx="8331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285840"/>
          <a:ext cx="9144000" cy="62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5840"/>
                    <a:ext cx="9144000" cy="62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94720" y="371520"/>
            <a:ext cx="77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Očekivana vrijednost diskret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96880" y="2197080"/>
          <a:ext cx="839484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2197080"/>
                    <a:ext cx="839484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4-18T12:06:06Z</dcterms:modified>
  <cp:revision>45</cp:revision>
  <dc:subject/>
  <dc:title>No Slide Title</dc:title>
</cp:coreProperties>
</file>