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8E1-FF48-4470-9E17-63D2E6C9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F41D-054B-48FD-886D-2959D36E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76E-5B1A-4D23-84D4-B63CBD94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BBF-D4C9-41EF-A00E-5096BEBB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8DD-E490-4A09-8186-06945427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68CA-6726-4E02-B62D-C8CC7FBA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6C59-2324-4AC9-9559-9122C43F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C2D0-E287-4B3C-91F6-6BCB8DDA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AB52-B5AD-48CC-AE28-115A975E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8309-1DA1-46A7-B0DF-E4A0DBCA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B873-64C9-4631-9A0D-1430AF21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1748-DEB4-423D-A69F-017455E5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C039-7BD7-486D-A747-CB25D7BF0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228600"/>
          <a:ext cx="6019920" cy="235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8600"/>
                    <a:ext cx="601992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447920" y="2133720"/>
          <a:ext cx="6248160" cy="2385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133720"/>
                    <a:ext cx="624816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886200" y="4495680"/>
                <a:ext cx="14479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6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4572000" y="1523880"/>
            <a:ext cx="0" cy="457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657600"/>
            <a:ext cx="855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Pokazali smo da postoji bijekcija između skupa svih kombinacija s ponavljanjem 3. razreda od 4 elementa i kombinacija bez ponavljanja 3. razreda od 6 elemena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719080" y="5343480"/>
            <a:ext cx="3746880" cy="1191240"/>
            <a:chOff x="2719080" y="5343480"/>
            <a:chExt cx="3746880" cy="1191240"/>
          </a:xfrm>
        </p:grpSpPr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4156200" y="5571720"/>
                  <a:ext cx="2235240" cy="70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k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719080" y="5343480"/>
              <a:ext cx="3746880" cy="119124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Općenito: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676520" y="1143000"/>
          <a:ext cx="5349600" cy="147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143000"/>
                    <a:ext cx="534960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276720" y="3232080"/>
                <a:ext cx="16700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t xml:space="preserve">9,4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057400" y="4724280"/>
                <a:ext cx="51055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k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20800" y="141300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imj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Times New Roman"/>
              </a:rPr>
              <a:t>Uvjetna vjerojatn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1295280"/>
          <a:ext cx="7620120" cy="132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762012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57200" y="2895480"/>
          <a:ext cx="3809880" cy="2463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895480"/>
                    <a:ext cx="380988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648320" y="2871720"/>
          <a:ext cx="3925800" cy="2538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871720"/>
                    <a:ext cx="392580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200400" y="5632560"/>
                <a:ext cx="20574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70880" y="330120"/>
            <a:ext cx="35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tpun sistem događ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3520" y="1295280"/>
          <a:ext cx="817884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81788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286000" y="3505320"/>
          <a:ext cx="4154400" cy="2687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505320"/>
                    <a:ext cx="41544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0320" y="254160"/>
            <a:ext cx="40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Times New Roman"/>
              </a:rPr>
              <a:t>Zakon totalne vjeroja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3520" y="990720"/>
          <a:ext cx="7213320" cy="173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721332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286000" y="3276720"/>
          <a:ext cx="4419720" cy="2859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276720"/>
                    <a:ext cx="441972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966320" y="600120"/>
            <a:ext cx="24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yesov teor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2133720"/>
          <a:ext cx="5486400" cy="201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548640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96000" y="25416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zavis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3520" y="1066680"/>
          <a:ext cx="7480080" cy="151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748008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09480" y="2895480"/>
          <a:ext cx="4927680" cy="851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895480"/>
                    <a:ext cx="49276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762120" y="3657600"/>
          <a:ext cx="7441920" cy="1536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657600"/>
                    <a:ext cx="744192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745200" y="5627520"/>
            <a:ext cx="725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cc0000"/>
                </a:solidFill>
                <a:latin typeface="Times New Roman"/>
              </a:rPr>
              <a:t>OPREZ!</a:t>
            </a:r>
            <a:r>
              <a:rPr b="0" lang="en-AU" sz="2200" spc="-1" strike="noStrike">
                <a:solidFill>
                  <a:srgbClr val="000000"/>
                </a:solidFill>
                <a:latin typeface="Times New Roman"/>
              </a:rPr>
              <a:t> Događaji koji se međusobno isključuju nisu nezavis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5T21:29:55Z</dcterms:created>
  <dc:creator>miro</dc:creator>
  <dc:description/>
  <dc:language>en-US</dc:language>
  <cp:lastModifiedBy>Miroslav Požek</cp:lastModifiedBy>
  <cp:lastPrinted>2001-10-08T06:24:57Z</cp:lastPrinted>
  <dcterms:modified xsi:type="dcterms:W3CDTF">2008-03-27T23:16:23Z</dcterms:modified>
  <cp:revision>41</cp:revision>
  <dc:subject/>
  <dc:title>No Slide Title</dc:title>
</cp:coreProperties>
</file>