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8EA-64EA-4B72-9AAF-822D820A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62C-FC3C-44AD-A925-2E2268CF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78D-B775-40B9-B7C6-B778C833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B07-C1D4-408F-B090-7A32F660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B23-6AF4-46CF-A657-64BB825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A4F-C0D7-40D3-8B7A-BD05BD3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42B-9498-4DB3-87BE-2A270C13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CC9-33D0-4B51-A6DF-86330603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34D-288B-41A2-9E1F-E8126C4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A16-A81A-45D0-A3E6-35B4459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A66-AA99-4362-8CED-A2A290B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CD7-7A86-4498-BFB6-CB27A21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B87-D630-4CED-A939-E6AC883D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480" y="13716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inolo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1447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ok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4840" y="1905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Is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4560" y="289548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rostor elementarnih događaja </a:t>
            </a:r>
            <a:r>
              <a:rPr b="0" lang="en-AU" sz="2400" spc="-1" strike="noStrike" u="sng">
                <a:solidFill>
                  <a:srgbClr val="a50021"/>
                </a:solidFill>
                <a:uFillTx/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7880" y="3429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Događ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8520" y="3962520"/>
            <a:ext cx="270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Elementa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n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7440" y="4495680"/>
            <a:ext cx="20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loženi događa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7080" y="5033880"/>
            <a:ext cx="216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igu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an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8160" y="5567400"/>
            <a:ext cx="233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Nemoguć događa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21280" y="2392200"/>
            <a:ext cx="19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Times New Roman"/>
              </a:rPr>
              <a:t>Slučajni pok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5335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a50021"/>
                </a:solidFill>
                <a:latin typeface="Times New Roman"/>
              </a:rPr>
              <a:t>TEORIJA </a:t>
            </a:r>
            <a:r>
              <a:rPr b="1" lang="hr-HR" sz="3600" spc="-1" strike="noStrike">
                <a:solidFill>
                  <a:srgbClr val="a50021"/>
                </a:solidFill>
                <a:latin typeface="Times New Roman"/>
              </a:rPr>
              <a:t>V</a:t>
            </a:r>
            <a:r>
              <a:rPr b="1" lang="en-AU" sz="3600" spc="-1" strike="noStrike">
                <a:solidFill>
                  <a:srgbClr val="a50021"/>
                </a:solidFill>
                <a:latin typeface="Times New Roman"/>
              </a:rPr>
              <a:t>JEROJAT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6800" y="1522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šli 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2120" y="533520"/>
          <a:ext cx="5486400" cy="78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85800" y="1752480"/>
          <a:ext cx="8172360" cy="1771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817236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5800" y="4648320"/>
          <a:ext cx="8096400" cy="57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48320"/>
                    <a:ext cx="8096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295280" y="16002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3048120"/>
                <a:ext cx="3429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47920" y="6094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04920" y="1676520"/>
          <a:ext cx="790560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7905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4920" y="1600200"/>
          <a:ext cx="8305560" cy="261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00200"/>
                    <a:ext cx="830556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219320" y="1600200"/>
          <a:ext cx="5486400" cy="36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6002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362320" y="3809880"/>
                <a:ext cx="37209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62120" y="533520"/>
          <a:ext cx="5486400" cy="53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28600" y="1752480"/>
          <a:ext cx="815328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1532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3520" y="457200"/>
          <a:ext cx="5486400" cy="60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5486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880" y="1371600"/>
          <a:ext cx="830592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71600"/>
                    <a:ext cx="8305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609480"/>
          <a:ext cx="5486400" cy="5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5486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04920" y="1295280"/>
          <a:ext cx="8134200" cy="32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295280"/>
                    <a:ext cx="8134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609480"/>
          <a:ext cx="714348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1434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990720" y="3200400"/>
          <a:ext cx="7334280" cy="280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00400"/>
                    <a:ext cx="73342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124080" y="5105520"/>
                <a:ext cx="26672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47360" y="2952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finic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1031760"/>
            <a:ext cx="25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ja </a:t>
            </a: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a priori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915400" cy="185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91540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90000" y="3809880"/>
            <a:ext cx="23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jkav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amo konačni skup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ružna defini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3808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a50021"/>
                </a:solidFill>
                <a:uFillTx/>
                <a:latin typeface="Times New Roman"/>
              </a:rPr>
              <a:t>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023840"/>
          <a:ext cx="883944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23840"/>
                    <a:ext cx="88394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84760" y="278460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Statistička stabilnost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relativnih 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3092400"/>
          <a:ext cx="5791320" cy="35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92400"/>
                    <a:ext cx="57913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47360" y="2952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finic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2320" y="1031760"/>
            <a:ext cx="30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ja </a:t>
            </a: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a posteriori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88560" y="3809880"/>
            <a:ext cx="30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jkav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kako provjeriti stabil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jerojatnost jednog događaj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1600200"/>
            <a:ext cx="8702640" cy="1465560"/>
            <a:chOff x="228600" y="1600200"/>
            <a:chExt cx="8702640" cy="1465560"/>
          </a:xfrm>
        </p:grpSpPr>
        <p:sp>
          <p:nvSpPr>
            <p:cNvPr id="68" name=""/>
            <p:cNvSpPr/>
            <p:nvPr/>
          </p:nvSpPr>
          <p:spPr>
            <a:xfrm>
              <a:off x="228600" y="1600200"/>
              <a:ext cx="8702640" cy="146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slučajni pokus zadovoljava uvjet statističke stabilnosti relativnih frekvencija, onda se </a:t>
              </a:r>
              <a:r>
                <a:rPr b="1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jerojatnost a posteriori</a:t>
              </a: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izvoljnog događaja </a:t>
              </a:r>
              <a:r>
                <a:rPr b="0" i="1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ra kao realan broj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ko kojeg se grupiraju relativne frekvencije tog događaj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3276720" y="2286000"/>
                  <a:ext cx="13618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,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9320" y="0"/>
            <a:ext cx="69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a50021"/>
                </a:solidFill>
                <a:latin typeface="Times New Roman"/>
              </a:rPr>
              <a:t>Aksiomatsko zasnivanje teor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640" y="457200"/>
            <a:ext cx="22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. N. Kolmogorov, 193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7080" y="990720"/>
            <a:ext cx="758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najemo li prostor elementarnih događaj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za neki poku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rha teorije vjerojatnosti je da svakom događaj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pridruž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broj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) koji će biti precizna mjera šanse da s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ostvar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ako takvo pridruživanje mora zadovoljavati sljedeće aksio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3520" y="243828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Za svaki događaj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rijed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280" y="2895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12480" y="3352680"/>
            <a:ext cx="8893080" cy="1752480"/>
            <a:chOff x="312480" y="3352680"/>
            <a:chExt cx="8893080" cy="1752480"/>
          </a:xfrm>
        </p:grpSpPr>
        <p:sp>
          <p:nvSpPr>
            <p:cNvPr id="76" name=""/>
            <p:cNvSpPr/>
            <p:nvPr/>
          </p:nvSpPr>
          <p:spPr>
            <a:xfrm>
              <a:off x="312480" y="3352680"/>
              <a:ext cx="8893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3.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ko se 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međusobno isključu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tj. ako su u parovima disjunktni)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2447640" y="4073400"/>
                  <a:ext cx="4051440" cy="103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770760" y="4952880"/>
            <a:ext cx="7119720" cy="1768680"/>
            <a:chOff x="770760" y="4952880"/>
            <a:chExt cx="7119720" cy="1768680"/>
          </a:xfrm>
        </p:grpSpPr>
        <p:sp>
          <p:nvSpPr>
            <p:cNvPr id="79" name=""/>
            <p:cNvSpPr/>
            <p:nvPr/>
          </p:nvSpPr>
          <p:spPr>
            <a:xfrm>
              <a:off x="770760" y="4952880"/>
              <a:ext cx="7119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) Ako se prebrojivo bes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međusobno isključuje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438280" y="5562720"/>
                  <a:ext cx="3797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295200"/>
            <a:ext cx="36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Times New Roman"/>
              </a:rPr>
              <a:t>Svojstva vjerojatnos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066680"/>
          <a:ext cx="9144000" cy="4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2133720"/>
          <a:ext cx="9144000" cy="38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3048120"/>
          <a:ext cx="9144000" cy="628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8120"/>
                    <a:ext cx="9144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160" y="4343400"/>
          <a:ext cx="9486720" cy="1924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60" y="4343400"/>
                    <a:ext cx="94867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0320" y="219240"/>
            <a:ext cx="55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Sustavno određivan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66760" y="1523880"/>
          <a:ext cx="834372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23880"/>
                    <a:ext cx="8343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93640" y="3459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Jednako vjerojatni ish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990720"/>
          <a:ext cx="5486400" cy="135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486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9480" y="2895480"/>
          <a:ext cx="5486400" cy="12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5486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72000" y="55008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brojavan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74480" y="29520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KOMBINATOR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3716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57200" y="2057400"/>
          <a:ext cx="8325000" cy="215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83250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33520" y="4038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ćen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4572000"/>
          <a:ext cx="8343720" cy="249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572000"/>
                    <a:ext cx="83437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618880" y="34596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ravila prebrojav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8-03-27T23:13:09Z</dcterms:modified>
  <cp:revision>41</cp:revision>
  <dc:subject/>
  <dc:title>No Slide Title</dc:title>
</cp:coreProperties>
</file>