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E7E-5A35-433A-9C91-2920732C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2F4-B30A-45EA-B3A6-A12F547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6C6-C930-4E75-B63C-9E869AD3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5F3-00C8-4B74-BBC2-B0BEA7DD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F8B-6498-4AFD-9F93-97DEEE0E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2A8-4D67-4EEA-A4E0-57DF9F7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E00-3DC8-4192-8DD3-96E15428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968-761C-41CF-8B12-D4763CB2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A5E-2879-4FDC-AE0C-F6DF52E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DF9-C7AE-4466-A97E-8B39F881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B57-23C9-433F-873E-4DD69742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5ED9-D682-4EE4-8602-AC23A8C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409A-5418-4D93-A2AD-DDFDAAAC6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meteo.hr/" TargetMode="External"/><Relationship Id="rId2" Type="http://schemas.openxmlformats.org/officeDocument/2006/relationships/hyperlink" Target="http://meteo.hr/" TargetMode="External"/><Relationship Id="rId3" Type="http://schemas.openxmlformats.org/officeDocument/2006/relationships/hyperlink" Target="http://meteo.hr/" TargetMode="External"/><Relationship Id="rId4" Type="http://schemas.openxmlformats.org/officeDocument/2006/relationships/hyperlink" Target="http://meteo.hr/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120" y="762120"/>
            <a:ext cx="679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OPISNA STATISTIK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4640" y="4114800"/>
            <a:ext cx="592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GRAFIČKE METO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304920"/>
          <a:ext cx="7086600" cy="227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708660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066680" y="3124080"/>
          <a:ext cx="4496040" cy="362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449604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74040" y="3699000"/>
            <a:ext cx="224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bli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imodal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zitivno nagn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990720"/>
          <a:ext cx="5715000" cy="30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5715000" cy="30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14600" y="3352680"/>
          <a:ext cx="5791320" cy="309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352680"/>
                    <a:ext cx="5791320" cy="30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805760" y="34596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užni (tortni) dijagram (pie cha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96920" y="2362320"/>
            <a:ext cx="326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J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POLOŽA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905120" y="0"/>
          <a:ext cx="524808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2480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9480" y="1143000"/>
          <a:ext cx="982800" cy="4668840"/>
        </p:xfrm>
        <a:graphic>
          <a:graphicData uri="http://schemas.openxmlformats.org/drawingml/2006/table">
            <a:tbl>
              <a:tblPr/>
              <a:tblGrid>
                <a:gridCol w="414360"/>
                <a:gridCol w="56844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hr-H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hr-H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33520" y="533520"/>
          <a:ext cx="8610480" cy="110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61048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880" y="1828800"/>
          <a:ext cx="7848720" cy="1946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828800"/>
                    <a:ext cx="7848720" cy="19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80880" y="3657600"/>
          <a:ext cx="8763120" cy="331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657600"/>
                    <a:ext cx="876312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4267080"/>
          <a:ext cx="9144000" cy="1752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267080"/>
                    <a:ext cx="9144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1320" y="6134040"/>
            <a:ext cx="19591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šišani prosjek; 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5280" y="355680"/>
            <a:ext cx="60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MJERE RASPRŠEN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2743200"/>
          <a:ext cx="914400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91440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304920"/>
          <a:ext cx="9144000" cy="34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91440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971800"/>
          <a:ext cx="9220320" cy="434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71800"/>
                    <a:ext cx="92203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-4038480" y="3809880"/>
          <a:ext cx="14982840" cy="1374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038480" y="3809880"/>
                    <a:ext cx="1498284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95680" y="77328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Ovisi samo o ekstrem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-1600200" y="4846680"/>
          <a:ext cx="11006280" cy="1020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-1600200" y="4846680"/>
                    <a:ext cx="110062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215360" y="182880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vartili;  percentili;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533520"/>
          <a:ext cx="8464680" cy="20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4646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680" y="3657600"/>
          <a:ext cx="13025520" cy="205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0" y="3657600"/>
                    <a:ext cx="13025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45800" y="247680"/>
            <a:ext cx="367092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sjetiti 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teo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hr-HR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a50021"/>
                </a:solidFill>
                <a:latin typeface="Times New Roman"/>
              </a:rPr>
              <a:t>TEORIJA </a:t>
            </a:r>
            <a:br>
              <a:rPr sz="4400"/>
            </a:br>
            <a:r>
              <a:rPr b="1" lang="en-AU" sz="4400" spc="-1" strike="noStrike">
                <a:solidFill>
                  <a:srgbClr val="a50021"/>
                </a:solidFill>
                <a:latin typeface="Times New Roman"/>
              </a:rPr>
              <a:t>VJEROJA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120" y="1143000"/>
            <a:ext cx="33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stvareni bodovi na natjec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(matematika, 2007., Grad Zagreb, 8. raz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1981080"/>
          <a:ext cx="3048120" cy="395316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419720" y="3429000"/>
          <a:ext cx="3657600" cy="2733480"/>
        </p:xfrm>
        <a:graphic>
          <a:graphicData uri="http://schemas.openxmlformats.org/drawingml/2006/table">
            <a:tbl>
              <a:tblPr/>
              <a:tblGrid>
                <a:gridCol w="585000"/>
                <a:gridCol w="3072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445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23344445667778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1133466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3732840" y="15228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-L dij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1447920"/>
            <a:ext cx="4267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daberemo jednu ili više početnih znamenki za 'stabljiku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u stupac popišemo sve moguće stablj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desno od svake stabljike popišemo sve pripadajuće 'listov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9960" y="4302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inolog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3760" y="1143000"/>
            <a:ext cx="78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oku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bilo koji postupak ili proces koji rezultira opažanjem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1752480"/>
            <a:ext cx="649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Ishod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zultat poku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AU" sz="2200" spc="-1" strike="noStrike">
                <a:solidFill>
                  <a:srgbClr val="660066"/>
                </a:solidFill>
                <a:latin typeface="Times New Roman"/>
              </a:rPr>
              <a:t>Ishodi su nerazloživi i međusobno se isključuju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5000" y="297180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Prostor elementarnih događaja </a:t>
            </a:r>
            <a:r>
              <a:rPr b="0" lang="en-AU" sz="2400" spc="-1" strike="noStrike" u="sng">
                <a:solidFill>
                  <a:srgbClr val="a50021"/>
                </a:solidFill>
                <a:uFillTx/>
                <a:latin typeface="Symbol"/>
                <a:ea typeface="Symbol"/>
              </a:rPr>
              <a:t></a:t>
            </a:r>
            <a:r>
              <a:rPr b="1" lang="en-A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skup svih ishoda nekog pok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280" y="3657600"/>
            <a:ext cx="41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Događaj</a:t>
            </a:r>
            <a:r>
              <a:rPr b="1" lang="en-AU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= svaki podskup o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4343400"/>
            <a:ext cx="518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Elementa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n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jednočla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podsk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7720" y="4876920"/>
            <a:ext cx="43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loženi događaj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višečlani podsk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5410080"/>
            <a:ext cx="261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Sigur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n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r>
              <a:rPr b="1" lang="en-A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AU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" y="5943600"/>
            <a:ext cx="45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Nemoguć</a:t>
            </a:r>
            <a:r>
              <a:rPr b="1" lang="hr-HR" sz="2200" spc="-1" strike="noStrike">
                <a:solidFill>
                  <a:srgbClr val="a50021"/>
                </a:solidFill>
                <a:latin typeface="Times New Roman"/>
              </a:rPr>
              <a:t>i</a:t>
            </a:r>
            <a:r>
              <a:rPr b="1" lang="en-AU" sz="2200" spc="-1" strike="noStrike">
                <a:solidFill>
                  <a:srgbClr val="a50021"/>
                </a:solidFill>
                <a:latin typeface="Times New Roman"/>
              </a:rPr>
              <a:t> događaj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AU" sz="2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(prazan sku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7560" y="2514600"/>
            <a:ext cx="19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Times New Roman"/>
              </a:rPr>
              <a:t>Slučajni pok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1040" y="22240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VENNOVI   DIJA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8600" y="1371600"/>
          <a:ext cx="8915400" cy="3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91540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80880" y="2209680"/>
          <a:ext cx="9372600" cy="298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93726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28600" y="3429000"/>
          <a:ext cx="8763120" cy="60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429000"/>
                    <a:ext cx="8763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7200" y="4495680"/>
          <a:ext cx="9753480" cy="309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495680"/>
                    <a:ext cx="97534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976840" y="30492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51800" y="27000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odovi na testu provjere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5840" y="1600200"/>
            <a:ext cx="68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482800" y="37339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spodjela frekven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95480" y="1447920"/>
          <a:ext cx="1981440" cy="5254560"/>
        </p:xfrm>
        <a:graphic>
          <a:graphicData uri="http://schemas.openxmlformats.org/drawingml/2006/table">
            <a:tbl>
              <a:tblPr/>
              <a:tblGrid>
                <a:gridCol w="730440"/>
                <a:gridCol w="1251000"/>
              </a:tblGrid>
              <a:tr h="405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04920" y="152280"/>
            <a:ext cx="8610480" cy="875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.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Frekven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neke određene vrijednos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jest broj pojavljivanja te vrijednosti u promatranom skupu podata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362320"/>
            <a:ext cx="13716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1  16  9  10  15  17  10 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0  16  11  14  11  17  11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7  12  10  16  15  12  13 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4  17  14  4  15  14  7 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5  17  15  10  15  18  15 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5  9  13  16  11  18  11 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19080" y="5638680"/>
            <a:ext cx="10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920" y="2057400"/>
          <a:ext cx="1981080" cy="4619520"/>
        </p:xfrm>
        <a:graphic>
          <a:graphicData uri="http://schemas.openxmlformats.org/drawingml/2006/table">
            <a:tbl>
              <a:tblPr/>
              <a:tblGrid>
                <a:gridCol w="730080"/>
                <a:gridCol w="1251000"/>
              </a:tblGrid>
              <a:tr h="4057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267080" y="1905120"/>
          <a:ext cx="3124080" cy="4771800"/>
        </p:xfrm>
        <a:graphic>
          <a:graphicData uri="http://schemas.openxmlformats.org/drawingml/2006/table">
            <a:tbl>
              <a:tblPr/>
              <a:tblGrid>
                <a:gridCol w="1041120"/>
                <a:gridCol w="1041480"/>
                <a:gridCol w="1041480"/>
              </a:tblGrid>
              <a:tr h="375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i="1" lang="hr-HR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i </a:t>
                      </a: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24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52280"/>
            <a:ext cx="8740800" cy="1432080"/>
            <a:chOff x="152280" y="152280"/>
            <a:chExt cx="8740800" cy="1432080"/>
          </a:xfrm>
        </p:grpSpPr>
        <p:sp>
          <p:nvSpPr>
            <p:cNvPr id="69" name=""/>
            <p:cNvSpPr/>
            <p:nvPr/>
          </p:nvSpPr>
          <p:spPr>
            <a:xfrm>
              <a:off x="152280" y="152280"/>
              <a:ext cx="8740800" cy="14320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Def.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Relativna frekvenci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r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eke određene vrijednost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jest frekvencija podijeljena s ukupnim brojem podatak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467480" y="685440"/>
                  <a:ext cx="1143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80880"/>
            <a:ext cx="7315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rtanje histogra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za diskretnu raspodjelu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redi frekvencije ili relativne frekven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 apscisi označi moguće vrijednosti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crtaj pravokutnik visin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li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ri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2438280"/>
          <a:ext cx="784836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784836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09680"/>
          <a:ext cx="8839080" cy="274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839080" cy="27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47000" y="674640"/>
            <a:ext cx="200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rošnja gor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62120" y="609480"/>
          <a:ext cx="8076960" cy="154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80769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2120" y="3048120"/>
          <a:ext cx="3504960" cy="2808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3504960" cy="28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800600" y="2971800"/>
          <a:ext cx="3733920" cy="297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971800"/>
                    <a:ext cx="3733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8-03-19T01:37:01Z</dcterms:modified>
  <cp:revision>44</cp:revision>
  <dc:subject/>
  <dc:title>No Slide Title</dc:title>
</cp:coreProperties>
</file>