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F6B-0C8B-46B7-83F1-6A97E1D7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CBD-CA99-446C-8782-5EA9BDA9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8F9-AA2F-47D5-A2B7-FEE89CFA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FAE-0C03-4D2B-B0FF-3348D402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03D-7730-4439-9459-BEFF3FAA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0CE-7B4B-405F-84AD-C4D05EAA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08D-F080-4C56-8B7C-C08DFFB5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424-6729-402C-BE1C-65B56B1F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581-A2A3-45D0-96D5-DEC78A53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7B4-E1A1-4300-A2A4-E29742D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324-91F6-45D6-A176-72AE8370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243-3F98-49B5-974C-86A1C24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EAAC-2352-408A-82C8-3D0E7A502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Linearna regres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320" y="1793880"/>
            <a:ext cx="8686800" cy="3840120"/>
            <a:chOff x="76320" y="1793880"/>
            <a:chExt cx="8686800" cy="3840120"/>
          </a:xfrm>
        </p:grpSpPr>
        <p:sp>
          <p:nvSpPr>
            <p:cNvPr id="43" name=""/>
            <p:cNvSpPr/>
            <p:nvPr/>
          </p:nvSpPr>
          <p:spPr>
            <a:xfrm>
              <a:off x="971640" y="1793880"/>
              <a:ext cx="21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ovi varijabl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" name=""/>
            <p:cNvGraphicFramePr/>
            <p:nvPr/>
          </p:nvGraphicFramePr>
          <p:xfrm>
            <a:off x="76320" y="2666880"/>
            <a:ext cx="8686800" cy="2967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2666880"/>
                      <a:ext cx="8686800" cy="29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5840" y="270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garitamski graf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7080" y="80316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38920" y="79704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znamo ili želimo provjer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6480" y="1512720"/>
            <a:ext cx="690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Primjer iz naprednog praktikuma: Modul elastičnosti čelik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1600" y="1905120"/>
            <a:ext cx="2354040" cy="1255680"/>
            <a:chOff x="381600" y="1905120"/>
            <a:chExt cx="2354040" cy="1255680"/>
          </a:xfrm>
        </p:grpSpPr>
        <p:sp>
          <p:nvSpPr>
            <p:cNvPr id="100" name=""/>
            <p:cNvSpPr/>
            <p:nvPr/>
          </p:nvSpPr>
          <p:spPr>
            <a:xfrm>
              <a:off x="381600" y="1905120"/>
              <a:ext cx="235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6666"/>
                  </a:solidFill>
                  <a:latin typeface="Times New Roman"/>
                </a:rPr>
                <a:t>Savijenost šipke j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38080" y="2362320"/>
                  <a:ext cx="155412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E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6019920" cy="451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0" y="3352680"/>
          <a:ext cx="34894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52680"/>
                    <a:ext cx="3489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514600" y="4876920"/>
            <a:ext cx="12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 li ovo kubna ovisn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5840" y="270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garitamski graf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7080" y="80316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38920" y="79704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znamo ili želimo provjer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7560" y="1512720"/>
            <a:ext cx="685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Primjer iz praktikuma (vježba 8): Modul elastičnosti čelik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1600" y="1905120"/>
            <a:ext cx="2354040" cy="1255680"/>
            <a:chOff x="381600" y="1905120"/>
            <a:chExt cx="2354040" cy="1255680"/>
          </a:xfrm>
        </p:grpSpPr>
        <p:sp>
          <p:nvSpPr>
            <p:cNvPr id="111" name=""/>
            <p:cNvSpPr/>
            <p:nvPr/>
          </p:nvSpPr>
          <p:spPr>
            <a:xfrm>
              <a:off x="381600" y="1905120"/>
              <a:ext cx="235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6666"/>
                  </a:solidFill>
                  <a:latin typeface="Times New Roman"/>
                </a:rPr>
                <a:t>Savijenost šipke j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838080" y="2362320"/>
                  <a:ext cx="155412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E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800600" y="2133720"/>
                <a:ext cx="29336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E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4724280" y="3048120"/>
            <a:ext cx="2473560" cy="345960"/>
            <a:chOff x="4724280" y="3048120"/>
            <a:chExt cx="2473560" cy="3459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4724280" y="3048120"/>
                  <a:ext cx="100008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6172200" y="3048120"/>
                  <a:ext cx="102564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7" name=""/>
          <p:cNvGraphicFramePr/>
          <p:nvPr/>
        </p:nvGraphicFramePr>
        <p:xfrm>
          <a:off x="0" y="3352680"/>
          <a:ext cx="34894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2680"/>
                    <a:ext cx="3489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343400" y="3429000"/>
          <a:ext cx="3352680" cy="33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33526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514600" y="4876920"/>
            <a:ext cx="12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 li ovo kubna ovisn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934320" y="4952880"/>
                <a:ext cx="13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,9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13360" y="4222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mjer mjere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1430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(dl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3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54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68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87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6400" y="2514600"/>
            <a:ext cx="46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abir nezavisne i zavisne varij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3120" y="41562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rtanje graf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38080" y="703440"/>
          <a:ext cx="7129440" cy="56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03440"/>
                    <a:ext cx="7129440" cy="56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28600" y="4162320"/>
          <a:ext cx="8458200" cy="19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62320"/>
                    <a:ext cx="84582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152280" y="685800"/>
          <a:ext cx="8382240" cy="2706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85800"/>
                    <a:ext cx="83822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8077320" cy="44139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1066680"/>
                <a:ext cx="301608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0" y="1066680"/>
                <a:ext cx="3497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570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0880" y="3505320"/>
                <a:ext cx="4616640" cy="18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638680" y="3733920"/>
                <a:ext cx="21481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77640" y="30492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ačni rezult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14400" y="1285920"/>
          <a:ext cx="714708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85920"/>
                    <a:ext cx="714708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92040" y="380880"/>
                <a:ext cx="15321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/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666880" y="380880"/>
                <a:ext cx="11192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495680" y="304920"/>
                <a:ext cx="19432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3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/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086600" y="304920"/>
                <a:ext cx="15987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38</m:t>
                    </m:r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276240" y="4038480"/>
            <a:ext cx="2277720" cy="8254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SAN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ZULTAT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2240" y="3207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elinearne regres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1680" y="95580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visna varijabla nelinearno ovisi o nezavisn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2120" y="1512720"/>
            <a:ext cx="50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imes New Roman"/>
              </a:rPr>
              <a:t>Npr.</a:t>
            </a: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: tjerani prigušeni harmonički osc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71600" y="1981080"/>
                <a:ext cx="28544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731840" y="2133720"/>
            <a:ext cx="24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r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64320" y="3048120"/>
            <a:ext cx="7417440" cy="1308600"/>
            <a:chOff x="364320" y="3048120"/>
            <a:chExt cx="7417440" cy="1308600"/>
          </a:xfrm>
        </p:grpSpPr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2819520" y="3048120"/>
                  <a:ext cx="4962240" cy="12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sSup>
                                            <m:e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sSubSup>
                                                    <m:e>
                                                      <m:r>
                                                        <m:t xml:space="preserve">ω</m:t>
                                                      </m:r>
                                                    </m:e>
                                                    <m:sub>
                                                      <m:r>
                                                        <m:t xml:space="preserve">0</m:t>
                                                      </m:r>
                                                    </m:sub>
                                                    <m:sup>
                                                      <m:r>
                                                        <m:t xml:space="preserve">2</m:t>
                                                      </m:r>
                                                    </m:sup>
                                                  </m:sSubSup>
                                                  <m:r>
                                                    <m:t xml:space="preserve">−</m:t>
                                                  </m:r>
                                                  <m:sSubSup>
                                                    <m:e>
                                                      <m:r>
                                                        <m:t xml:space="preserve">ω</m:t>
                                                      </m:r>
                                                    </m:e>
                                                    <m:sub>
                                                      <m:r>
                                                        <m:t xml:space="preserve">i</m:t>
                                                      </m:r>
                                                    </m:sub>
                                                    <m:sup>
                                                      <m:r>
                                                        <m:t xml:space="preserve">2</m:t>
                                                      </m:r>
                                                    </m:sup>
                                                  </m:sSubSup>
                                                </m:e>
                                              </m:d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+</m:t>
                                          </m:r>
                                          <m:sSup>
                                            <m:e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f>
                                                    <m:fPr>
                                                      <m:type m:val="lin"/>
                                                    </m:fPr>
                                                    <m:num>
                                                      <m:r>
                                                        <m:t xml:space="preserve">ω</m:t>
                                                      </m:r>
                                                    </m:num>
                                                    <m:den>
                                                      <m:r>
                                                        <m:t xml:space="preserve">τ</m:t>
                                                      </m:r>
                                                    </m:den>
                                                  </m:f>
                                                </m:e>
                                              </m:d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e>
                                      </m:rad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364320" y="316548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ma kvadra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dstupan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aln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15880" y="4765680"/>
            <a:ext cx="7097760" cy="1266840"/>
            <a:chOff x="515880" y="4765680"/>
            <a:chExt cx="7097760" cy="1266840"/>
          </a:xfrm>
        </p:grpSpPr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1143000" y="5257800"/>
                  <a:ext cx="647064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τ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15880" y="4765680"/>
              <a:ext cx="19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 jednadžb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846520" y="6172200"/>
            <a:ext cx="18921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čunalo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95800" y="446040"/>
            <a:ext cx="38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imes New Roman"/>
              </a:rPr>
              <a:t>Primjer s </a:t>
            </a: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naprednog </a:t>
            </a:r>
            <a:r>
              <a:rPr b="0" lang="en-US" sz="2200" spc="-1" strike="noStrike">
                <a:solidFill>
                  <a:srgbClr val="006666"/>
                </a:solidFill>
                <a:latin typeface="Times New Roman"/>
              </a:rPr>
              <a:t>praktikum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486400" y="2133720"/>
                <a:ext cx="2854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4" name=""/>
          <p:cNvGraphicFramePr/>
          <p:nvPr/>
        </p:nvGraphicFramePr>
        <p:xfrm>
          <a:off x="1025640" y="1503360"/>
          <a:ext cx="3932280" cy="28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503360"/>
                    <a:ext cx="393228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1800" y="270000"/>
            <a:ext cx="55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gresija s transformiranim varijab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360" y="72720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linearnu ovisnost prikazati u linearnom oblik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gu se primijeniti jednadžbe za linearnu regresi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akav grafički prikaz zorno potvrđuje (ili odbacuje) ispravnost primijenjene teor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2274840"/>
            <a:ext cx="42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66"/>
                </a:solidFill>
                <a:latin typeface="Times New Roman"/>
              </a:rPr>
              <a:t>Primjer iz praktikum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66"/>
                </a:solidFill>
                <a:latin typeface="Times New Roman"/>
              </a:rPr>
              <a:t>Dubina poniranja Maxwellova dis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800600" y="2362320"/>
                <a:ext cx="166212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0" name=""/>
          <p:cNvGraphicFramePr/>
          <p:nvPr/>
        </p:nvGraphicFramePr>
        <p:xfrm>
          <a:off x="287280" y="3494160"/>
          <a:ext cx="36752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494160"/>
                    <a:ext cx="36752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954600" y="385128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=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896000" y="3505320"/>
          <a:ext cx="3638520" cy="30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3505320"/>
                    <a:ext cx="363852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8-03-10T10:38:08Z</dcterms:modified>
  <cp:revision>73</cp:revision>
  <dc:subject/>
  <dc:title>No Slide Title</dc:title>
</cp:coreProperties>
</file>