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AE9-F411-49AA-8D34-9C650BB6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A5F-9F36-4747-8444-CC91A4ED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6B9-53A5-46C3-BD68-5B06F5FC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F1B-3D22-46F6-94EC-8464851F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8A7-2C06-4C04-9059-2AF2BADE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111-97F2-4784-AF6E-466A5014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853-766F-4276-8CCE-D4D64251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86A-D0CD-45CB-8F88-55A9A6C2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019-EDE2-4D7F-A98B-8D9778F1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7DF-4790-438A-8625-A7EA9A71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674-1258-4C30-8CFD-370CE86F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CF2-B62B-49C5-9CDA-A0ED767F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AB90-6502-4FB3-9758-0095A000A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1440" y="4140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aussova aproksimacija binom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124080" y="609480"/>
                <a:ext cx="53341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Bin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3" name=""/>
          <p:cNvGraphicFramePr/>
          <p:nvPr/>
        </p:nvGraphicFramePr>
        <p:xfrm>
          <a:off x="914400" y="1371600"/>
          <a:ext cx="675648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675648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1280" y="380880"/>
            <a:ext cx="31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 u="sng">
                <a:solidFill>
                  <a:srgbClr val="ff3300"/>
                </a:solidFill>
                <a:uFillTx/>
                <a:latin typeface="Times New Roman"/>
              </a:rPr>
              <a:t>Gama funkci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590920" y="1143000"/>
          <a:ext cx="4487760" cy="111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143000"/>
                    <a:ext cx="44877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295280" y="2362320"/>
          <a:ext cx="6096240" cy="45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362320"/>
                    <a:ext cx="60962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295280" y="2362320"/>
          <a:ext cx="609624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0962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51920" y="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Times New Roman"/>
              </a:rPr>
              <a:t>Svojstv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905120" y="152280"/>
                <a:ext cx="5257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86040" y="685800"/>
                <a:ext cx="4362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906560" y="1219320"/>
                <a:ext cx="2284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π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6360" y="803160"/>
            <a:ext cx="36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Izvod Stirlingove form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066680" y="1295280"/>
                <a:ext cx="2289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429000" y="1523880"/>
                <a:ext cx="15447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rad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Symbol"/>
                <a:ea typeface="Symbol"/>
              </a:rPr>
              <a:t>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raspodj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-1143000" y="838080"/>
            <a:ext cx="68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ff3300"/>
                </a:solidFill>
                <a:uFillTx/>
                <a:latin typeface="Times New Roman"/>
              </a:rPr>
              <a:t>Standardna </a:t>
            </a:r>
            <a:r>
              <a:rPr b="1" lang="hr-HR" sz="2800" spc="-1" strike="noStrike" u="sng">
                <a:solidFill>
                  <a:srgbClr val="ff3300"/>
                </a:solidFill>
                <a:uFillTx/>
                <a:latin typeface="Symbol"/>
                <a:ea typeface="Symbol"/>
              </a:rPr>
              <a:t></a:t>
            </a:r>
            <a:r>
              <a:rPr b="1" lang="hr-HR" sz="2800" spc="-1" strike="noStrike" u="sng">
                <a:solidFill>
                  <a:srgbClr val="ff3300"/>
                </a:solidFill>
                <a:uFillTx/>
                <a:latin typeface="Times New Roman"/>
              </a:rPr>
              <a:t> raspodj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57200" y="1447920"/>
            <a:ext cx="8093160" cy="3202920"/>
            <a:chOff x="457200" y="1447920"/>
            <a:chExt cx="8093160" cy="3202920"/>
          </a:xfrm>
        </p:grpSpPr>
        <p:sp>
          <p:nvSpPr>
            <p:cNvPr id="188" name=""/>
            <p:cNvSpPr/>
            <p:nvPr/>
          </p:nvSpPr>
          <p:spPr>
            <a:xfrm>
              <a:off x="457200" y="1447920"/>
              <a:ext cx="8093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ntinuirana slučajna varijabl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ma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andardnu gama raspodje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ko je n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zina funkcija gustoće vjerojatnosti dana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2362320" y="2210040"/>
                  <a:ext cx="3498840" cy="20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α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x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Γ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α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  <m:e/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"/>
            <p:cNvSpPr/>
            <p:nvPr/>
          </p:nvSpPr>
          <p:spPr>
            <a:xfrm>
              <a:off x="603000" y="4191120"/>
              <a:ext cx="485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gdje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parametar raspodjele (</a:t>
              </a:r>
              <a:r>
                <a:rPr b="0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&gt;0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09480" y="4943520"/>
            <a:ext cx="6705720" cy="1533600"/>
            <a:chOff x="609480" y="4943520"/>
            <a:chExt cx="6705720" cy="1533600"/>
          </a:xfrm>
        </p:grpSpPr>
        <p:sp>
          <p:nvSpPr>
            <p:cNvPr id="192" name=""/>
            <p:cNvSpPr/>
            <p:nvPr/>
          </p:nvSpPr>
          <p:spPr>
            <a:xfrm>
              <a:off x="609480" y="4943520"/>
              <a:ext cx="6705720" cy="1499760"/>
            </a:xfrm>
            <a:prstGeom prst="rect">
              <a:avLst/>
            </a:prstGeom>
            <a:solidFill>
              <a:srgbClr val="fcfdc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ovoljava osnovne uvjete za raspodjelu vjerojatnosti: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971800" y="5324400"/>
                  <a:ext cx="18684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∀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2971800" y="5772240"/>
                  <a:ext cx="1432080" cy="70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;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990720" y="0"/>
          <a:ext cx="68608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6860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2160" y="152280"/>
            <a:ext cx="44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3300"/>
                </a:solidFill>
                <a:uFillTx/>
                <a:latin typeface="Times New Roman"/>
              </a:rPr>
              <a:t>Općenita </a:t>
            </a:r>
            <a:r>
              <a:rPr b="1" sz="2800" spc="-1" strike="noStrike" u="sng">
                <a:solidFill>
                  <a:srgbClr val="ff3300"/>
                </a:solidFill>
                <a:uFillTx/>
                <a:latin typeface="Symbol"/>
                <a:ea typeface="Symbol"/>
              </a:rPr>
              <a:t></a:t>
            </a:r>
            <a:r>
              <a:rPr b="1" sz="2800" spc="-1" strike="noStrike" u="sng">
                <a:solidFill>
                  <a:srgbClr val="ff3300"/>
                </a:solidFill>
                <a:uFillTx/>
                <a:latin typeface="Times New Roman"/>
              </a:rPr>
              <a:t> raspodj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33520" y="990720"/>
            <a:ext cx="8169120" cy="3313800"/>
            <a:chOff x="533520" y="990720"/>
            <a:chExt cx="8169120" cy="3313800"/>
          </a:xfrm>
        </p:grpSpPr>
        <p:sp>
          <p:nvSpPr>
            <p:cNvPr id="199" name=""/>
            <p:cNvSpPr/>
            <p:nvPr/>
          </p:nvSpPr>
          <p:spPr>
            <a:xfrm>
              <a:off x="533520" y="990720"/>
              <a:ext cx="816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ontinuirana slučajna varijabl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ma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ama raspodje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ko je n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zina funkcija gustoće vjerojatnosti dana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2530440" y="1787400"/>
                  <a:ext cx="4095720" cy="21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α</m:t>
                      </m:r>
                      <m:r>
                        <m:t xml:space="preserve">,</m:t>
                      </m:r>
                      <m:r>
                        <m:t xml:space="preserve">β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α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p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β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p>
                                        <m:r>
                                          <m:t xml:space="preserve">α</m:t>
                                        </m:r>
                                      </m:sup>
                                    </m:sSup>
                                    <m:r>
                                      <m:t xml:space="preserve">Γ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α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  <m:e/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01" name=""/>
            <p:cNvSpPr/>
            <p:nvPr/>
          </p:nvSpPr>
          <p:spPr>
            <a:xfrm>
              <a:off x="624960" y="3844800"/>
              <a:ext cx="228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gdje su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i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&gt;0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81480" y="4495680"/>
            <a:ext cx="7133040" cy="949320"/>
            <a:chOff x="681480" y="4495680"/>
            <a:chExt cx="7133040" cy="949320"/>
          </a:xfrm>
        </p:grpSpPr>
        <p:sp>
          <p:nvSpPr>
            <p:cNvPr id="203" name=""/>
            <p:cNvSpPr/>
            <p:nvPr/>
          </p:nvSpPr>
          <p:spPr>
            <a:xfrm>
              <a:off x="681480" y="4495680"/>
              <a:ext cx="30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</a:t>
              </a: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čekivanje i varijanc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301840" y="4987800"/>
                  <a:ext cx="3544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αβ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αβ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"/>
            <p:cNvSpPr/>
            <p:nvPr/>
          </p:nvSpPr>
          <p:spPr>
            <a:xfrm>
              <a:off x="6263640" y="5064120"/>
              <a:ext cx="155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(</a:t>
              </a:r>
              <a:r>
                <a:rPr b="0" lang="hr-HR" sz="1800" spc="-1" strike="noStrike">
                  <a:solidFill>
                    <a:srgbClr val="000066"/>
                  </a:solidFill>
                  <a:latin typeface="Times New Roman"/>
                </a:rPr>
                <a:t>sami izvedit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61680" y="5902200"/>
            <a:ext cx="679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pćenita gama raspodjela postaje standardna za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534240" y="685800"/>
            <a:ext cx="44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ff3300"/>
                </a:solidFill>
                <a:uFillTx/>
                <a:latin typeface="Times New Roman"/>
              </a:rPr>
              <a:t>Eksponencijalna raspodj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38280" y="1219320"/>
                <a:ext cx="31784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λ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λx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/>
                            <m:e/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609480" y="28684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Vjerojatnosti u eksponencijalnoj raspodjeli lako se računaj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81480" y="3352680"/>
            <a:ext cx="6851160" cy="866880"/>
            <a:chOff x="681480" y="3352680"/>
            <a:chExt cx="6851160" cy="866880"/>
          </a:xfrm>
        </p:grpSpPr>
        <p:sp>
          <p:nvSpPr>
            <p:cNvPr id="211" name=""/>
            <p:cNvSpPr/>
            <p:nvPr/>
          </p:nvSpPr>
          <p:spPr>
            <a:xfrm>
              <a:off x="681480" y="3352680"/>
              <a:ext cx="30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čekivanje i varijanc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4282920" y="3463920"/>
                  <a:ext cx="324972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λ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3" name=""/>
          <p:cNvGrpSpPr/>
          <p:nvPr/>
        </p:nvGrpSpPr>
        <p:grpSpPr>
          <a:xfrm>
            <a:off x="682920" y="4343400"/>
            <a:ext cx="6217920" cy="1603080"/>
            <a:chOff x="682920" y="4343400"/>
            <a:chExt cx="6217920" cy="1603080"/>
          </a:xfrm>
        </p:grpSpPr>
        <p:sp>
          <p:nvSpPr>
            <p:cNvPr id="214" name=""/>
            <p:cNvSpPr/>
            <p:nvPr/>
          </p:nvSpPr>
          <p:spPr>
            <a:xfrm>
              <a:off x="682920" y="4343400"/>
              <a:ext cx="26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unkcija raspodje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521160" y="4530600"/>
                  <a:ext cx="3379680" cy="14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x</m:t>
                                    </m:r>
                                  </m:sup>
                                </m:sSup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  <m:e/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,</m:t>
                                </m:r>
                              </m:e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"/>
          <p:cNvGrpSpPr/>
          <p:nvPr/>
        </p:nvGrpSpPr>
        <p:grpSpPr>
          <a:xfrm>
            <a:off x="286920" y="96840"/>
            <a:ext cx="3579480" cy="588960"/>
            <a:chOff x="286920" y="96840"/>
            <a:chExt cx="3579480" cy="588960"/>
          </a:xfrm>
        </p:grpSpPr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057400" y="96840"/>
                  <a:ext cx="1601640" cy="58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β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λ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286920" y="190440"/>
              <a:ext cx="35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66"/>
                  </a:solidFill>
                  <a:latin typeface="Times New Roman"/>
                </a:rPr>
                <a:t>poseban slučaj je</a:t>
              </a:r>
              <a:r>
                <a:rPr b="0" lang="hr-HR" sz="18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0" lang="hr-HR" sz="1800" spc="-1" strike="noStrike">
                  <a:solidFill>
                    <a:srgbClr val="000066"/>
                  </a:solidFill>
                  <a:latin typeface="Times New Roman"/>
                </a:rPr>
                <a:t>	</a:t>
              </a:r>
              <a:r>
                <a:rPr b="0" lang="hr-HR" sz="1800" spc="-1" strike="noStrike">
                  <a:solidFill>
                    <a:srgbClr val="000066"/>
                  </a:solidFill>
                  <a:latin typeface="Times New Roman"/>
                </a:rPr>
                <a:t>          </a:t>
              </a:r>
              <a:r>
                <a:rPr b="1" lang="hr-HR" sz="1800" spc="-1" strike="noStrike">
                  <a:solidFill>
                    <a:srgbClr val="000066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17680" y="422280"/>
            <a:ext cx="80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mje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d promatramo vrijeme između dva događaja u Poissonovim proces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640" y="1946160"/>
            <a:ext cx="77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imamo Poissonovu raspodjelu s parametrom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, onda su vremena između događaja raspodijeljena eksponencijalno s parametrom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2120" y="1219320"/>
          <a:ext cx="7619760" cy="60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7619760" cy="60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78360" y="1522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aussova aproksimacija Poisson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352680" y="685800"/>
                <a:ext cx="4572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o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734480" y="1405080"/>
            <a:ext cx="5674680" cy="335520"/>
            <a:chOff x="1734480" y="1405080"/>
            <a:chExt cx="5674680" cy="335520"/>
          </a:xfrm>
        </p:grpSpPr>
        <p:sp>
          <p:nvSpPr>
            <p:cNvPr id="50" name=""/>
            <p:cNvSpPr/>
            <p:nvPr/>
          </p:nvSpPr>
          <p:spPr>
            <a:xfrm>
              <a:off x="1734480" y="1405080"/>
              <a:ext cx="1241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Raspodjel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40040" y="1405080"/>
              <a:ext cx="776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Ogran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59320" y="1405080"/>
              <a:ext cx="588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čenj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65400" y="1405080"/>
              <a:ext cx="1643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Aproksimacij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614760" y="1393920"/>
            <a:ext cx="1440" cy="9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1920" y="1393920"/>
            <a:ext cx="1800" cy="9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725120" y="2209680"/>
            <a:ext cx="5424120" cy="697320"/>
            <a:chOff x="1725120" y="2209680"/>
            <a:chExt cx="5424120" cy="697320"/>
          </a:xfrm>
        </p:grpSpPr>
        <p:grpSp>
          <p:nvGrpSpPr>
            <p:cNvPr id="57" name=""/>
            <p:cNvGrpSpPr/>
            <p:nvPr/>
          </p:nvGrpSpPr>
          <p:grpSpPr>
            <a:xfrm>
              <a:off x="1725120" y="2209680"/>
              <a:ext cx="1661760" cy="366120"/>
              <a:chOff x="1725120" y="2209680"/>
              <a:chExt cx="1661760" cy="366120"/>
            </a:xfrm>
          </p:grpSpPr>
          <p:sp>
            <p:nvSpPr>
              <p:cNvPr id="58" name=""/>
              <p:cNvSpPr/>
              <p:nvPr/>
            </p:nvSpPr>
            <p:spPr>
              <a:xfrm>
                <a:off x="3283920" y="220968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971440" y="220968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70880" y="2209680"/>
                <a:ext cx="543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Bin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030400" y="220968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122280" y="22096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819160" y="22096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725120" y="220968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3685680" y="22510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25360" y="2251080"/>
              <a:ext cx="132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velik (&gt;50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85680" y="25714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26080" y="2571480"/>
              <a:ext cx="1515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malen (&lt;0,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5756040" y="2209680"/>
              <a:ext cx="1393200" cy="366120"/>
              <a:chOff x="5756040" y="2209680"/>
              <a:chExt cx="1393200" cy="366120"/>
            </a:xfrm>
          </p:grpSpPr>
          <p:sp>
            <p:nvSpPr>
              <p:cNvPr id="70" name=""/>
              <p:cNvSpPr/>
              <p:nvPr/>
            </p:nvSpPr>
            <p:spPr>
              <a:xfrm>
                <a:off x="7046280" y="220968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00720" y="2209680"/>
                <a:ext cx="42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Po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059520" y="220968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733800" y="22096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n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756040" y="220968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3614760" y="2343240"/>
            <a:ext cx="1440" cy="2692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41920" y="2343240"/>
            <a:ext cx="1800" cy="278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608120" y="3124080"/>
            <a:ext cx="6059520" cy="5040"/>
            <a:chOff x="1608120" y="3124080"/>
            <a:chExt cx="6059520" cy="5040"/>
          </a:xfrm>
        </p:grpSpPr>
        <p:sp>
          <p:nvSpPr>
            <p:cNvPr id="78" name=""/>
            <p:cNvSpPr/>
            <p:nvPr/>
          </p:nvSpPr>
          <p:spPr>
            <a:xfrm>
              <a:off x="1608120" y="3124080"/>
              <a:ext cx="200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4760" y="31240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1476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19440" y="3124080"/>
              <a:ext cx="2022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41920" y="31240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41920" y="3124080"/>
              <a:ext cx="180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48400" y="3124080"/>
              <a:ext cx="2019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786320" y="3247920"/>
            <a:ext cx="5907960" cy="1061280"/>
            <a:chOff x="1786320" y="3247920"/>
            <a:chExt cx="5907960" cy="1061280"/>
          </a:xfrm>
        </p:grpSpPr>
        <p:grpSp>
          <p:nvGrpSpPr>
            <p:cNvPr id="86" name=""/>
            <p:cNvGrpSpPr/>
            <p:nvPr/>
          </p:nvGrpSpPr>
          <p:grpSpPr>
            <a:xfrm>
              <a:off x="1786320" y="3247920"/>
              <a:ext cx="1661400" cy="366120"/>
              <a:chOff x="1786320" y="3247920"/>
              <a:chExt cx="1661400" cy="366120"/>
            </a:xfrm>
          </p:grpSpPr>
          <p:sp>
            <p:nvSpPr>
              <p:cNvPr id="87" name=""/>
              <p:cNvSpPr/>
              <p:nvPr/>
            </p:nvSpPr>
            <p:spPr>
              <a:xfrm>
                <a:off x="3344760" y="324792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32280" y="324792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70880" y="3247920"/>
                <a:ext cx="543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Bin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91240" y="324792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83480" y="32479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80360" y="32479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6320" y="324792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741840" y="33098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80440" y="3309840"/>
              <a:ext cx="578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&gt;10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57880" y="330984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90360" y="327672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49120" y="3309840"/>
              <a:ext cx="209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40400" y="3630600"/>
              <a:ext cx="23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il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41840" y="39736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80440" y="3973680"/>
              <a:ext cx="578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&gt;30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57880" y="39736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90360" y="3941640"/>
              <a:ext cx="22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49120" y="3973680"/>
              <a:ext cx="209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818680" y="3247920"/>
              <a:ext cx="1875600" cy="366120"/>
              <a:chOff x="5818680" y="3247920"/>
              <a:chExt cx="1875600" cy="366120"/>
            </a:xfrm>
          </p:grpSpPr>
          <p:sp>
            <p:nvSpPr>
              <p:cNvPr id="106" name=""/>
              <p:cNvSpPr/>
              <p:nvPr/>
            </p:nvSpPr>
            <p:spPr>
              <a:xfrm>
                <a:off x="7591320" y="324792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010640" y="324792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73800" y="3247920"/>
                <a:ext cx="32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N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121800" y="324792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63920" y="3247920"/>
                <a:ext cx="457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np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41640" y="324792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n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18680" y="324792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3614760" y="3276720"/>
              <a:ext cx="1440" cy="10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41920" y="3276720"/>
              <a:ext cx="1800" cy="10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725120" y="4629240"/>
            <a:ext cx="5497200" cy="401040"/>
            <a:chOff x="1725120" y="4629240"/>
            <a:chExt cx="5497200" cy="401040"/>
          </a:xfrm>
        </p:grpSpPr>
        <p:grpSp>
          <p:nvGrpSpPr>
            <p:cNvPr id="116" name=""/>
            <p:cNvGrpSpPr/>
            <p:nvPr/>
          </p:nvGrpSpPr>
          <p:grpSpPr>
            <a:xfrm>
              <a:off x="1725120" y="4629240"/>
              <a:ext cx="1267920" cy="401040"/>
              <a:chOff x="1725120" y="4629240"/>
              <a:chExt cx="1267920" cy="401040"/>
            </a:xfrm>
          </p:grpSpPr>
          <p:sp>
            <p:nvSpPr>
              <p:cNvPr id="117" name=""/>
              <p:cNvSpPr/>
              <p:nvPr/>
            </p:nvSpPr>
            <p:spPr>
              <a:xfrm>
                <a:off x="2890080" y="466416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73040" y="4664160"/>
                <a:ext cx="424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Po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030400" y="466416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99640" y="4629240"/>
                <a:ext cx="168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25120" y="466416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3686040" y="4684680"/>
              <a:ext cx="120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200" spc="-1" strike="noStrike">
                  <a:solidFill>
                    <a:srgbClr val="000000"/>
                  </a:solidFill>
                  <a:latin typeface="Times New Roman"/>
                </a:rPr>
                <a:t>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4480" y="4684680"/>
              <a:ext cx="438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</a:rPr>
                <a:t>&gt;2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5756040" y="4629240"/>
              <a:ext cx="1466280" cy="401040"/>
              <a:chOff x="5756040" y="4629240"/>
              <a:chExt cx="1466280" cy="401040"/>
            </a:xfrm>
          </p:grpSpPr>
          <p:sp>
            <p:nvSpPr>
              <p:cNvPr id="125" name=""/>
              <p:cNvSpPr/>
              <p:nvPr/>
            </p:nvSpPr>
            <p:spPr>
              <a:xfrm>
                <a:off x="7119360" y="4664160"/>
                <a:ext cx="102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21280" y="4664160"/>
                <a:ext cx="77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311880" y="4664160"/>
                <a:ext cx="322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N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060960" y="4664160"/>
                <a:ext cx="16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28560" y="4629240"/>
                <a:ext cx="168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35160" y="4629240"/>
                <a:ext cx="168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56040" y="466416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hr-HR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1608120" y="4495680"/>
            <a:ext cx="6059520" cy="6480"/>
            <a:chOff x="1608120" y="4495680"/>
            <a:chExt cx="6059520" cy="6480"/>
          </a:xfrm>
        </p:grpSpPr>
        <p:sp>
          <p:nvSpPr>
            <p:cNvPr id="133" name=""/>
            <p:cNvSpPr/>
            <p:nvPr/>
          </p:nvSpPr>
          <p:spPr>
            <a:xfrm>
              <a:off x="1608120" y="4495680"/>
              <a:ext cx="200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14760" y="44956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14760" y="44956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19440" y="4495680"/>
              <a:ext cx="2022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41920" y="44956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41920" y="44956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48400" y="4495680"/>
              <a:ext cx="2019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614760" y="4290840"/>
            <a:ext cx="1440" cy="9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41920" y="4290840"/>
            <a:ext cx="1800" cy="9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1905120"/>
            <a:ext cx="60195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068480" y="158760"/>
          <a:ext cx="7648560" cy="151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158760"/>
                    <a:ext cx="764856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28600" y="1219320"/>
            <a:ext cx="85345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jerimo veličinu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a njezina prava vrijednost je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koju ne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namo.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jerni instrument daje standardna odstupanja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Obavimo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jedno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mjeren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i rezultat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ražimo najvjerojatniju vrijednost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jerojatnost da je 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u intervalu 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i="1" lang="en-AU" sz="2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zno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2514600"/>
            <a:ext cx="6284880" cy="4530600"/>
            <a:chOff x="838080" y="2514600"/>
            <a:chExt cx="6284880" cy="4530600"/>
          </a:xfrm>
        </p:grpSpPr>
        <p:graphicFrame>
          <p:nvGraphicFramePr>
            <p:cNvPr id="147" name=""/>
            <p:cNvGraphicFramePr/>
            <p:nvPr/>
          </p:nvGraphicFramePr>
          <p:xfrm>
            <a:off x="838080" y="2514600"/>
            <a:ext cx="5392800" cy="453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514600"/>
                      <a:ext cx="5392800" cy="453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058840" y="3454560"/>
                  <a:ext cx="5064120" cy="95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Δx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σ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sup>
                      </m:sSup>
                      <m:r>
                        <m:t xml:space="preserve">⋅</m:t>
                      </m:r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549440" y="-138240"/>
          <a:ext cx="5384880" cy="45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-138240"/>
                    <a:ext cx="5384880" cy="45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28600" y="228600"/>
            <a:ext cx="853452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Obavimo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dva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mjeren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i rezultat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 su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1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ražimo najvjerojatniju vrijednost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8360" y="4270320"/>
            <a:ext cx="60919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jerojatnost da je 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u intervalu 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i="1" lang="en-AU" sz="2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zno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4680" y="5033880"/>
                <a:ext cx="77104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3733920"/>
            <a:ext cx="7712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jvjerojatnija vrijednost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je onaj </a:t>
            </a:r>
            <a:r>
              <a:rPr b="0" i="1" lang="hr-HR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za koji gornja funkcija  ima maksim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533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Obavimo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mjerenja i rezultati su 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0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i="1" sz="2400" spc="-1" strike="noStrike">
                <a:solidFill>
                  <a:srgbClr val="ff3300"/>
                </a:solidFill>
                <a:latin typeface="Times New Roman"/>
              </a:rPr>
              <a:t>…x</a:t>
            </a:r>
            <a:r>
              <a:rPr b="0" i="1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1000" y="1371600"/>
            <a:ext cx="60919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jerojatnost da je 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u intervalu 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i="1" lang="en-AU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i="1" lang="en-AU" sz="24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AU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zno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26920" y="2362320"/>
                <a:ext cx="5991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σ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x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95280" y="5029200"/>
                <a:ext cx="18734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065240" y="5791320"/>
            <a:ext cx="56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o zovemo “</a:t>
            </a:r>
            <a:r>
              <a:rPr b="1" lang="hr-HR" sz="2400" spc="-1" strike="noStrike">
                <a:solidFill>
                  <a:srgbClr val="ff3300"/>
                </a:solidFill>
                <a:latin typeface="Times New Roman"/>
              </a:rPr>
              <a:t>princip najmanjih kvadrat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30400" y="730080"/>
            <a:ext cx="65574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koji </a:t>
            </a:r>
            <a:r>
              <a:rPr b="0" i="1" lang="hr-HR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hr-HR" sz="2400" spc="-1" strike="noStrike" baseline="30000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je zbroj kvadrata odstupanja minimalan</a:t>
            </a:r>
            <a:r>
              <a:rPr b="0" lang="hr-HR" sz="36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19520" y="2819520"/>
                <a:ext cx="2133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1148400" y="4343400"/>
            <a:ext cx="4930200" cy="1805040"/>
            <a:chOff x="1148400" y="4343400"/>
            <a:chExt cx="4930200" cy="1805040"/>
          </a:xfrm>
        </p:grpSpPr>
        <p:sp>
          <p:nvSpPr>
            <p:cNvPr id="164" name=""/>
            <p:cNvSpPr/>
            <p:nvPr/>
          </p:nvSpPr>
          <p:spPr>
            <a:xfrm>
              <a:off x="1148400" y="4343400"/>
              <a:ext cx="364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Za najvjerojatniji </a:t>
              </a:r>
              <a:r>
                <a:rPr b="0" i="1" lang="hr-HR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0" lang="hr-HR" sz="2400" spc="-1" strike="noStrike" baseline="-25000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0" lang="hr-HR" sz="2400" spc="-1" strike="noStrike" baseline="30000">
                  <a:solidFill>
                    <a:srgbClr val="ff3300"/>
                  </a:solidFill>
                  <a:latin typeface="Times New Roman"/>
                </a:rPr>
                <a:t>*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vrijedi</a:t>
              </a:r>
              <a:r>
                <a:rPr b="0" lang="en-AU" sz="24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3962520" y="5105520"/>
            <a:ext cx="2116080" cy="1042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62520" y="5105520"/>
                      <a:ext cx="2116080" cy="104292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82880" y="1752480"/>
                <a:ext cx="19270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62120" y="1371600"/>
            <a:ext cx="76356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imes New Roman"/>
              </a:rPr>
              <a:t>Osnove teorije pogreš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vjerojatnija vrijednost na osnov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jerenja jest ona pri kojoj je zbroj kvadrata odstupanja mjerenih veličina najman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o je prava vrijedn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ke veličine nepoznata, onda se kao najvjerojatnija vrijednost koju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prima uzima aritmetička sredina svih mjeren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20440" y="295200"/>
            <a:ext cx="57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Konzistentna i nekonzistentna mj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2590920"/>
            <a:ext cx="32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stematske pogreš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8-05-30T11:58:22Z</dcterms:modified>
  <cp:revision>64</cp:revision>
  <dc:subject/>
  <dc:title>No Slide Title</dc:title>
</cp:coreProperties>
</file>