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5EA-349B-4137-BACE-DACBA764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FC0-88CC-43F8-94E8-3D205E0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84B-BBB0-4564-B77B-A026D4A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26E-5893-45B3-858F-FB8CE9BF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036-4701-4E31-A0D5-0E415D3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F83-FE6E-47A3-B695-BEF3F74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3DC-DF15-4097-B5BD-564B31E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5C4-A37C-4C58-999C-540783DB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CD6-DEA4-4302-A262-0A1CE41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D8B-81E1-4426-81F9-6AC32E7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484-3C8D-40A2-BE33-E72F109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6D8-9D96-420C-B67E-9A03083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27E2-8FA4-40DE-85FD-20E9956B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8480" y="158760"/>
          <a:ext cx="7648560" cy="151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58760"/>
                    <a:ext cx="76485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" y="1219320"/>
            <a:ext cx="85345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jerimo veličin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a njezina prava vrijednost je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koju n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mo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jerni instrument daje standardna odstupanj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jedn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2514600"/>
          <a:ext cx="5392800" cy="45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53928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58840" y="3454560"/>
                <a:ext cx="50641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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aspodj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143000" y="83808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Standardna 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1447920"/>
            <a:ext cx="8093160" cy="3202920"/>
            <a:chOff x="457200" y="1447920"/>
            <a:chExt cx="8093160" cy="3202920"/>
          </a:xfrm>
        </p:grpSpPr>
        <p:sp>
          <p:nvSpPr>
            <p:cNvPr id="85" name=""/>
            <p:cNvSpPr/>
            <p:nvPr/>
          </p:nvSpPr>
          <p:spPr>
            <a:xfrm>
              <a:off x="457200" y="1447920"/>
              <a:ext cx="80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ndardnu 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2362320" y="2210040"/>
                  <a:ext cx="3498840" cy="20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603000" y="4191120"/>
              <a:ext cx="485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parametar raspodjele (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4943520"/>
            <a:ext cx="6705720" cy="1533600"/>
            <a:chOff x="609480" y="4943520"/>
            <a:chExt cx="6705720" cy="1533600"/>
          </a:xfrm>
        </p:grpSpPr>
        <p:sp>
          <p:nvSpPr>
            <p:cNvPr id="89" name=""/>
            <p:cNvSpPr/>
            <p:nvPr/>
          </p:nvSpPr>
          <p:spPr>
            <a:xfrm>
              <a:off x="609480" y="4943520"/>
              <a:ext cx="6705720" cy="14997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ovoljava osnovne uvjete za raspodjelu vjerojatnosti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971800" y="5324400"/>
                  <a:ext cx="1868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971800" y="5772240"/>
                  <a:ext cx="143208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90720" y="0"/>
          <a:ext cx="6860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686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160" y="152280"/>
            <a:ext cx="44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Općenita 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990720"/>
            <a:ext cx="8169120" cy="3313800"/>
            <a:chOff x="533520" y="990720"/>
            <a:chExt cx="8169120" cy="3313800"/>
          </a:xfrm>
        </p:grpSpPr>
        <p:sp>
          <p:nvSpPr>
            <p:cNvPr id="96" name=""/>
            <p:cNvSpPr/>
            <p:nvPr/>
          </p:nvSpPr>
          <p:spPr>
            <a:xfrm>
              <a:off x="533520" y="990720"/>
              <a:ext cx="816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530440" y="1787400"/>
                  <a:ext cx="409572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β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624960" y="3844800"/>
              <a:ext cx="228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s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1480" y="4495680"/>
            <a:ext cx="7133040" cy="949320"/>
            <a:chOff x="681480" y="4495680"/>
            <a:chExt cx="7133040" cy="949320"/>
          </a:xfrm>
        </p:grpSpPr>
        <p:sp>
          <p:nvSpPr>
            <p:cNvPr id="100" name=""/>
            <p:cNvSpPr/>
            <p:nvPr/>
          </p:nvSpPr>
          <p:spPr>
            <a:xfrm>
              <a:off x="681480" y="4495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2301840" y="4987800"/>
                  <a:ext cx="354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αβ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"/>
            <p:cNvSpPr/>
            <p:nvPr/>
          </p:nvSpPr>
          <p:spPr>
            <a:xfrm>
              <a:off x="6263640" y="506412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(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sami izvedi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61680" y="5902200"/>
            <a:ext cx="67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pćenita gama raspodjela postaje standardna za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4240" y="68580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Eksponencijalna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219320"/>
                <a:ext cx="31784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λ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λ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480" y="2868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jerojatnosti u eksponencijalnoj raspodjeli lako se računa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1480" y="3352680"/>
            <a:ext cx="6851160" cy="866880"/>
            <a:chOff x="681480" y="3352680"/>
            <a:chExt cx="6851160" cy="866880"/>
          </a:xfrm>
        </p:grpSpPr>
        <p:sp>
          <p:nvSpPr>
            <p:cNvPr id="108" name=""/>
            <p:cNvSpPr/>
            <p:nvPr/>
          </p:nvSpPr>
          <p:spPr>
            <a:xfrm>
              <a:off x="681480" y="3352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282920" y="3463920"/>
                  <a:ext cx="324972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82920" y="4343400"/>
            <a:ext cx="6217920" cy="1603080"/>
            <a:chOff x="682920" y="4343400"/>
            <a:chExt cx="6217920" cy="1603080"/>
          </a:xfrm>
        </p:grpSpPr>
        <p:sp>
          <p:nvSpPr>
            <p:cNvPr id="111" name=""/>
            <p:cNvSpPr/>
            <p:nvPr/>
          </p:nvSpPr>
          <p:spPr>
            <a:xfrm>
              <a:off x="682920" y="434340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unkcija raspodje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3521160" y="4530600"/>
                  <a:ext cx="337968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x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"/>
          <p:cNvGrpSpPr/>
          <p:nvPr/>
        </p:nvGrpSpPr>
        <p:grpSpPr>
          <a:xfrm>
            <a:off x="286920" y="96840"/>
            <a:ext cx="3579480" cy="588960"/>
            <a:chOff x="286920" y="96840"/>
            <a:chExt cx="3579480" cy="58896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057400" y="96840"/>
                  <a:ext cx="16016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286920" y="190440"/>
              <a:ext cx="35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poseban slučaj je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hr-HR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7680" y="42228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d promatramo vrijeme između dva događaja u Poissono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194616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imamo Poissonovu raspodjelu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, onda su vremena između događaja raspodijeljena eksponencijalno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84520" y="304920"/>
            <a:ext cx="22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i="1" lang="en-A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AU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7200" y="1219320"/>
            <a:ext cx="7940520" cy="4117320"/>
            <a:chOff x="457200" y="1219320"/>
            <a:chExt cx="7940520" cy="4117320"/>
          </a:xfrm>
        </p:grpSpPr>
        <p:sp>
          <p:nvSpPr>
            <p:cNvPr id="120" name=""/>
            <p:cNvSpPr/>
            <p:nvPr/>
          </p:nvSpPr>
          <p:spPr>
            <a:xfrm>
              <a:off x="457200" y="1219320"/>
              <a:ext cx="7940520" cy="411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0" i="1" lang="en-A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i="1" lang="en-A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AU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AU" sz="2400" spc="-1" strike="noStrike">
                  <a:solidFill>
                    <a:srgbClr val="000000"/>
                  </a:solidFill>
                  <a:latin typeface="Times New Roman"/>
                </a:rPr>
                <a:t>raspodjel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paramet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arametar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zove se “</a:t>
              </a:r>
              <a:r>
                <a:rPr b="0" lang="hr-HR" sz="2400" spc="-1" strike="noStrike">
                  <a:solidFill>
                    <a:srgbClr val="ff3300"/>
                  </a:solidFill>
                  <a:latin typeface="Times New Roman"/>
                </a:rPr>
                <a:t>broj stupnjeva slobod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”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149200" y="2479680"/>
                  <a:ext cx="3934080" cy="21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n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533520" y="6019920"/>
            <a:ext cx="78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aspodjela je važna za primjenu statističkih testo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9680" y="762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960" y="5375160"/>
            <a:ext cx="15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n/2;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97440" y="22860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vodimenzionalne raspodj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990720"/>
            <a:ext cx="9144000" cy="3781800"/>
            <a:chOff x="0" y="990720"/>
            <a:chExt cx="9144000" cy="3781800"/>
          </a:xfrm>
        </p:grpSpPr>
        <p:sp>
          <p:nvSpPr>
            <p:cNvPr id="127" name=""/>
            <p:cNvSpPr/>
            <p:nvPr/>
          </p:nvSpPr>
          <p:spPr>
            <a:xfrm>
              <a:off x="304920" y="990720"/>
              <a:ext cx="44956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1752480"/>
              <a:ext cx="8610480" cy="30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ka s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vije diskretne slučajne varijable definirane na prostoru elementarnih događaja nekog eksperimenta.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družena raspodjela 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definirana je za svaki par točaka 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kao vjerojatnost da istodobno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rimi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primi vrijed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411480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131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609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219320"/>
            <a:ext cx="8381880" cy="198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ne (marginalne) raspodjel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značavam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dane su izraz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523880" y="2235240"/>
                <a:ext cx="59817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221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5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04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43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8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53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469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49440" y="-138240"/>
          <a:ext cx="5384880" cy="45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-138240"/>
                    <a:ext cx="53848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8600" y="228600"/>
            <a:ext cx="8534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dv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su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360" y="427032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44680" y="5033880"/>
                <a:ext cx="77104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3352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066680"/>
            <a:ext cx="853452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ije kontinuirane slučajne varijable. Funkci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je njihov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užena funkcija gustoć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za bilo koji dvodimenzionalni sku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ebno, ako j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vodimenzionalni pravokut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da 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809880" y="1828800"/>
                <a:ext cx="129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⊆</m:t>
                    </m:r>
                    <m:r>
                      <m:t xml:space="preserve">R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38280" y="2362320"/>
                <a:ext cx="3772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04920" y="3657600"/>
                <a:ext cx="3768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914400" y="4114800"/>
                <a:ext cx="6762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42242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5562720"/>
                <a:ext cx="140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9672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505320" y="5410080"/>
                <a:ext cx="24476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2DintegralB" descr=""/>
          <p:cNvPicPr/>
          <p:nvPr/>
        </p:nvPicPr>
        <p:blipFill>
          <a:blip r:embed="rId1"/>
          <a:stretch/>
        </p:blipFill>
        <p:spPr>
          <a:xfrm>
            <a:off x="141120" y="762120"/>
            <a:ext cx="92314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7080" y="228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Times New Roman"/>
              </a:rPr>
              <a:t>PRIMJ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09880" cy="3708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859120" cy="342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577960" y="317520"/>
                <a:ext cx="42008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33520" y="685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295280"/>
            <a:ext cx="8229600" cy="198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ne (marginalne) funkcije gustoće vjerojat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značavamo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hr-H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dane su izraz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371600" y="2133720"/>
                <a:ext cx="62974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733920"/>
            <a:ext cx="771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vjerojatnija vrijednost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onaj </a:t>
            </a:r>
            <a:r>
              <a:rPr b="0" i="1" lang="hr-HR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 koji gornja funkcija  ima maksim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33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a i rezultati s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…x</a:t>
            </a:r>
            <a:r>
              <a:rPr b="0" i="1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1000" y="137160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826920" y="2362320"/>
                <a:ext cx="5991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95280" y="5029200"/>
                <a:ext cx="1873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065240" y="5791320"/>
            <a:ext cx="56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zovemo “</a:t>
            </a: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princip najmanjih kvadra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30400" y="730080"/>
            <a:ext cx="6557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koji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zbroj kvadrata odstupanja minimalan</a:t>
            </a:r>
            <a:r>
              <a:rPr b="0" lang="hr-HR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19520" y="2819520"/>
                <a:ext cx="2133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148400" y="4343400"/>
            <a:ext cx="4930200" cy="1805040"/>
            <a:chOff x="1148400" y="4343400"/>
            <a:chExt cx="4930200" cy="1805040"/>
          </a:xfrm>
        </p:grpSpPr>
        <p:sp>
          <p:nvSpPr>
            <p:cNvPr id="61" name=""/>
            <p:cNvSpPr/>
            <p:nvPr/>
          </p:nvSpPr>
          <p:spPr>
            <a:xfrm>
              <a:off x="1148400" y="4343400"/>
              <a:ext cx="364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najvjerojatniji </a:t>
              </a:r>
              <a:r>
                <a:rPr b="0" i="1" lang="hr-HR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hr-HR" sz="2400" spc="-1" strike="noStrike" baseline="30000">
                  <a:solidFill>
                    <a:srgbClr val="ff3300"/>
                  </a:solidFill>
                  <a:latin typeface="Times New Roman"/>
                </a:rPr>
                <a:t>*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i</a:t>
              </a:r>
              <a:r>
                <a:rPr b="0" lang="en-AU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962520" y="5105520"/>
            <a:ext cx="2116080" cy="104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5105520"/>
                      <a:ext cx="2116080" cy="10429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82880" y="1752480"/>
                <a:ext cx="19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1371600"/>
            <a:ext cx="76356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Osnove teorije po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vjerojatnija vrijednost na osnov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jerenja jest ona pri kojoj je zbroj kvadrata odstupanja mjerenih veličina najman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prav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ke veličine nepoznata, onda se kao najvjerojatnija vrijednost koj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prima uzima aritmetička sredina svih mjer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0440" y="295200"/>
            <a:ext cx="57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nzistentna i nekonzistentna mj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9092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stematske pogreš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38088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ff3300"/>
                </a:solidFill>
                <a:uFillTx/>
                <a:latin typeface="Times New Roman"/>
              </a:rPr>
              <a:t>Gama funk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90920" y="1143000"/>
          <a:ext cx="4487760" cy="11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4487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51920" y="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Svojstv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05120" y="152280"/>
                <a:ext cx="5257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86040" y="685800"/>
                <a:ext cx="4362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06560" y="1219320"/>
                <a:ext cx="2284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6360" y="80316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Izvod Stirlingove form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66680" y="1295280"/>
                <a:ext cx="2289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429000" y="1523880"/>
                <a:ext cx="1544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18T12:51:03Z</dcterms:modified>
  <cp:revision>59</cp:revision>
  <dc:subject/>
  <dc:title>No Slide Title</dc:title>
</cp:coreProperties>
</file>