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874-084B-4434-95F6-564B9294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CF5-7046-43C2-BBF5-18B83231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8BF-C045-41A4-A22B-ED44C1C7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8D0-5596-413C-B896-DF6FF926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9CB-6AB8-4CB6-A8BC-052E5153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0C4-3996-4160-8223-EE556444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52A-78CA-4AB7-AD53-089E7494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917-3EDC-4F8F-AA56-A719E1A0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326-ED46-4B7E-9707-023D5D65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6EC-096F-4E7E-AA9E-FCB2ACF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A1C-CED7-4897-B086-71F8879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453-69F6-4AF7-BB4A-7514F480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ABFF-86C5-4CEC-B2CB-7A8A1F828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833400"/>
          <a:ext cx="6858000" cy="60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3400"/>
                    <a:ext cx="6858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81040" y="304920"/>
                <a:ext cx="3257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800600" y="304920"/>
                <a:ext cx="384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68480" y="158760"/>
          <a:ext cx="7648560" cy="151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58760"/>
                    <a:ext cx="764856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28600" y="1219320"/>
            <a:ext cx="85345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jerimo veličinu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a njezina prava vrijednost je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koju n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amo.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jerni instrument daje standardna odstupanja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jedno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 rezulta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ažimo najvjerojatniju vrijednos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2514600"/>
          <a:ext cx="5392800" cy="45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53928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58840" y="3454560"/>
                <a:ext cx="50641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14400" y="228600"/>
                <a:ext cx="1908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49960" y="165240"/>
                <a:ext cx="1434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29720" cy="526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334120" y="4419720"/>
                <a:ext cx="26557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791320" y="5943600"/>
                <a:ext cx="1760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458200" cy="64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458200" cy="64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80880"/>
            <a:ext cx="5638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na normalna raspodj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71600" y="2085840"/>
                <a:ext cx="1352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943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2619360"/>
                <a:ext cx="2511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47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81280" y="4114800"/>
                <a:ext cx="32641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22400"/>
          <a:ext cx="9144000" cy="66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400"/>
                    <a:ext cx="9144000" cy="66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80880"/>
            <a:ext cx="5638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ziranje općenit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normaln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aspodjel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95280" y="1371600"/>
                <a:ext cx="1760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3" name=""/>
          <p:cNvGrpSpPr/>
          <p:nvPr/>
        </p:nvGrpSpPr>
        <p:grpSpPr>
          <a:xfrm>
            <a:off x="2133720" y="2819520"/>
            <a:ext cx="5058720" cy="788760"/>
            <a:chOff x="2133720" y="2819520"/>
            <a:chExt cx="5058720" cy="788760"/>
          </a:xfrm>
        </p:grpSpPr>
        <p:sp>
          <p:nvSpPr>
            <p:cNvPr id="64" name=""/>
            <p:cNvSpPr/>
            <p:nvPr/>
          </p:nvSpPr>
          <p:spPr>
            <a:xfrm>
              <a:off x="2133720" y="2971440"/>
              <a:ext cx="49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vodimo slučajnu varijabl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775120" y="2819520"/>
                  <a:ext cx="141732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43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47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66680" y="1490760"/>
          <a:ext cx="6796080" cy="53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90760"/>
                    <a:ext cx="679608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61440" y="414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ussova aproksimacija binom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124080" y="609480"/>
                <a:ext cx="5334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62120" y="1219320"/>
          <a:ext cx="761976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197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78360" y="1522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ussova aproksimacija Poisson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352680" y="685800"/>
                <a:ext cx="4572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734480" y="1405080"/>
            <a:ext cx="5674680" cy="335520"/>
            <a:chOff x="1734480" y="1405080"/>
            <a:chExt cx="5674680" cy="335520"/>
          </a:xfrm>
        </p:grpSpPr>
        <p:sp>
          <p:nvSpPr>
            <p:cNvPr id="78" name=""/>
            <p:cNvSpPr/>
            <p:nvPr/>
          </p:nvSpPr>
          <p:spPr>
            <a:xfrm>
              <a:off x="1734480" y="1405080"/>
              <a:ext cx="1241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Raspodjel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40040" y="1405080"/>
              <a:ext cx="776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Ogran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59320" y="1405080"/>
              <a:ext cx="58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čenj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65400" y="1405080"/>
              <a:ext cx="1643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Aproksimacij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614760" y="1393920"/>
            <a:ext cx="1440" cy="9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1920" y="1393920"/>
            <a:ext cx="1800" cy="9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25120" y="2209680"/>
            <a:ext cx="5424120" cy="697320"/>
            <a:chOff x="1725120" y="2209680"/>
            <a:chExt cx="5424120" cy="697320"/>
          </a:xfrm>
        </p:grpSpPr>
        <p:grpSp>
          <p:nvGrpSpPr>
            <p:cNvPr id="85" name=""/>
            <p:cNvGrpSpPr/>
            <p:nvPr/>
          </p:nvGrpSpPr>
          <p:grpSpPr>
            <a:xfrm>
              <a:off x="1725120" y="2209680"/>
              <a:ext cx="1661760" cy="366120"/>
              <a:chOff x="1725120" y="2209680"/>
              <a:chExt cx="1661760" cy="366120"/>
            </a:xfrm>
          </p:grpSpPr>
          <p:sp>
            <p:nvSpPr>
              <p:cNvPr id="86" name=""/>
              <p:cNvSpPr/>
              <p:nvPr/>
            </p:nvSpPr>
            <p:spPr>
              <a:xfrm>
                <a:off x="3283920" y="22096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71440" y="220968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70880" y="2209680"/>
                <a:ext cx="543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Bi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0400" y="220968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122280" y="2209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19160" y="2209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25120" y="220968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685680" y="22510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25360" y="2251080"/>
              <a:ext cx="132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velik (&gt;5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85680" y="25714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26080" y="2571480"/>
              <a:ext cx="1515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malen (&lt;0,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756040" y="2209680"/>
              <a:ext cx="1393200" cy="366120"/>
              <a:chOff x="5756040" y="2209680"/>
              <a:chExt cx="1393200" cy="366120"/>
            </a:xfrm>
          </p:grpSpPr>
          <p:sp>
            <p:nvSpPr>
              <p:cNvPr id="98" name=""/>
              <p:cNvSpPr/>
              <p:nvPr/>
            </p:nvSpPr>
            <p:spPr>
              <a:xfrm>
                <a:off x="7046280" y="22096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00720" y="2209680"/>
                <a:ext cx="42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Po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59520" y="220968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33800" y="2209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56040" y="220968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3614760" y="2343240"/>
            <a:ext cx="1440" cy="269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41920" y="2343240"/>
            <a:ext cx="1800" cy="27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8120" y="3124080"/>
            <a:ext cx="6059520" cy="5040"/>
            <a:chOff x="1608120" y="3124080"/>
            <a:chExt cx="6059520" cy="5040"/>
          </a:xfrm>
        </p:grpSpPr>
        <p:sp>
          <p:nvSpPr>
            <p:cNvPr id="106" name=""/>
            <p:cNvSpPr/>
            <p:nvPr/>
          </p:nvSpPr>
          <p:spPr>
            <a:xfrm>
              <a:off x="1608120" y="3124080"/>
              <a:ext cx="200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1476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476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19440" y="3124080"/>
              <a:ext cx="202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41920" y="31240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41920" y="3124080"/>
              <a:ext cx="180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48400" y="3124080"/>
              <a:ext cx="2019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86320" y="3247920"/>
            <a:ext cx="5907960" cy="1061280"/>
            <a:chOff x="1786320" y="3247920"/>
            <a:chExt cx="5907960" cy="1061280"/>
          </a:xfrm>
        </p:grpSpPr>
        <p:grpSp>
          <p:nvGrpSpPr>
            <p:cNvPr id="114" name=""/>
            <p:cNvGrpSpPr/>
            <p:nvPr/>
          </p:nvGrpSpPr>
          <p:grpSpPr>
            <a:xfrm>
              <a:off x="1786320" y="3247920"/>
              <a:ext cx="1661400" cy="366120"/>
              <a:chOff x="1786320" y="3247920"/>
              <a:chExt cx="1661400" cy="366120"/>
            </a:xfrm>
          </p:grpSpPr>
          <p:sp>
            <p:nvSpPr>
              <p:cNvPr id="115" name=""/>
              <p:cNvSpPr/>
              <p:nvPr/>
            </p:nvSpPr>
            <p:spPr>
              <a:xfrm>
                <a:off x="3344760" y="3247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32280" y="3247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70880" y="3247920"/>
                <a:ext cx="543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Bi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91240" y="324792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83480" y="3247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80360" y="3247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86320" y="324792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741840" y="33098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0440" y="3309840"/>
              <a:ext cx="578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&gt;10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57880" y="33098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0360" y="327672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49120" y="3309840"/>
              <a:ext cx="209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40400" y="363060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i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1840" y="397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0440" y="3973680"/>
              <a:ext cx="578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&gt;30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7880" y="397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90360" y="394164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9120" y="3973680"/>
              <a:ext cx="209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818680" y="3247920"/>
              <a:ext cx="1875600" cy="366120"/>
              <a:chOff x="5818680" y="3247920"/>
              <a:chExt cx="1875600" cy="366120"/>
            </a:xfrm>
          </p:grpSpPr>
          <p:sp>
            <p:nvSpPr>
              <p:cNvPr id="134" name=""/>
              <p:cNvSpPr/>
              <p:nvPr/>
            </p:nvSpPr>
            <p:spPr>
              <a:xfrm>
                <a:off x="7591320" y="3247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10640" y="3247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73800" y="324792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21800" y="324792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63920" y="324792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p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41640" y="324792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18680" y="324792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614760" y="3276720"/>
              <a:ext cx="1440" cy="10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41920" y="3276720"/>
              <a:ext cx="1800" cy="10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25120" y="4629240"/>
            <a:ext cx="5497200" cy="401040"/>
            <a:chOff x="1725120" y="4629240"/>
            <a:chExt cx="5497200" cy="401040"/>
          </a:xfrm>
        </p:grpSpPr>
        <p:grpSp>
          <p:nvGrpSpPr>
            <p:cNvPr id="144" name=""/>
            <p:cNvGrpSpPr/>
            <p:nvPr/>
          </p:nvGrpSpPr>
          <p:grpSpPr>
            <a:xfrm>
              <a:off x="1725120" y="4629240"/>
              <a:ext cx="1267920" cy="401040"/>
              <a:chOff x="1725120" y="4629240"/>
              <a:chExt cx="1267920" cy="401040"/>
            </a:xfrm>
          </p:grpSpPr>
          <p:sp>
            <p:nvSpPr>
              <p:cNvPr id="145" name=""/>
              <p:cNvSpPr/>
              <p:nvPr/>
            </p:nvSpPr>
            <p:spPr>
              <a:xfrm>
                <a:off x="2890080" y="46641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73040" y="4664160"/>
                <a:ext cx="42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Po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30400" y="466416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99640" y="4629240"/>
                <a:ext cx="16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25120" y="466416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3686040" y="4684680"/>
              <a:ext cx="120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4480" y="4684680"/>
              <a:ext cx="438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&gt;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756040" y="4629240"/>
              <a:ext cx="1466280" cy="401040"/>
              <a:chOff x="5756040" y="4629240"/>
              <a:chExt cx="1466280" cy="401040"/>
            </a:xfrm>
          </p:grpSpPr>
          <p:sp>
            <p:nvSpPr>
              <p:cNvPr id="153" name=""/>
              <p:cNvSpPr/>
              <p:nvPr/>
            </p:nvSpPr>
            <p:spPr>
              <a:xfrm>
                <a:off x="7119360" y="46641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821280" y="466416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11880" y="466416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60960" y="466416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28560" y="4629240"/>
                <a:ext cx="16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35160" y="4629240"/>
                <a:ext cx="16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56040" y="466416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608120" y="4495680"/>
            <a:ext cx="6059520" cy="6480"/>
            <a:chOff x="1608120" y="4495680"/>
            <a:chExt cx="6059520" cy="6480"/>
          </a:xfrm>
        </p:grpSpPr>
        <p:sp>
          <p:nvSpPr>
            <p:cNvPr id="161" name=""/>
            <p:cNvSpPr/>
            <p:nvPr/>
          </p:nvSpPr>
          <p:spPr>
            <a:xfrm>
              <a:off x="1608120" y="4495680"/>
              <a:ext cx="200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14760" y="44956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14760" y="44956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9440" y="4495680"/>
              <a:ext cx="202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41920" y="44956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41920" y="44956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48400" y="4495680"/>
              <a:ext cx="2019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614760" y="4290840"/>
            <a:ext cx="1440" cy="9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41920" y="4290840"/>
            <a:ext cx="1800" cy="9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905120"/>
            <a:ext cx="60195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5-13T15:15:28Z</dcterms:modified>
  <cp:revision>54</cp:revision>
  <dc:subject/>
  <dc:title>No Slide Title</dc:title>
</cp:coreProperties>
</file>