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758-3A3B-439B-BCF6-94AECCB0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B5B-D4DA-4195-BE09-B36715E8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151-D50C-45F2-A063-A4FCE069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EDE-5A70-40FB-9E2C-8558BB58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ADB-E02F-4309-9953-B59A606A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00D-BEC8-4D0A-845E-1C848470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DB6-8A2D-4892-9667-077B5102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22B-1824-4B24-9D0F-B17D5380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ED2-A4BA-4946-8E56-55D9D0EA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DF3-9DA9-4DB2-987F-EAFE000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C51-0EAC-46C8-9E40-2A941DC7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C7C-8A99-4C2F-9B84-3D6D40DE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C0C7-B09E-4881-978E-C5F028236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kleinbottle.com/gauss.htm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632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imjena Poissonove rasp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300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. Poissnova raspodjela kao granični slučaj binom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vimo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∞, a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0 tako da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nst. &gt; 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071440" y="3006720"/>
            <a:ext cx="3424320" cy="525600"/>
            <a:chOff x="2071440" y="3006720"/>
            <a:chExt cx="3424320" cy="525600"/>
          </a:xfrm>
        </p:grpSpPr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2724120" y="3048120"/>
                  <a:ext cx="27716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071440" y="300672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3520" y="4495680"/>
            <a:ext cx="3460680" cy="795600"/>
            <a:chOff x="533520" y="4495680"/>
            <a:chExt cx="3460680" cy="795600"/>
          </a:xfrm>
        </p:grpSpPr>
        <p:sp>
          <p:nvSpPr>
            <p:cNvPr id="48" name=""/>
            <p:cNvSpPr/>
            <p:nvPr/>
          </p:nvSpPr>
          <p:spPr>
            <a:xfrm>
              <a:off x="533520" y="44956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aktično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752480" y="4952880"/>
                  <a:ext cx="224172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≤</m:t>
                      </m:r>
                      <m:r>
                        <m:t xml:space="preserve">0,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72120" y="1429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Funkcija rasp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066680"/>
            <a:ext cx="7696080" cy="1621080"/>
            <a:chOff x="457200" y="1066680"/>
            <a:chExt cx="7696080" cy="1621080"/>
          </a:xfrm>
        </p:grpSpPr>
        <p:sp>
          <p:nvSpPr>
            <p:cNvPr id="95" name=""/>
            <p:cNvSpPr/>
            <p:nvPr/>
          </p:nvSpPr>
          <p:spPr>
            <a:xfrm>
              <a:off x="457200" y="1066680"/>
              <a:ext cx="7696080" cy="155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kcija raspodjel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za kontinuiranu slučajnu varijablu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irana 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                                                                                  </a:t>
              </a:r>
              <a:r>
                <a:rPr b="1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971800" y="1752480"/>
                  <a:ext cx="354492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3880" y="3581280"/>
                <a:ext cx="3649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304920" y="4495680"/>
            <a:ext cx="7315200" cy="1373760"/>
            <a:chOff x="304920" y="4495680"/>
            <a:chExt cx="7315200" cy="1373760"/>
          </a:xfrm>
        </p:grpSpPr>
        <p:sp>
          <p:nvSpPr>
            <p:cNvPr id="99" name=""/>
            <p:cNvSpPr/>
            <p:nvPr/>
          </p:nvSpPr>
          <p:spPr>
            <a:xfrm>
              <a:off x="304920" y="4495680"/>
              <a:ext cx="7315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poznajemo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(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da  lako određujem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352680" y="5029200"/>
                  <a:ext cx="184644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8967960" cy="71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79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47360" y="29520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čekivanje kontinuirane slučajne varijable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8600" y="1066680"/>
            <a:ext cx="8381880" cy="2105280"/>
            <a:chOff x="228600" y="1066680"/>
            <a:chExt cx="8381880" cy="2105280"/>
          </a:xfrm>
        </p:grpSpPr>
        <p:sp>
          <p:nvSpPr>
            <p:cNvPr id="105" name=""/>
            <p:cNvSpPr/>
            <p:nvPr/>
          </p:nvSpPr>
          <p:spPr>
            <a:xfrm>
              <a:off x="228600" y="1066680"/>
              <a:ext cx="8381880" cy="21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jezina funkcija gustoće vjerojatnosti, onda 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njezino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čekivan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je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2666880" y="1981080"/>
                  <a:ext cx="3321000" cy="111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7" name=""/>
          <p:cNvGraphicFramePr/>
          <p:nvPr/>
        </p:nvGraphicFramePr>
        <p:xfrm>
          <a:off x="1905120" y="3246480"/>
          <a:ext cx="495288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46480"/>
                    <a:ext cx="495288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9160" y="27000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Očekivanje funkcije kontinuirane slučaj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1143000"/>
            <a:ext cx="8458200" cy="2654280"/>
            <a:chOff x="304920" y="1143000"/>
            <a:chExt cx="8458200" cy="2654280"/>
          </a:xfrm>
        </p:grpSpPr>
        <p:sp>
          <p:nvSpPr>
            <p:cNvPr id="111" name=""/>
            <p:cNvSpPr/>
            <p:nvPr/>
          </p:nvSpPr>
          <p:spPr>
            <a:xfrm>
              <a:off x="304920" y="1143000"/>
              <a:ext cx="8458200" cy="265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</a:t>
              </a:r>
              <a:r>
                <a:rPr b="0" i="1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jezina funkcija gustoće vjerojatnosti, 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ilo koja funkcija od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nda j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2133720" y="2362320"/>
                  <a:ext cx="4297320" cy="11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592920" y="4613400"/>
            <a:ext cx="565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linearnu funkcij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vrij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66720" y="396720"/>
            <a:ext cx="610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janca kontinuirane slučajne varij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920" y="1295280"/>
            <a:ext cx="8229600" cy="3385800"/>
            <a:chOff x="304920" y="1295280"/>
            <a:chExt cx="8229600" cy="3385800"/>
          </a:xfrm>
        </p:grpSpPr>
        <p:sp>
          <p:nvSpPr>
            <p:cNvPr id="116" name=""/>
            <p:cNvSpPr/>
            <p:nvPr/>
          </p:nvSpPr>
          <p:spPr>
            <a:xfrm>
              <a:off x="304920" y="1295280"/>
              <a:ext cx="822960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jezina funkcija gustoće vjerojatnosti, 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μ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jezino očekivan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nda 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njezin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ijanc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dana relacij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ndardna devijacij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je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2057400" y="2362320"/>
                  <a:ext cx="5746680" cy="103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μ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3809880" y="3809880"/>
                  <a:ext cx="166716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971800" y="5334120"/>
                <a:ext cx="321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838080" y="1171440"/>
          <a:ext cx="67057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71440"/>
                    <a:ext cx="67057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91240" y="650880"/>
            <a:ext cx="18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=1.94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08800" y="1295280"/>
            <a:ext cx="19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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0280" y="28954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men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14400" y="3457440"/>
                <a:ext cx="22636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343400" y="3459240"/>
                <a:ext cx="3033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9006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11520" y="1752480"/>
            <a:ext cx="5337000" cy="511200"/>
            <a:chOff x="911520" y="1752480"/>
            <a:chExt cx="5337000" cy="51120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3581280" y="1752480"/>
                  <a:ext cx="266724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911520" y="1752480"/>
              <a:ext cx="24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Linearna funkcij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920" y="380880"/>
            <a:ext cx="8381880" cy="1191240"/>
            <a:chOff x="304920" y="380880"/>
            <a:chExt cx="8381880" cy="1191240"/>
          </a:xfrm>
        </p:grpSpPr>
        <p:sp>
          <p:nvSpPr>
            <p:cNvPr id="132" name=""/>
            <p:cNvSpPr/>
            <p:nvPr/>
          </p:nvSpPr>
          <p:spPr>
            <a:xfrm>
              <a:off x="304920" y="380880"/>
              <a:ext cx="8381880" cy="119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janca funkci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1370160" y="863640"/>
                  <a:ext cx="67276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E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d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=</m:t>
                      </m:r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−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</m:d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28600" y="304920"/>
            <a:ext cx="7543800" cy="2288520"/>
            <a:chOff x="228600" y="304920"/>
            <a:chExt cx="7543800" cy="2288520"/>
          </a:xfrm>
        </p:grpSpPr>
        <p:sp>
          <p:nvSpPr>
            <p:cNvPr id="135" name=""/>
            <p:cNvSpPr/>
            <p:nvPr/>
          </p:nvSpPr>
          <p:spPr>
            <a:xfrm>
              <a:off x="228600" y="304920"/>
              <a:ext cx="7543800" cy="228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a 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niformnu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aspodjelu u intervalu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je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3048120" y="738360"/>
                  <a:ext cx="792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2590920" y="1371600"/>
                  <a:ext cx="336528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ace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38" name=""/>
          <p:cNvGraphicFramePr/>
          <p:nvPr/>
        </p:nvGraphicFramePr>
        <p:xfrm>
          <a:off x="1143000" y="2651040"/>
          <a:ext cx="5105520" cy="41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51040"/>
                    <a:ext cx="5105520" cy="41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400800" y="3200400"/>
                <a:ext cx="17892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337440" y="4394160"/>
                <a:ext cx="2070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24480" y="5486400"/>
                <a:ext cx="1917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600200" y="1125360"/>
          <a:ext cx="702792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125360"/>
                    <a:ext cx="702792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048120" y="228600"/>
                <a:ext cx="38005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955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14400" y="533520"/>
          <a:ext cx="7165800" cy="58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7165800" cy="58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009960" y="228600"/>
                <a:ext cx="38764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813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8948880" cy="72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48880" cy="72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ormalna (Gaussova) raspodje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219320"/>
            <a:ext cx="77724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mda postoje mnoge druge raspodjele, normalna raspodjela objašnjava najveći broj statističkih opaž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va primj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podjela visina odraslih lj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zultati mjerenja fizikalnih velič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994440" cy="338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87560" y="6297480"/>
            <a:ext cx="409284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kleinbottle.com/gaus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685800"/>
            <a:ext cx="80773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noštvo genetskih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i drugih čimbenik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tje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č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 nečiju visin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ki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čimbeni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čavlić u Galt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voj dasc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nač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isi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j svih tih utjeca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342900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znih čimbenika ima jako mnogo, Gaussova krivulja dobro opisuje raspodje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4311720" cy="4952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76920" y="228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odje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judskih visi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097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533520"/>
          <a:ext cx="745020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74502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7010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. Poissonova raspodjela kao zakon malih broje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7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jetki događa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2280" y="320040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nski ili prostorni interval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7360" y="4156200"/>
            <a:ext cx="730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issonovi proces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jerojatnost događaja proporcionalna je veličini interva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9144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lagođavanje empirijskih podataka Poissonovoj raspodje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6326280" cy="54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6326280" cy="54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0680" y="304920"/>
            <a:ext cx="77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Times New Roman"/>
              </a:rPr>
              <a:t>Kontinuirana raspodjela vjerojatnos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0"/>
            <a:ext cx="8458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čajna varijabl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ira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o skup njezinih mogućih vrijednosti čini cijeli interval brojeva, t.j. ako je za nek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&lt;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vak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gu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181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ji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ije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280" y="2971800"/>
          <a:ext cx="414972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971800"/>
                    <a:ext cx="414972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689360" y="2971800"/>
          <a:ext cx="4149720" cy="30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9360" y="2971800"/>
                    <a:ext cx="4149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0" y="0"/>
          <a:ext cx="4255920" cy="30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0"/>
                    <a:ext cx="425592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2280" y="-15840"/>
          <a:ext cx="4186440" cy="307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-15840"/>
                    <a:ext cx="418644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81480" y="5715000"/>
                <a:ext cx="1446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/>
                    </m:nary>
                    <m:r>
                      <m:t xml:space="preserve">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819520" y="6172200"/>
                <a:ext cx="14475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0480" y="575640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jelaz s diskretne na kontinuira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9480" y="21924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gustoće vjerojatnosti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28600" y="1143000"/>
            <a:ext cx="8610480" cy="2288520"/>
            <a:chOff x="228600" y="1143000"/>
            <a:chExt cx="8610480" cy="2288520"/>
          </a:xfrm>
        </p:grpSpPr>
        <p:sp>
          <p:nvSpPr>
            <p:cNvPr id="79" name=""/>
            <p:cNvSpPr/>
            <p:nvPr/>
          </p:nvSpPr>
          <p:spPr>
            <a:xfrm>
              <a:off x="228600" y="1143000"/>
              <a:ext cx="8610480" cy="228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eka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.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spodjela vjerojatnosti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li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kcija gustoć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jerojatnosti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jabl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je funkcij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akva da za bilo koja dva broja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ije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5715000" y="1905120"/>
                  <a:ext cx="69048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≤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2895480" y="2286000"/>
                  <a:ext cx="3044880" cy="106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"/>
          <p:cNvGrpSpPr/>
          <p:nvPr/>
        </p:nvGrpSpPr>
        <p:grpSpPr>
          <a:xfrm>
            <a:off x="457200" y="3581280"/>
            <a:ext cx="7864560" cy="1191240"/>
            <a:chOff x="457200" y="3581280"/>
            <a:chExt cx="7864560" cy="1191240"/>
          </a:xfrm>
        </p:grpSpPr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828800" y="3962520"/>
                  <a:ext cx="6904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4" name=""/>
            <p:cNvSpPr/>
            <p:nvPr/>
          </p:nvSpPr>
          <p:spPr>
            <a:xfrm>
              <a:off x="457200" y="3581280"/>
              <a:ext cx="786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iječima: Vjerojatnost d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vrijednost varijabl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bude u intervalu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na je površinom ispod funkcije gustoće vjerojatnosti u tom intervalu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57400" y="6172200"/>
                <a:ext cx="2206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120760" y="5041800"/>
                <a:ext cx="1589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12400" y="50706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je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24080" y="457200"/>
                <a:ext cx="16988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" name=""/>
          <p:cNvGraphicFramePr/>
          <p:nvPr/>
        </p:nvGraphicFramePr>
        <p:xfrm>
          <a:off x="533520" y="584280"/>
          <a:ext cx="8381880" cy="66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84280"/>
                    <a:ext cx="838188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876920" y="152280"/>
                <a:ext cx="1388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324480" y="457200"/>
                <a:ext cx="1011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7-05-07T14:18:17Z</dcterms:modified>
  <cp:revision>51</cp:revision>
  <dc:subject/>
  <dc:title>No Slide Title</dc:title>
</cp:coreProperties>
</file>