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B5F1-338A-4637-A970-93F86D7F8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2E64-DA34-4892-A517-970ACB3B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71D2-D52C-4AAE-A33E-351C6D49A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DCB5-1EB6-4906-B902-63273602E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3BF5-5627-4EE9-BAB7-0502B75D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12B9-8D0B-44F2-996D-015E14FB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98C4-3F79-4EBA-BDB6-64D71938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8F35-BA2E-43DC-8932-52C138E6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7401-DE8D-4686-A4CE-72A1603C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B180-25A5-4039-9487-6F74E0C0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F094-C1EE-4A37-A238-8C13C394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2920-D24B-4A18-99DB-CAD723A9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5495-9EA2-40A8-8D45-02385BB6F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earn-line.nrw.de/angebote/eda/medio/galton/galton.htm" TargetMode="External"/><Relationship Id="rId2" Type="http://schemas.openxmlformats.org/officeDocument/2006/relationships/hyperlink" Target="file:///gd1.exe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hyperlink" Target="http://www.uni-koeln.de/ew-fak/Mathe/Projekte/VisuPro/galton/galton.html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48520" y="228600"/>
            <a:ext cx="1944720" cy="655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0" y="990720"/>
          <a:ext cx="6183360" cy="446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90720"/>
                    <a:ext cx="6183360" cy="44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1066680" y="838080"/>
          <a:ext cx="7620120" cy="75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838080"/>
                    <a:ext cx="762012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42800" y="4267080"/>
            <a:ext cx="779616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learn-line.nrw.de/angebote/eda/medio/galton/galton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624600" y="1828800"/>
            <a:ext cx="7576920" cy="459720"/>
            <a:chOff x="624600" y="1828800"/>
            <a:chExt cx="7576920" cy="459720"/>
          </a:xfrm>
        </p:grpSpPr>
        <p:sp>
          <p:nvSpPr>
            <p:cNvPr id="83" name=""/>
            <p:cNvSpPr/>
            <p:nvPr/>
          </p:nvSpPr>
          <p:spPr>
            <a:xfrm>
              <a:off x="624600" y="1828800"/>
              <a:ext cx="4707000" cy="4597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2"/>
                </a:rPr>
                <a:t>www.phy.hr/~mpozek/SOM/gd1.ex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560920" y="1828800"/>
              <a:ext cx="26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autor: Hrvoje Mesi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905120" y="380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issonova raspodjel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28600" y="1523880"/>
            <a:ext cx="9144000" cy="3473280"/>
            <a:chOff x="228600" y="1523880"/>
            <a:chExt cx="9144000" cy="3473280"/>
          </a:xfrm>
        </p:grpSpPr>
        <p:sp>
          <p:nvSpPr>
            <p:cNvPr id="87" name=""/>
            <p:cNvSpPr/>
            <p:nvPr/>
          </p:nvSpPr>
          <p:spPr>
            <a:xfrm>
              <a:off x="228600" y="1523880"/>
              <a:ext cx="91440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: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kretna slučajna varijabla ima</a:t>
              </a:r>
              <a:r>
                <a:rPr b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hr-HR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Poissonovu raspodjelu</a:t>
              </a:r>
              <a:r>
                <a:rPr b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ko joj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e raspodjela vjerojatnosti dana 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a neki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0000"/>
                  </a:solidFill>
                  <a:latin typeface="Times New Roman"/>
                </a:rPr>
                <a:t>Poissonovu s</a:t>
              </a:r>
              <a:r>
                <a:rPr b="1" lang="hr-HR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lučajnu varijablu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značavam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" name=""/>
                <p:cNvSpPr txBox="1"/>
                <p:nvPr/>
              </p:nvSpPr>
              <p:spPr>
                <a:xfrm>
                  <a:off x="2666880" y="2742840"/>
                  <a:ext cx="4724640" cy="88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λ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λ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λ</m:t>
                              </m:r>
                            </m:e>
                            <m:sup>
                              <m:r>
                                <m:t xml:space="preserve">x</m:t>
                              </m:r>
                            </m:sup>
                          </m:sSup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,1,2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1371600" y="3733560"/>
                  <a:ext cx="762120" cy="37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4419720" y="4571640"/>
                  <a:ext cx="1600200" cy="42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rPr>
                          <m:lit/>
                          <m:nor/>
                        </m:rPr>
                        <m:t xml:space="preserve">Po</m:t>
                      </m:r>
                      <m:r>
                        <m:t xml:space="preserve">(</m:t>
                      </m:r>
                      <m:r>
                        <m:t xml:space="preserve">λ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54808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80880" y="380880"/>
          <a:ext cx="8097840" cy="581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0880"/>
                    <a:ext cx="8097840" cy="581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304920"/>
            <a:ext cx="9144000" cy="8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čekivanje i varijan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895480" y="1219320"/>
                <a:ext cx="12207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895480" y="2133720"/>
                <a:ext cx="18795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895480" y="4038480"/>
                <a:ext cx="120492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895480" y="3124080"/>
                <a:ext cx="3108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304920"/>
            <a:ext cx="9144000" cy="8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kurzivna formula</a:t>
            </a:r>
            <a:r>
              <a:rPr b="0" lang="hr-H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438280" y="1143000"/>
                <a:ext cx="28162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457200" y="2438280"/>
            <a:ext cx="91440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ajvjerojatnija vrijedno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438280" y="3505320"/>
                <a:ext cx="173520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3" name=""/>
          <p:cNvGrpSpPr/>
          <p:nvPr/>
        </p:nvGrpSpPr>
        <p:grpSpPr>
          <a:xfrm>
            <a:off x="228600" y="4343400"/>
            <a:ext cx="9144000" cy="1617840"/>
            <a:chOff x="228600" y="4343400"/>
            <a:chExt cx="9144000" cy="1617840"/>
          </a:xfrm>
        </p:grpSpPr>
        <p:sp>
          <p:nvSpPr>
            <p:cNvPr id="104" name=""/>
            <p:cNvSpPr/>
            <p:nvPr/>
          </p:nvSpPr>
          <p:spPr>
            <a:xfrm>
              <a:off x="228600" y="4343400"/>
              <a:ext cx="914400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Funkcija raspodje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2971800" y="5105520"/>
                  <a:ext cx="2343240" cy="85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λ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x</m:t>
                          </m:r>
                        </m:sup>
                        <m:e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λ</m:t>
                              </m:r>
                            </m:sup>
                          </m:sSup>
                          <m:f>
                            <m:num>
                              <m:sSup>
                                <m:e>
                                  <m:r>
                                    <m:t xml:space="preserve">λ</m:t>
                                  </m:r>
                                </m:e>
                                <m:sup>
                                  <m:r>
                                    <m:t xml:space="preserve">y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y</m:t>
                              </m:r>
                              <m:r>
                                <m:t xml:space="preserve">!</m:t>
                              </m:r>
                            </m:den>
                          </m:f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380880"/>
            <a:ext cx="632448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rimjena Poissonove raspodj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1143000"/>
            <a:ext cx="7391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. Poissnova raspodjela kao granični slučaj binom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9810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stavimo 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∞, a 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0 tako da 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const. &gt; 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071440" y="3006720"/>
            <a:ext cx="3424320" cy="525600"/>
            <a:chOff x="2071440" y="3006720"/>
            <a:chExt cx="3424320" cy="525600"/>
          </a:xfrm>
        </p:grpSpPr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2724120" y="3048120"/>
                  <a:ext cx="2771640" cy="48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n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lim>
                      </m:limLow>
                      <m:r>
                        <m:t xml:space="preserve"> </m:t>
                      </m:r>
                      <m:r>
                        <m:t xml:space="preserve">b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n</m:t>
                      </m:r>
                      <m:r>
                        <m:t xml:space="preserve">,</m:t>
                      </m:r>
                      <m:r>
                        <m:t xml:space="preserve">p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λ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1" name=""/>
            <p:cNvSpPr/>
            <p:nvPr/>
          </p:nvSpPr>
          <p:spPr>
            <a:xfrm>
              <a:off x="2071440" y="3006720"/>
              <a:ext cx="50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33520" y="4495680"/>
            <a:ext cx="3460680" cy="795600"/>
            <a:chOff x="533520" y="4495680"/>
            <a:chExt cx="3460680" cy="795600"/>
          </a:xfrm>
        </p:grpSpPr>
        <p:sp>
          <p:nvSpPr>
            <p:cNvPr id="113" name=""/>
            <p:cNvSpPr/>
            <p:nvPr/>
          </p:nvSpPr>
          <p:spPr>
            <a:xfrm>
              <a:off x="533520" y="4495680"/>
              <a:ext cx="2590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aktično: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1752480" y="4952880"/>
                  <a:ext cx="2241720" cy="33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≥</m:t>
                      </m:r>
                      <m:r>
                        <m:rPr>
                          <m:lit/>
                          <m:nor/>
                        </m:rPr>
                        <m:t xml:space="preserve">50</m:t>
                      </m:r>
                      <m:r>
                        <m:t xml:space="preserve"> 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r>
                        <m:t xml:space="preserve">p</m:t>
                      </m:r>
                      <m:r>
                        <m:t xml:space="preserve">≤</m:t>
                      </m:r>
                      <m:r>
                        <m:t xml:space="preserve">0,1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87960" y="425520"/>
            <a:ext cx="384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0000"/>
                </a:solidFill>
                <a:latin typeface="Times New Roman"/>
              </a:rPr>
              <a:t>Binomna raspodje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838080" y="1371600"/>
          <a:ext cx="5486400" cy="57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71600"/>
                    <a:ext cx="548640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609480" y="2666880"/>
          <a:ext cx="7963200" cy="3657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666880"/>
                    <a:ext cx="79632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85800" y="1143000"/>
          <a:ext cx="3627360" cy="472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143000"/>
                    <a:ext cx="3627360" cy="472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5029200" y="990720"/>
          <a:ext cx="3490920" cy="4713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990720"/>
                    <a:ext cx="3490920" cy="47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2193840" y="193680"/>
            <a:ext cx="38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altonova dask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F. Galt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2880" y="6145200"/>
            <a:ext cx="7956000" cy="3988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http://www.uni-koeln.de/ew-fak/Mathe/Projekte/VisuPro/galton/galton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85800" y="228600"/>
          <a:ext cx="7810560" cy="403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8600"/>
                    <a:ext cx="781056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609480" y="4114800"/>
          <a:ext cx="7753320" cy="2457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114800"/>
                    <a:ext cx="7753320" cy="24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-8524800" y="1523880"/>
          <a:ext cx="25822080" cy="458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524800" y="1523880"/>
                    <a:ext cx="25822080" cy="45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066680" y="533520"/>
                <a:ext cx="693432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roj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shoda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oji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maju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uspjeha</m:t>
                              </m:r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jerojatnost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vakog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takvog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shoda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x</m:t>
                        </m:r>
                      </m:sup>
                    </m:sSubSup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62" name=""/>
          <p:cNvGraphicFramePr/>
          <p:nvPr/>
        </p:nvGraphicFramePr>
        <p:xfrm>
          <a:off x="914400" y="2990880"/>
          <a:ext cx="6705720" cy="222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990880"/>
                    <a:ext cx="670572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914400" y="762120"/>
          <a:ext cx="5486400" cy="97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762120"/>
                    <a:ext cx="548640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1676520" y="2133720"/>
          <a:ext cx="5486400" cy="1143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4864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219320" y="1066680"/>
          <a:ext cx="5486400" cy="34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066680"/>
                    <a:ext cx="548640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981080" y="1509840"/>
                <a:ext cx="396252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1" name=""/>
          <p:cNvGraphicFramePr/>
          <p:nvPr/>
        </p:nvGraphicFramePr>
        <p:xfrm>
          <a:off x="762120" y="3048120"/>
          <a:ext cx="7943760" cy="1752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048120"/>
                    <a:ext cx="794376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1219320" y="5334120"/>
          <a:ext cx="5486400" cy="3618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5334120"/>
                    <a:ext cx="548640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066680" y="457200"/>
          <a:ext cx="5486400" cy="39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57200"/>
                    <a:ext cx="548640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666880" y="1676520"/>
                <a:ext cx="221004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666880" y="3809880"/>
                <a:ext cx="243864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p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3T08:39:05Z</dcterms:created>
  <dc:creator>PMFX</dc:creator>
  <dc:description/>
  <dc:language>en-US</dc:language>
  <cp:lastModifiedBy>Miroslav Požek</cp:lastModifiedBy>
  <dcterms:modified xsi:type="dcterms:W3CDTF">2007-05-05T21:10:55Z</dcterms:modified>
  <cp:revision>48</cp:revision>
  <dc:subject/>
  <dc:title>No Slide Title</dc:title>
</cp:coreProperties>
</file>