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6919-D944-46E3-8E7B-57657592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14C-31BB-4D60-9D0B-7A7F5111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40CA-6BCE-43CF-ACC1-01B4A988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91B-3597-485A-AFA6-8007DAF5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17D-5C02-432B-832F-9A94BFBC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7E5-19F9-405A-95D7-5F2048A7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863-DFEC-4B3C-928B-D8BB8752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D6F-AF19-4AF8-A2AA-67D7AA12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2426-1636-43E6-A060-0FAE6432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7675-A94F-4C72-BA95-D9C94696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D28-C2A9-4417-BA1A-F508A0FB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F37-4F82-4AEA-9341-CAC09FD8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3074-CF98-4D78-B14F-6A50C5C48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10400" cy="666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3600" y="68580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rup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94720" y="371520"/>
            <a:ext cx="77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Očekivana vrijednost diskretne slučajne varij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96880" y="2197080"/>
          <a:ext cx="8394840" cy="24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2197080"/>
                    <a:ext cx="8394840" cy="24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685800" y="1219320"/>
          <a:ext cx="7569360" cy="52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5693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22416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048120" y="228600"/>
                <a:ext cx="26953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00240" y="422280"/>
            <a:ext cx="51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Times New Roman"/>
              </a:rPr>
              <a:t>Očekivanje funkcije slučajne varij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90720" y="1447920"/>
          <a:ext cx="7785000" cy="135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778500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346040" y="3683160"/>
          <a:ext cx="5486400" cy="27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6040" y="3683160"/>
                    <a:ext cx="5486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752480" y="4248000"/>
          <a:ext cx="2438640" cy="10954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248000"/>
                    <a:ext cx="24386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219320" y="5791320"/>
          <a:ext cx="5651280" cy="6350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5791320"/>
                    <a:ext cx="56512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33160" y="523800"/>
            <a:ext cx="59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janca diskretne slučajne varij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666880" y="1066680"/>
          <a:ext cx="413856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066680"/>
                    <a:ext cx="41385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80880" y="457200"/>
          <a:ext cx="834408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44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066680" y="4702320"/>
          <a:ext cx="7315200" cy="116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702320"/>
                    <a:ext cx="731520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438280" y="304920"/>
          <a:ext cx="4543560" cy="63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04920"/>
                    <a:ext cx="4543560" cy="63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77280" y="2700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rijanca funkcije slučajne varij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1679400"/>
          <a:ext cx="7315200" cy="77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9400"/>
                    <a:ext cx="73152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219320" y="3733920"/>
          <a:ext cx="5486400" cy="2152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733920"/>
                    <a:ext cx="54864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33520" y="523800"/>
            <a:ext cx="31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menti višeg r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914400"/>
          <a:ext cx="4174920" cy="59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417492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495680" y="990720"/>
          <a:ext cx="4175280" cy="591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990720"/>
                    <a:ext cx="4175280" cy="59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009800" y="685800"/>
          <a:ext cx="7238880" cy="167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685800"/>
                    <a:ext cx="7238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990720" y="2590920"/>
          <a:ext cx="7524720" cy="1790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590920"/>
                    <a:ext cx="752472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95280" y="4952880"/>
                <a:ext cx="22370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359000" y="5384880"/>
                <a:ext cx="1216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876920" y="5334120"/>
                <a:ext cx="24667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359000" y="5818320"/>
                <a:ext cx="2827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66680" y="838080"/>
                <a:ext cx="28879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828800" y="2590920"/>
                <a:ext cx="388620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b>
                        </m:sSub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33"/>
                </a:solidFill>
                <a:latin typeface="Times New Roman"/>
              </a:rPr>
              <a:t>S</a:t>
            </a:r>
            <a:r>
              <a:rPr b="0" lang="en-AU" sz="4400" spc="-1" strike="noStrike">
                <a:solidFill>
                  <a:srgbClr val="660033"/>
                </a:solidFill>
                <a:latin typeface="Times New Roman"/>
              </a:rPr>
              <a:t>lučajna varij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85800" y="685800"/>
          <a:ext cx="5486400" cy="51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54864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09480" y="1523880"/>
          <a:ext cx="5905800" cy="1467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523880"/>
                    <a:ext cx="590580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143000" y="4038480"/>
          <a:ext cx="5695920" cy="1447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038480"/>
                    <a:ext cx="5695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85800" y="685800"/>
          <a:ext cx="5486400" cy="36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5486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85800" y="1828800"/>
          <a:ext cx="5486400" cy="1123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828800"/>
                    <a:ext cx="54864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295280" y="3962520"/>
          <a:ext cx="5486400" cy="1104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962520"/>
                    <a:ext cx="54864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-14400" y="457200"/>
          <a:ext cx="4494240" cy="64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457200"/>
                    <a:ext cx="449424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074600" y="838080"/>
            <a:ext cx="7858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8280" y="4876920"/>
            <a:ext cx="126900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-0,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495680" y="533520"/>
          <a:ext cx="4497480" cy="636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533520"/>
                    <a:ext cx="4497480" cy="63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494320" y="762120"/>
            <a:ext cx="116676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2,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94320" y="2819520"/>
            <a:ext cx="7858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8000" y="4876920"/>
            <a:ext cx="116676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4,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8640" y="2743200"/>
            <a:ext cx="116676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0,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839160" y="3276720"/>
            <a:ext cx="2910600" cy="1713600"/>
            <a:chOff x="839160" y="3276720"/>
            <a:chExt cx="2910600" cy="1713600"/>
          </a:xfrm>
        </p:grpSpPr>
        <p:sp>
          <p:nvSpPr>
            <p:cNvPr id="45" name=""/>
            <p:cNvSpPr/>
            <p:nvPr/>
          </p:nvSpPr>
          <p:spPr>
            <a:xfrm>
              <a:off x="853920" y="3276720"/>
              <a:ext cx="2895840" cy="167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11320" y="441972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87440" y="426708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20960" y="36576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49560" y="449568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35360" y="3962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9160" y="45306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435560" y="4232160"/>
            <a:ext cx="3962160" cy="464040"/>
            <a:chOff x="4435560" y="4232160"/>
            <a:chExt cx="3962160" cy="464040"/>
          </a:xfrm>
        </p:grpSpPr>
        <p:sp>
          <p:nvSpPr>
            <p:cNvPr id="53" name=""/>
            <p:cNvSpPr/>
            <p:nvPr/>
          </p:nvSpPr>
          <p:spPr>
            <a:xfrm>
              <a:off x="4435560" y="426708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59440" y="423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19800" y="423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00520" y="423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80160" y="423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49960" y="4267080"/>
              <a:ext cx="1465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-1   0   1   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0840" y="4267080"/>
              <a:ext cx="3240" cy="3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11720" y="4267080"/>
              <a:ext cx="3240" cy="3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92960" y="4267080"/>
              <a:ext cx="2880" cy="3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45240" y="4267080"/>
              <a:ext cx="3240" cy="3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" name=""/>
          <p:cNvCxnSpPr>
            <a:stCxn id="48" idx="0"/>
            <a:endCxn id="61" idx="1"/>
          </p:cNvCxnSpPr>
          <p:nvPr/>
        </p:nvCxnSpPr>
        <p:spPr>
          <a:xfrm flipH="1" rot="16200000">
            <a:off x="3920040" y="1693440"/>
            <a:ext cx="610200" cy="4536360"/>
          </a:xfrm>
          <a:prstGeom prst="curvedConnector5">
            <a:avLst>
              <a:gd name="adj1" fmla="val -37485"/>
              <a:gd name="adj2" fmla="val 50000"/>
              <a:gd name="adj3" fmla="val -374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7"/>
            <a:endCxn id="60" idx="7"/>
          </p:cNvCxnSpPr>
          <p:nvPr/>
        </p:nvCxnSpPr>
        <p:spPr>
          <a:xfrm flipH="1" flipV="1" rot="5400000">
            <a:off x="3775680" y="1938600"/>
            <a:ext cx="11880" cy="4667760"/>
          </a:xfrm>
          <a:prstGeom prst="curvedConnector5">
            <a:avLst>
              <a:gd name="adj1" fmla="val 15012500"/>
              <a:gd name="adj2" fmla="val 49996"/>
              <a:gd name="adj3" fmla="val 150125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6"/>
            <a:endCxn id="59" idx="7"/>
          </p:cNvCxnSpPr>
          <p:nvPr/>
        </p:nvCxnSpPr>
        <p:spPr>
          <a:xfrm flipV="1">
            <a:off x="2220480" y="4266360"/>
            <a:ext cx="3513960" cy="266040"/>
          </a:xfrm>
          <a:prstGeom prst="curvedConnector5">
            <a:avLst>
              <a:gd name="adj1" fmla="val 49928"/>
              <a:gd name="adj2" fmla="val 89159"/>
              <a:gd name="adj3" fmla="val 49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0" idx="0"/>
            <a:endCxn id="60" idx="1"/>
          </p:cNvCxnSpPr>
          <p:nvPr/>
        </p:nvCxnSpPr>
        <p:spPr>
          <a:xfrm flipH="1" rot="16200000">
            <a:off x="4339440" y="2494440"/>
            <a:ext cx="305280" cy="3240720"/>
          </a:xfrm>
          <a:prstGeom prst="curvedConnector5">
            <a:avLst>
              <a:gd name="adj1" fmla="val -74970"/>
              <a:gd name="adj2" fmla="val 49994"/>
              <a:gd name="adj3" fmla="val -74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46" idx="7"/>
            <a:endCxn id="62" idx="1"/>
          </p:cNvCxnSpPr>
          <p:nvPr/>
        </p:nvCxnSpPr>
        <p:spPr>
          <a:xfrm flipH="1" flipV="1" rot="5400000">
            <a:off x="4726440" y="2511720"/>
            <a:ext cx="164520" cy="3674160"/>
          </a:xfrm>
          <a:prstGeom prst="curvedConnector5">
            <a:avLst>
              <a:gd name="adj1" fmla="val 856140"/>
              <a:gd name="adj2" fmla="val 49995"/>
              <a:gd name="adj3" fmla="val 8561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68" name=""/>
          <p:cNvGraphicFramePr/>
          <p:nvPr/>
        </p:nvGraphicFramePr>
        <p:xfrm>
          <a:off x="1066680" y="5715000"/>
          <a:ext cx="7658280" cy="59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715000"/>
                    <a:ext cx="76582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0" y="0"/>
          <a:ext cx="8867880" cy="2530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886788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1447920"/>
            <a:ext cx="655308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ogađaj koji ima samo dva moguća ishoda zove se </a:t>
            </a:r>
            <a:r>
              <a:rPr b="1" lang="hr-HR" sz="2400" spc="-1" strike="noStrike">
                <a:solidFill>
                  <a:srgbClr val="ff0000"/>
                </a:solidFill>
                <a:latin typeface="Times New Roman"/>
              </a:rPr>
              <a:t>Bernoullijev događa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a slučajna varijabla koja ga opisuje zove se </a:t>
            </a:r>
            <a:r>
              <a:rPr b="1" lang="hr-HR" sz="2400" spc="-1" strike="noStrike">
                <a:solidFill>
                  <a:srgbClr val="ff0000"/>
                </a:solidFill>
                <a:latin typeface="Times New Roman"/>
              </a:rPr>
              <a:t>Bernoullijeva slučajna varijabl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35040" y="3213000"/>
          <a:ext cx="8318520" cy="24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3213000"/>
                    <a:ext cx="8318520" cy="24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33"/>
                </a:solidFill>
                <a:latin typeface="Times New Roman"/>
              </a:rPr>
              <a:t>Diskretna slučajna varijabla i raspodjela vjerojat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85800" y="1066680"/>
          <a:ext cx="736596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3659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762120" y="4495680"/>
          <a:ext cx="5486400" cy="27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495680"/>
                    <a:ext cx="5486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762120" y="5410080"/>
          <a:ext cx="5486400" cy="279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410080"/>
                    <a:ext cx="5486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55400" y="228600"/>
            <a:ext cx="36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aspodjela vjeroja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664240" y="4648320"/>
                <a:ext cx="14479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5840" y="262080"/>
          <a:ext cx="9110520" cy="63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262080"/>
                    <a:ext cx="9110520" cy="63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4800" y="152280"/>
            <a:ext cx="802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kcija raspodjele (kumulativna funkcija distribuci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9640" y="995400"/>
          <a:ext cx="8259840" cy="211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95400"/>
                    <a:ext cx="825984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57200" y="3657600"/>
          <a:ext cx="5486400" cy="380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5486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09480" y="4724280"/>
          <a:ext cx="8331480" cy="1447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724280"/>
                    <a:ext cx="83314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285840"/>
          <a:ext cx="9144000" cy="62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5840"/>
                    <a:ext cx="914400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7-04-24T14:12:25Z</dcterms:modified>
  <cp:revision>41</cp:revision>
  <dc:subject/>
  <dc:title>No Slide Title</dc:title>
</cp:coreProperties>
</file>