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07E-1FFD-4995-B181-B82CB47D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9267-E540-4121-B617-6819E440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D950-1C1A-4355-B248-F35253D0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3562-6E2F-4B1B-B338-B52BBC0F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FC5-3E4C-4FD5-8B67-DCB9A246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B2E-85A2-4219-9C79-082B4FA5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84A2-6AFC-4E84-A687-84D0B5D9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7083-A051-4910-8BA2-D020A3BD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85FA-45A7-4608-9E3A-287318AC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B977-994E-420C-966D-8DF69953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8CEE-3DD2-472A-ADF1-F96A34A6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448-405B-4E56-89F3-041A4076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A222-602A-4C55-833D-F036612DB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228600"/>
          <a:ext cx="6019920" cy="235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8600"/>
                    <a:ext cx="601992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447920" y="2133720"/>
          <a:ext cx="6248160" cy="2385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133720"/>
                    <a:ext cx="624816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886200" y="4495680"/>
                <a:ext cx="14479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6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4572000" y="1523880"/>
            <a:ext cx="0" cy="457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657600"/>
            <a:ext cx="855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Pokazali smo da postoji bijekcija između skupa svih kombinacija s ponavljanjem 3. razreda od 4 elementa i kombinacija bez ponavljanja 3. razreda od 6 elemena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719080" y="5343480"/>
            <a:ext cx="3746880" cy="1191240"/>
            <a:chOff x="2719080" y="5343480"/>
            <a:chExt cx="3746880" cy="1191240"/>
          </a:xfrm>
        </p:grpSpPr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4156200" y="5571720"/>
                  <a:ext cx="2235240" cy="70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719080" y="5343480"/>
              <a:ext cx="3746880" cy="119124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Općenito: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676520" y="1143000"/>
          <a:ext cx="5349600" cy="147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143000"/>
                    <a:ext cx="534960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276720" y="3232080"/>
                <a:ext cx="16700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t xml:space="preserve">9,4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057400" y="4724280"/>
                <a:ext cx="51055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20800" y="141300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imj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Times New Roman"/>
              </a:rPr>
              <a:t>Uvjetna vjerojatn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1295280"/>
          <a:ext cx="7620120" cy="13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762012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57200" y="2895480"/>
          <a:ext cx="3809880" cy="2463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895480"/>
                    <a:ext cx="380988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648320" y="2871720"/>
          <a:ext cx="3925800" cy="2538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871720"/>
                    <a:ext cx="392580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200400" y="5632560"/>
                <a:ext cx="20574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70880" y="33012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tpun sistem događ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3520" y="1295280"/>
          <a:ext cx="817884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81788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286000" y="3505320"/>
          <a:ext cx="4154400" cy="2687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505320"/>
                    <a:ext cx="41544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0320" y="254160"/>
            <a:ext cx="40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Times New Roman"/>
              </a:rPr>
              <a:t>Zakon totalne vjeroja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3520" y="990720"/>
          <a:ext cx="7213320" cy="173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721332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286000" y="3276720"/>
          <a:ext cx="4419720" cy="2859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276720"/>
                    <a:ext cx="441972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966320" y="600120"/>
            <a:ext cx="24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yesov t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2133720"/>
          <a:ext cx="5486400" cy="201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548640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96000" y="25416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zavis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3520" y="1066680"/>
          <a:ext cx="7480080" cy="151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748008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09480" y="2895480"/>
          <a:ext cx="4927680" cy="851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895480"/>
                    <a:ext cx="49276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762120" y="3657600"/>
          <a:ext cx="7441920" cy="1536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657600"/>
                    <a:ext cx="744192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745200" y="5627520"/>
            <a:ext cx="725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cc0000"/>
                </a:solidFill>
                <a:latin typeface="Times New Roman"/>
              </a:rPr>
              <a:t>OPREZ!</a:t>
            </a:r>
            <a:r>
              <a:rPr b="0" lang="en-AU" sz="2200" spc="-1" strike="noStrike">
                <a:solidFill>
                  <a:srgbClr val="000000"/>
                </a:solidFill>
                <a:latin typeface="Times New Roman"/>
              </a:rPr>
              <a:t> Događaji koji se međusobno isključuju nisu nezavis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5T21:29:55Z</dcterms:created>
  <dc:creator>miro</dc:creator>
  <dc:description/>
  <dc:language>en-US</dc:language>
  <cp:lastModifiedBy>Miroslav Požek</cp:lastModifiedBy>
  <cp:lastPrinted>2001-10-08T06:24:57Z</cp:lastPrinted>
  <dcterms:modified xsi:type="dcterms:W3CDTF">2007-04-06T16:46:05Z</dcterms:modified>
  <cp:revision>41</cp:revision>
  <dc:subject/>
  <dc:title>No Slide Title</dc:title>
</cp:coreProperties>
</file>