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embeddings/oleObject4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28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786563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B1D5-3282-4D19-AB24-D9D2F2E1F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530D-9399-4150-ADAB-4EA1CAD41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2030-97A7-495E-A16C-D2EBABA47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26B5-19B4-4232-A1A0-395FEECF4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021A-41F9-4FC6-80FF-855851AB6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6031-02DB-4DA1-A411-0D76C4202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CF65-EAFD-4D0A-A893-9E1A3D180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94AB-EDC9-482F-BB62-6DD8AE90C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7179-EAF9-4306-ADF0-AB1AD2431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4F26-097C-422A-8411-6C76BAFA7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43B9-FC95-4C72-8095-5BE55D08B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C6CB-BB42-48E4-9935-97C30926F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C1213-9A52-4599-B84E-871FC49159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3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3.wmf"/><Relationship Id="rId7" Type="http://schemas.openxmlformats.org/officeDocument/2006/relationships/package" Target="../embeddings/oleObject4.docx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9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2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9320" y="0"/>
            <a:ext cx="695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a50021"/>
                </a:solidFill>
                <a:latin typeface="Times New Roman"/>
              </a:rPr>
              <a:t>Aksiomatsko zasnivanje teorije vjeroja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11640" y="457200"/>
            <a:ext cx="229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A. N. Kolmogorov, 1933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17080" y="990720"/>
            <a:ext cx="7589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0" lang="hr-HR" sz="2200" spc="-1" strike="noStrike">
                <a:solidFill>
                  <a:srgbClr val="000000"/>
                </a:solidFill>
                <a:latin typeface="Times New Roman"/>
              </a:rPr>
              <a:t>znajemo li prostor elementarnih događaja </a:t>
            </a:r>
            <a:r>
              <a:rPr b="0" lang="hr-HR" sz="2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hr-HR" sz="2200" spc="-1" strike="noStrike">
                <a:solidFill>
                  <a:srgbClr val="000000"/>
                </a:solidFill>
                <a:latin typeface="Times New Roman"/>
              </a:rPr>
              <a:t>  za neki pokus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Times New Roman"/>
              </a:rPr>
              <a:t>svrha teorije vjerojatnosti je da svakom događaju </a:t>
            </a:r>
            <a:r>
              <a:rPr b="0" i="1" lang="hr-HR" sz="2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hr-HR" sz="2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i="1" lang="hr-HR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r-HR" sz="2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hr-HR" sz="2200" spc="-1" strike="noStrike">
                <a:solidFill>
                  <a:srgbClr val="000000"/>
                </a:solidFill>
                <a:latin typeface="Times New Roman"/>
              </a:rPr>
              <a:t>  pridruži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Times New Roman"/>
              </a:rPr>
              <a:t>broj </a:t>
            </a:r>
            <a:r>
              <a:rPr b="0" i="1" lang="hr-HR" sz="2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hr-HR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hr-HR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hr-HR" sz="2200" spc="-1" strike="noStrike">
                <a:solidFill>
                  <a:srgbClr val="000000"/>
                </a:solidFill>
                <a:latin typeface="Times New Roman"/>
              </a:rPr>
              <a:t>) koji će biti precizna mjera šanse da se </a:t>
            </a:r>
            <a:r>
              <a:rPr b="0" i="1" lang="hr-HR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hr-HR" sz="2200" spc="-1" strike="noStrike">
                <a:solidFill>
                  <a:srgbClr val="000000"/>
                </a:solidFill>
                <a:latin typeface="Times New Roman"/>
              </a:rPr>
              <a:t> ostvari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200" spc="-1" strike="noStrike">
                <a:solidFill>
                  <a:srgbClr val="000000"/>
                </a:solidFill>
                <a:latin typeface="Times New Roman"/>
              </a:rPr>
              <a:t>Svako takvo pridruživanje mora zadovoljavati sljedeće aksiom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63520" y="2438280"/>
            <a:ext cx="512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1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Za svaki događaj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vrijedi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5280" y="2895480"/>
            <a:ext cx="180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2.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hr-HR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hr-HR" sz="2400" spc="-1" strike="noStrike">
                <a:solidFill>
                  <a:srgbClr val="000000"/>
                </a:solidFill>
                <a:latin typeface="Times New Roman"/>
              </a:rPr>
              <a:t>) 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312480" y="3352680"/>
            <a:ext cx="8893080" cy="1752480"/>
            <a:chOff x="312480" y="3352680"/>
            <a:chExt cx="8893080" cy="1752480"/>
          </a:xfrm>
        </p:grpSpPr>
        <p:sp>
          <p:nvSpPr>
            <p:cNvPr id="47" name=""/>
            <p:cNvSpPr/>
            <p:nvPr/>
          </p:nvSpPr>
          <p:spPr>
            <a:xfrm>
              <a:off x="312480" y="3352680"/>
              <a:ext cx="889308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A3. 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a)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Ako se konačan broj događaja </a:t>
              </a:r>
              <a:r>
                <a:rPr b="0" i="1" lang="hr-HR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hr-HR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hr-HR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hr-HR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,...</a:t>
              </a:r>
              <a:r>
                <a:rPr b="0" i="1" lang="hr-HR" sz="2400" spc="-1" strike="noStrike">
                  <a:solidFill>
                    <a:srgbClr val="000000"/>
                  </a:solidFill>
                  <a:latin typeface="Times New Roman"/>
                </a:rPr>
                <a:t> A</a:t>
              </a:r>
              <a:r>
                <a:rPr b="0" i="1" lang="hr-HR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 međusobno isključuj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(tj. ako su u parovima disjunktni), vrijedi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8" name=""/>
                <p:cNvSpPr txBox="1"/>
                <p:nvPr/>
              </p:nvSpPr>
              <p:spPr>
                <a:xfrm>
                  <a:off x="2447640" y="4073400"/>
                  <a:ext cx="4051440" cy="1031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∪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∪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∪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e>
                      </m:d>
                      <m:r>
                        <m:t xml:space="preserve">=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P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d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9" name=""/>
          <p:cNvGrpSpPr/>
          <p:nvPr/>
        </p:nvGrpSpPr>
        <p:grpSpPr>
          <a:xfrm>
            <a:off x="770760" y="4952880"/>
            <a:ext cx="7119720" cy="1768680"/>
            <a:chOff x="770760" y="4952880"/>
            <a:chExt cx="7119720" cy="1768680"/>
          </a:xfrm>
        </p:grpSpPr>
        <p:sp>
          <p:nvSpPr>
            <p:cNvPr id="50" name=""/>
            <p:cNvSpPr/>
            <p:nvPr/>
          </p:nvSpPr>
          <p:spPr>
            <a:xfrm>
              <a:off x="770760" y="4952880"/>
              <a:ext cx="7119720" cy="124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b) Ako se prebrojivo beskonačan broj događaja </a:t>
              </a:r>
              <a:r>
                <a:rPr b="0" i="1" lang="hr-HR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hr-HR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hr-HR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hr-HR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,...</a:t>
              </a:r>
              <a:r>
                <a:rPr b="0" i="1" lang="hr-HR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r-HR" sz="2400" spc="-1" strike="noStrike">
                  <a:solidFill>
                    <a:srgbClr val="000000"/>
                  </a:solidFill>
                  <a:latin typeface="Times New Roman"/>
                </a:rPr>
                <a:t>međusobno isključuje, vrijedi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1" name=""/>
                <p:cNvSpPr txBox="1"/>
                <p:nvPr/>
              </p:nvSpPr>
              <p:spPr>
                <a:xfrm>
                  <a:off x="2438280" y="5562720"/>
                  <a:ext cx="3797280" cy="1158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∪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∪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</m:d>
                      <m:r>
                        <m:t xml:space="preserve">=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∞</m:t>
                          </m:r>
                        </m:sup>
                        <m:e>
                          <m:r>
                            <m:t xml:space="preserve">P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</m:e>
                          </m:d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762120" y="533520"/>
          <a:ext cx="5486400" cy="342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533520"/>
                    <a:ext cx="5486400" cy="34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1219320" y="1600200"/>
          <a:ext cx="5486400" cy="3618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9320" y="1600200"/>
                    <a:ext cx="5486400" cy="36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2362320" y="3809880"/>
                <a:ext cx="3720960" cy="12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n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i</m:t>
                                  </m:r>
                                </m:e>
                              </m:mr>
                            </m:m>
                          </m:e>
                        </m:d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i</m:t>
                            </m:r>
                          </m:sup>
                        </m:sSup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i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762120" y="533520"/>
          <a:ext cx="5486400" cy="533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533520"/>
                    <a:ext cx="548640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228600" y="1752480"/>
          <a:ext cx="8153280" cy="31244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752480"/>
                    <a:ext cx="8153280" cy="31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533520" y="457200"/>
          <a:ext cx="5486400" cy="609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57200"/>
                    <a:ext cx="548640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380880" y="1371600"/>
          <a:ext cx="8305920" cy="25527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1371600"/>
                    <a:ext cx="8305920" cy="255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457200" y="609480"/>
          <a:ext cx="5486400" cy="552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609480"/>
                    <a:ext cx="5486400" cy="5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304920" y="1295280"/>
          <a:ext cx="8134200" cy="32767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1295280"/>
                    <a:ext cx="8134200" cy="32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990720" y="609480"/>
          <a:ext cx="7143480" cy="2800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609480"/>
                    <a:ext cx="7143480" cy="280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990720" y="3200400"/>
          <a:ext cx="7334280" cy="28004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0720" y="3200400"/>
                    <a:ext cx="7334280" cy="280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3124080" y="5105520"/>
                <a:ext cx="2667240" cy="12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K</m:t>
                            </m:r>
                          </m:e>
                        </m:acc>
                      </m:e>
                      <m:sub>
                        <m:r>
                          <m:t xml:space="preserve">4</m:t>
                        </m:r>
                      </m:sub>
                      <m:sup>
                        <m:r>
                          <m:t xml:space="preserve">3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6</m:t>
                        </m:r>
                      </m:sub>
                      <m:sup>
                        <m:r>
                          <m:t xml:space="preserve">3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93640" y="295200"/>
            <a:ext cx="36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a50021"/>
                </a:solidFill>
                <a:uFillTx/>
                <a:latin typeface="Times New Roman"/>
              </a:rPr>
              <a:t>Svojstva vjerojatnost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0" y="1066680"/>
          <a:ext cx="9144000" cy="432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66680"/>
                    <a:ext cx="914400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0" y="2133720"/>
          <a:ext cx="9144000" cy="3888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2133720"/>
                    <a:ext cx="914400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0" y="3048120"/>
          <a:ext cx="9144000" cy="62856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3048120"/>
                    <a:ext cx="9144000" cy="62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38160" y="4343400"/>
          <a:ext cx="9486720" cy="192420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8160" y="4343400"/>
                    <a:ext cx="9486720" cy="19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>
            <a:hlinkClick r:id="" action="ppaction://hlinkshowjump?jump=nextslide"/>
          </p:cNvPr>
          <p:cNvSpPr/>
          <p:nvPr/>
        </p:nvSpPr>
        <p:spPr>
          <a:xfrm>
            <a:off x="8534520" y="3962520"/>
            <a:ext cx="36360" cy="36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70320" y="219240"/>
            <a:ext cx="550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a50021"/>
                </a:solidFill>
                <a:latin typeface="Times New Roman"/>
              </a:rPr>
              <a:t>Sustavno određivanje vjeroja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266760" y="1523880"/>
          <a:ext cx="8343720" cy="403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760" y="1523880"/>
                    <a:ext cx="8343720" cy="403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593640" y="345960"/>
            <a:ext cx="350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 u="sng">
                <a:solidFill>
                  <a:srgbClr val="a50021"/>
                </a:solidFill>
                <a:uFillTx/>
                <a:latin typeface="Times New Roman"/>
              </a:rPr>
              <a:t>Jednako vjerojatni isho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685800" y="990720"/>
          <a:ext cx="5486400" cy="1352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990720"/>
                    <a:ext cx="5486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609480" y="2895480"/>
          <a:ext cx="5486400" cy="12574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2895480"/>
                    <a:ext cx="5486400" cy="12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>
            <a:off x="972000" y="5500800"/>
            <a:ext cx="168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rebrojavanje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274480" y="295200"/>
            <a:ext cx="339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a50021"/>
                </a:solidFill>
                <a:latin typeface="Times New Roman"/>
              </a:rPr>
              <a:t>KOMBINATORI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533520" y="1371600"/>
          <a:ext cx="5486400" cy="343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371600"/>
                    <a:ext cx="548640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457200" y="2057400"/>
          <a:ext cx="8325000" cy="21528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2057400"/>
                    <a:ext cx="8325000" cy="21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"/>
          <p:cNvSpPr/>
          <p:nvPr/>
        </p:nvSpPr>
        <p:spPr>
          <a:xfrm>
            <a:off x="533520" y="403848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pćeni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533520" y="4572000"/>
          <a:ext cx="8343720" cy="249552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3520" y="4572000"/>
                    <a:ext cx="8343720" cy="24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"/>
          <p:cNvSpPr/>
          <p:nvPr/>
        </p:nvSpPr>
        <p:spPr>
          <a:xfrm>
            <a:off x="5618880" y="345960"/>
            <a:ext cx="29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pravila prebrojavanj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762120" y="533520"/>
          <a:ext cx="5486400" cy="780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533520"/>
                    <a:ext cx="5486400" cy="78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685800" y="1752480"/>
          <a:ext cx="8172360" cy="17719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1752480"/>
                    <a:ext cx="8172360" cy="177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" name=""/>
          <p:cNvGraphicFramePr/>
          <p:nvPr/>
        </p:nvGraphicFramePr>
        <p:xfrm>
          <a:off x="685800" y="4648320"/>
          <a:ext cx="8096400" cy="57132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5800" y="4648320"/>
                    <a:ext cx="809640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" name=""/>
          <p:cNvGraphicFramePr/>
          <p:nvPr/>
        </p:nvGraphicFramePr>
        <p:xfrm>
          <a:off x="1295280" y="1600200"/>
          <a:ext cx="5486400" cy="343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600200"/>
                    <a:ext cx="548640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2362320" y="3048120"/>
                <a:ext cx="3429000" cy="89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!</m:t>
                    </m:r>
                    <m:r>
                      <m:t xml:space="preserve">≈</m:t>
                    </m:r>
                    <m:sSup>
                      <m:e>
                        <m:r>
                          <m:t xml:space="preserve">n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n</m:t>
                        </m:r>
                      </m:sup>
                    </m:sSup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 </m:t>
                        </m:r>
                        <m:r>
                          <m:t xml:space="preserve">n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"/>
          <p:cNvGraphicFramePr/>
          <p:nvPr/>
        </p:nvGraphicFramePr>
        <p:xfrm>
          <a:off x="1447920" y="609480"/>
          <a:ext cx="5486400" cy="343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609480"/>
                    <a:ext cx="548640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304920" y="1676520"/>
          <a:ext cx="7905600" cy="22096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1676520"/>
                    <a:ext cx="790560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762120" y="533520"/>
          <a:ext cx="5486400" cy="342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533520"/>
                    <a:ext cx="5486400" cy="34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304920" y="1600200"/>
          <a:ext cx="8305560" cy="26100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1600200"/>
                    <a:ext cx="8305560" cy="261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05T21:29:55Z</dcterms:created>
  <dc:creator>miro</dc:creator>
  <dc:description/>
  <dc:language>en-US</dc:language>
  <cp:lastModifiedBy>Miroslav Požek</cp:lastModifiedBy>
  <cp:lastPrinted>2001-10-08T06:24:57Z</cp:lastPrinted>
  <dcterms:modified xsi:type="dcterms:W3CDTF">2007-03-26T20:21:49Z</dcterms:modified>
  <cp:revision>40</cp:revision>
  <dc:subject/>
  <dc:title>No Slide Title</dc:title>
</cp:coreProperties>
</file>