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docx" ContentType="application/vnd.openxmlformats-officedocument.wordprocessingml.document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7.jpeg" ContentType="image/jpeg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B22-66E0-4FB2-A413-66C7DFB3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484-084B-4585-8E94-29F08E13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2FF-1C27-49A6-8FA1-52A17763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306-1963-4593-821B-E1498FCE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565-F623-4BD6-8A8B-E451E754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B31-FC32-4B1E-85AC-784DEB57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D2A-9FEE-471C-BF0D-485398A1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55C-FE51-4366-BDFB-3E199399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79E-3F5F-4EBA-9E9F-68D5C74E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2CC-E759-40A4-94C1-68CDB7D5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24BE-63C9-4C88-AE89-B5560A8A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EB7-E61C-4D0A-8B25-EBB72DB3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1B1E-10C7-4AFA-AE0E-4D6208DEA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Linearna regres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4920" y="838080"/>
            <a:ext cx="8839080" cy="2500200"/>
            <a:chOff x="304920" y="838080"/>
            <a:chExt cx="8839080" cy="2500200"/>
          </a:xfrm>
        </p:grpSpPr>
        <p:graphicFrame>
          <p:nvGraphicFramePr>
            <p:cNvPr id="43" name=""/>
            <p:cNvGraphicFramePr/>
            <p:nvPr/>
          </p:nvGraphicFramePr>
          <p:xfrm>
            <a:off x="3308400" y="838080"/>
            <a:ext cx="5835600" cy="2500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08400" y="838080"/>
                      <a:ext cx="5835600" cy="25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04920" y="914400"/>
                  <a:ext cx="200160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ε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304920" y="1447560"/>
                  <a:ext cx="113328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ε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304920" y="1981080"/>
                  <a:ext cx="133488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ε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8" name=""/>
            <p:cNvSpPr/>
            <p:nvPr/>
          </p:nvSpPr>
          <p:spPr>
            <a:xfrm>
              <a:off x="685800" y="2514600"/>
              <a:ext cx="291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ednaka za sve vrijednosti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30400" y="5715000"/>
            <a:ext cx="8719920" cy="868320"/>
            <a:chOff x="230400" y="5715000"/>
            <a:chExt cx="8719920" cy="868320"/>
          </a:xfrm>
        </p:grpSpPr>
        <p:sp>
          <p:nvSpPr>
            <p:cNvPr id="51" name=""/>
            <p:cNvSpPr/>
            <p:nvPr/>
          </p:nvSpPr>
          <p:spPr>
            <a:xfrm>
              <a:off x="230400" y="5867280"/>
              <a:ext cx="3355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Princip najmanjih kvadrata: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3657600" y="5715000"/>
                  <a:ext cx="529272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ε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nary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in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"/>
          <p:cNvGrpSpPr/>
          <p:nvPr/>
        </p:nvGrpSpPr>
        <p:grpSpPr>
          <a:xfrm>
            <a:off x="457200" y="3500280"/>
            <a:ext cx="6226200" cy="2032200"/>
            <a:chOff x="457200" y="3500280"/>
            <a:chExt cx="6226200" cy="2032200"/>
          </a:xfrm>
        </p:grpSpPr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4572000" y="4267080"/>
                  <a:ext cx="2111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457200" y="3500280"/>
              <a:ext cx="3657600" cy="2032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85840" y="2700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garitamski graf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7080" y="80316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38920" y="797040"/>
            <a:ext cx="40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 znamo ili želimo provjer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7560" y="1512720"/>
            <a:ext cx="685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66"/>
                </a:solidFill>
                <a:latin typeface="Times New Roman"/>
              </a:rPr>
              <a:t>Primjer iz praktikuma (vježba 8): Modul elastičnosti čelik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81600" y="1905120"/>
            <a:ext cx="2354040" cy="1255680"/>
            <a:chOff x="381600" y="1905120"/>
            <a:chExt cx="2354040" cy="1255680"/>
          </a:xfrm>
        </p:grpSpPr>
        <p:sp>
          <p:nvSpPr>
            <p:cNvPr id="123" name=""/>
            <p:cNvSpPr/>
            <p:nvPr/>
          </p:nvSpPr>
          <p:spPr>
            <a:xfrm>
              <a:off x="381600" y="1905120"/>
              <a:ext cx="2354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6666"/>
                  </a:solidFill>
                  <a:latin typeface="Times New Roman"/>
                </a:rPr>
                <a:t>Savijenost šipke j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838080" y="2362320"/>
                  <a:ext cx="155412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E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800600" y="2133720"/>
                <a:ext cx="29336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E</m:t>
                        </m:r>
                      </m:den>
                    </m:f>
                    <m:f>
                      <m:num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" name=""/>
          <p:cNvGrpSpPr/>
          <p:nvPr/>
        </p:nvGrpSpPr>
        <p:grpSpPr>
          <a:xfrm>
            <a:off x="4724280" y="3048120"/>
            <a:ext cx="2473560" cy="345960"/>
            <a:chOff x="4724280" y="3048120"/>
            <a:chExt cx="2473560" cy="3459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4724280" y="3048120"/>
                  <a:ext cx="100008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172200" y="3048120"/>
                  <a:ext cx="102564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9" name=""/>
          <p:cNvGraphicFramePr/>
          <p:nvPr/>
        </p:nvGraphicFramePr>
        <p:xfrm>
          <a:off x="0" y="3352680"/>
          <a:ext cx="34894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52680"/>
                    <a:ext cx="34894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343400" y="3429000"/>
          <a:ext cx="3352680" cy="33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429000"/>
                    <a:ext cx="33526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2514600" y="4876920"/>
            <a:ext cx="123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 li ovo kubna ovisno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934320" y="4952880"/>
                <a:ext cx="1338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,9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Korelac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0720" y="156528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ni stupnjevi rasipan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39720" y="1744560"/>
          <a:ext cx="640404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9720" y="1744560"/>
                    <a:ext cx="640404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71600" y="1630440"/>
          <a:ext cx="65898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30440"/>
                    <a:ext cx="65898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Korelac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0720" y="156528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ni stupnjevi rasipan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371600" y="1630440"/>
          <a:ext cx="65898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30440"/>
                    <a:ext cx="65898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Korelac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0720" y="156528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ni stupnjevi rasipan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Korelac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0720" y="156528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ni stupnjevi rasipan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-76320" y="3079800"/>
          <a:ext cx="9606240" cy="234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3079800"/>
                    <a:ext cx="9606240" cy="23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1720" y="914400"/>
            <a:ext cx="20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isn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6840" y="0"/>
            <a:ext cx="29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Proučavamo srednju slik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617920" y="-228600"/>
          <a:ext cx="6526080" cy="52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7920" y="-228600"/>
                    <a:ext cx="652608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62120" y="1905120"/>
                <a:ext cx="11221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981000" y="3059280"/>
                <a:ext cx="11620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ba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838080" y="4343400"/>
                <a:ext cx="1376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076640" y="5354640"/>
                <a:ext cx="3524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9800" y="5745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isn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389320" y="-152280"/>
          <a:ext cx="6526080" cy="52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9320" y="-152280"/>
                    <a:ext cx="6526080" cy="52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62120" y="1905120"/>
                <a:ext cx="11221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y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981000" y="3030480"/>
                <a:ext cx="1162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ba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19000" y="4314960"/>
                <a:ext cx="141444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086360" y="5354640"/>
                <a:ext cx="3503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762120" y="685800"/>
          <a:ext cx="7529400" cy="597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7529400" cy="59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3" dur="1" fill="hold"/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408400" y="380880"/>
          <a:ext cx="3763800" cy="29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380880"/>
                    <a:ext cx="376380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5800" y="3298680"/>
          <a:ext cx="7543800" cy="287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298680"/>
                    <a:ext cx="754380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62480" y="53352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ovarijanc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86000" y="1600200"/>
                <a:ext cx="4317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28800" y="2819520"/>
                <a:ext cx="5996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2320" y="380880"/>
            <a:ext cx="28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ne jednadž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1311120"/>
          <a:ext cx="10896840" cy="112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11120"/>
                    <a:ext cx="1089684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362320" y="3581280"/>
                <a:ext cx="358452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a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r>
                          <m:t xml:space="preserve">b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a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2480" y="685800"/>
            <a:ext cx="711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ff0000"/>
                </a:solidFill>
                <a:uFillTx/>
                <a:latin typeface="Times New Roman"/>
              </a:rPr>
              <a:t>Jednadžbe pravaca regresije pomoću kovarij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47000" y="1565280"/>
            <a:ext cx="5523480" cy="1268280"/>
            <a:chOff x="747000" y="1565280"/>
            <a:chExt cx="5523480" cy="126828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3962520" y="2057400"/>
                  <a:ext cx="230796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y</m:t>
                          </m:r>
                          <m:r>
                            <m:t xml:space="preserve">−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</m:d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XY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1217160" y="2209680"/>
              <a:ext cx="239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ednadžba pravc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7000" y="1565280"/>
              <a:ext cx="20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Ovisnost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o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62840" y="4114800"/>
            <a:ext cx="5637600" cy="1461600"/>
            <a:chOff x="762840" y="4114800"/>
            <a:chExt cx="5637600" cy="1461600"/>
          </a:xfrm>
        </p:grpSpPr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4092480" y="4800240"/>
                  <a:ext cx="230796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</m:d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XY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y</m:t>
                          </m:r>
                          <m:r>
                            <m:t xml:space="preserve">−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82" name=""/>
            <p:cNvSpPr/>
            <p:nvPr/>
          </p:nvSpPr>
          <p:spPr>
            <a:xfrm>
              <a:off x="1342080" y="4876560"/>
              <a:ext cx="239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ednadžba pravc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840" y="4114800"/>
              <a:ext cx="20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Ovisnost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o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14600" y="838080"/>
                <a:ext cx="27525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514600" y="2133720"/>
                <a:ext cx="27525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282600" y="270000"/>
            <a:ext cx="44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irane jednadžbe prava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74400" y="3352680"/>
            <a:ext cx="6972480" cy="774720"/>
            <a:chOff x="374400" y="3352680"/>
            <a:chExt cx="6972480" cy="77472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4191120" y="3352680"/>
                  <a:ext cx="315576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d>
                        </m:num>
                        <m:den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  <m:r>
                        <m:t xml:space="preserve">ψ</m:t>
                      </m:r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d>
                        </m:num>
                        <m:den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>
              <a:off x="374400" y="3429000"/>
              <a:ext cx="363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zdimenzionalne varij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61440" y="4537080"/>
            <a:ext cx="5771160" cy="568440"/>
            <a:chOff x="361440" y="4537080"/>
            <a:chExt cx="5771160" cy="568440"/>
          </a:xfrm>
        </p:grpSpPr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3330720" y="4738680"/>
                  <a:ext cx="89028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ρ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5218200" y="4738680"/>
                  <a:ext cx="91440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ρψ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"/>
            <p:cNvSpPr/>
            <p:nvPr/>
          </p:nvSpPr>
          <p:spPr>
            <a:xfrm>
              <a:off x="361440" y="4537080"/>
              <a:ext cx="27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vi pravci regresij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61440" y="5756400"/>
            <a:ext cx="5429880" cy="922320"/>
            <a:chOff x="361440" y="5756400"/>
            <a:chExt cx="5429880" cy="922320"/>
          </a:xfrm>
        </p:grpSpPr>
        <p:sp>
          <p:nvSpPr>
            <p:cNvPr id="195" name=""/>
            <p:cNvSpPr/>
            <p:nvPr/>
          </p:nvSpPr>
          <p:spPr>
            <a:xfrm>
              <a:off x="361440" y="5756400"/>
              <a:ext cx="371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.: </a:t>
              </a:r>
              <a:r>
                <a:rPr b="1" lang="hr-HR" sz="2400" spc="-1" strike="noStrike">
                  <a:solidFill>
                    <a:srgbClr val="ff0000"/>
                  </a:solidFill>
                  <a:latin typeface="Times New Roman"/>
                </a:rPr>
                <a:t>koeficijent korelacij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4419720" y="5818320"/>
                  <a:ext cx="137160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XY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7" name=""/>
          <p:cNvSpPr/>
          <p:nvPr/>
        </p:nvSpPr>
        <p:spPr>
          <a:xfrm>
            <a:off x="6172200" y="5715000"/>
            <a:ext cx="213372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zdimenzional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 ovisi o jedinic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-152280" y="1219320"/>
          <a:ext cx="9601200" cy="43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219320"/>
                    <a:ext cx="96012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0680" y="228600"/>
            <a:ext cx="41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Značenje koeficijenta kore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2280" y="762120"/>
          <a:ext cx="3648240" cy="37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364824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791320" y="1752480"/>
                <a:ext cx="12794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681520" y="2492280"/>
                <a:ext cx="14842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5" name=""/>
          <p:cNvGrpSpPr/>
          <p:nvPr/>
        </p:nvGrpSpPr>
        <p:grpSpPr>
          <a:xfrm>
            <a:off x="3506760" y="639720"/>
            <a:ext cx="3857760" cy="429120"/>
            <a:chOff x="3506760" y="639720"/>
            <a:chExt cx="3857760" cy="429120"/>
          </a:xfrm>
        </p:grpSpPr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6154560" y="693720"/>
                  <a:ext cx="120996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ρ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3506760" y="639720"/>
              <a:ext cx="2455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poprima vrijednosti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624120" y="1828800"/>
                <a:ext cx="9558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9" name=""/>
          <p:cNvGrpSpPr/>
          <p:nvPr/>
        </p:nvGrpSpPr>
        <p:grpSpPr>
          <a:xfrm>
            <a:off x="2145240" y="4343400"/>
            <a:ext cx="4523760" cy="787320"/>
            <a:chOff x="2145240" y="4343400"/>
            <a:chExt cx="4523760" cy="787320"/>
          </a:xfrm>
        </p:grpSpPr>
        <p:sp>
          <p:nvSpPr>
            <p:cNvPr id="210" name=""/>
            <p:cNvSpPr/>
            <p:nvPr/>
          </p:nvSpPr>
          <p:spPr>
            <a:xfrm>
              <a:off x="2145240" y="4479840"/>
              <a:ext cx="232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ezavisn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4521240" y="4343400"/>
                  <a:ext cx="214776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ρ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2" name=""/>
          <p:cNvGrpSpPr/>
          <p:nvPr/>
        </p:nvGrpSpPr>
        <p:grpSpPr>
          <a:xfrm>
            <a:off x="325080" y="5105520"/>
            <a:ext cx="8222040" cy="459720"/>
            <a:chOff x="325080" y="5105520"/>
            <a:chExt cx="8222040" cy="459720"/>
          </a:xfrm>
        </p:grpSpPr>
        <p:sp>
          <p:nvSpPr>
            <p:cNvPr id="213" name=""/>
            <p:cNvSpPr/>
            <p:nvPr/>
          </p:nvSpPr>
          <p:spPr>
            <a:xfrm>
              <a:off x="325080" y="5105520"/>
              <a:ext cx="49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linearno deterministički vezan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5149800" y="5118120"/>
                  <a:ext cx="33973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ρ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li</m:t>
                      </m:r>
                      <m:r>
                        <m:t xml:space="preserve"> </m:t>
                      </m:r>
                      <m:r>
                        <m:t xml:space="preserve">ρ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236520" y="5742000"/>
            <a:ext cx="4729320" cy="506520"/>
            <a:chOff x="236520" y="5742000"/>
            <a:chExt cx="4729320" cy="506520"/>
          </a:xfrm>
        </p:grpSpPr>
        <p:sp>
          <p:nvSpPr>
            <p:cNvPr id="216" name=""/>
            <p:cNvSpPr/>
            <p:nvPr/>
          </p:nvSpPr>
          <p:spPr>
            <a:xfrm>
              <a:off x="236520" y="5749920"/>
              <a:ext cx="37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govor: dobra korelacij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3924360" y="5742000"/>
                  <a:ext cx="104148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ρ</m:t>
                          </m:r>
                        </m:e>
                      </m:d>
                      <m:r>
                        <m:t xml:space="preserve">&gt;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68120" y="228600"/>
          <a:ext cx="8975880" cy="141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228600"/>
                    <a:ext cx="897588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219320" y="1828800"/>
          <a:ext cx="9374040" cy="4541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828800"/>
                    <a:ext cx="937404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Provjeravanje (testiranje) hipot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3640" y="2022480"/>
            <a:ext cx="794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vjera hipoteze vrlo je bitan dio statističkog zaključivan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a bi se takva provjera formulirala, potrebno je postaviti neku teoriju koja se želi dokaz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pr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ovi lijek bolji je za liječenje određenih simptoma od star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graća kocka ima pomaknuto težiš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svijetu se rađa više muškaraca nego ž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3520" y="2286000"/>
            <a:ext cx="79405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ne se </a:t>
            </a:r>
            <a:r>
              <a:rPr b="0" lang="hr-HR" sz="2400" spc="-1" strike="noStrike">
                <a:solidFill>
                  <a:srgbClr val="ff0000"/>
                </a:solidFill>
                <a:latin typeface="Times New Roman"/>
              </a:rPr>
              <a:t>n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tretiraju </a:t>
            </a:r>
            <a:r>
              <a:rPr b="0" lang="hr-HR" sz="2400" spc="-1" strike="noStrike">
                <a:solidFill>
                  <a:srgbClr val="ff0000"/>
                </a:solidFill>
                <a:latin typeface="Times New Roman"/>
              </a:rPr>
              <a:t>ravnopravn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sudskom procesu: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 optuženi je ne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 optuženi je kr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ipotez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smatra se ispravnom dok se ne dokaž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7680" y="4484520"/>
            <a:ext cx="824544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Za </a:t>
            </a:r>
            <a:r>
              <a:rPr b="0" i="1" lang="hr-HR" sz="2200" spc="-1" strike="noStrike">
                <a:solidFill>
                  <a:srgbClr val="663300"/>
                </a:solidFill>
                <a:latin typeface="Times New Roman"/>
              </a:rPr>
              <a:t>H</a:t>
            </a:r>
            <a:r>
              <a:rPr b="0" lang="hr-HR" sz="2200" spc="-1" strike="noStrike" baseline="-25000">
                <a:solidFill>
                  <a:srgbClr val="663300"/>
                </a:solidFill>
                <a:latin typeface="Times New Roman"/>
              </a:rPr>
              <a:t>0</a:t>
            </a: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 obično se uzima stara, postojeća teorij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Npr., </a:t>
            </a: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za lijek: </a:t>
            </a: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i="1" lang="hr-HR" sz="2200" spc="-1" strike="noStrike">
                <a:solidFill>
                  <a:srgbClr val="663300"/>
                </a:solidFill>
                <a:latin typeface="Times New Roman"/>
              </a:rPr>
              <a:t>H</a:t>
            </a:r>
            <a:r>
              <a:rPr b="0" lang="hr-HR" sz="2200" spc="-1" strike="noStrike" baseline="-25000">
                <a:solidFill>
                  <a:srgbClr val="663300"/>
                </a:solidFill>
                <a:latin typeface="Times New Roman"/>
              </a:rPr>
              <a:t>0</a:t>
            </a: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= stari lijek jednako je dobar kao i nov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za kocku: </a:t>
            </a: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i="1" lang="hr-HR" sz="2200" spc="-1" strike="noStrike">
                <a:solidFill>
                  <a:srgbClr val="663300"/>
                </a:solidFill>
                <a:latin typeface="Times New Roman"/>
              </a:rPr>
              <a:t>H</a:t>
            </a:r>
            <a:r>
              <a:rPr b="0" lang="hr-HR" sz="2200" spc="-1" strike="noStrike" baseline="-25000">
                <a:solidFill>
                  <a:srgbClr val="663300"/>
                </a:solidFill>
                <a:latin typeface="Times New Roman"/>
              </a:rPr>
              <a:t>0</a:t>
            </a: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= kocka je pošt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Times New Roman"/>
              </a:rPr>
              <a:t>Ako ne odbacimo </a:t>
            </a:r>
            <a:r>
              <a:rPr b="1" i="1" lang="hr-HR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hr-HR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hr-HR" sz="2400" spc="-1" strike="noStrike">
                <a:solidFill>
                  <a:srgbClr val="ff0000"/>
                </a:solidFill>
                <a:latin typeface="Times New Roman"/>
              </a:rPr>
              <a:t>, to ne znači da je ona ispravna, nego samo da nemamo dovoljno dokaza da ju odbac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609480"/>
            <a:ext cx="8229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svakom takvom problemu postavljamo dvije tvrdnje (hipoteze) od kojih je točno jedna istini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 nul-hipot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 alternativna hipot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7160" y="838080"/>
            <a:ext cx="596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00"/>
                </a:solidFill>
                <a:uFillTx/>
                <a:latin typeface="Times New Roman"/>
              </a:rPr>
              <a:t>1. Postavljanje problema, izricanje hipotez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1120" y="1600200"/>
            <a:ext cx="57916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663300"/>
                </a:solidFill>
                <a:latin typeface="Times New Roman"/>
              </a:rPr>
              <a:t>H</a:t>
            </a:r>
            <a:r>
              <a:rPr b="0" lang="hr-HR" sz="2200" spc="-1" strike="noStrike" baseline="-25000">
                <a:solidFill>
                  <a:srgbClr val="663300"/>
                </a:solidFill>
                <a:latin typeface="Times New Roman"/>
              </a:rPr>
              <a:t>0  </a:t>
            </a: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: daska je simetrična, tj.  </a:t>
            </a:r>
            <a:r>
              <a:rPr b="0" i="1" lang="hr-HR" sz="2200" spc="-1" strike="noStrike">
                <a:solidFill>
                  <a:srgbClr val="6633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~</a:t>
            </a: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Bin(16, </a:t>
            </a:r>
            <a:r>
              <a:rPr b="0" lang="hr-HR" sz="2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½</a:t>
            </a: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i="1" lang="hr-HR" sz="2200" spc="-1" strike="noStrike">
                <a:solidFill>
                  <a:srgbClr val="663300"/>
                </a:solidFill>
                <a:latin typeface="Times New Roman"/>
              </a:rPr>
              <a:t>H</a:t>
            </a:r>
            <a:r>
              <a:rPr b="0" lang="hr-HR" sz="2200" spc="-1" strike="noStrike" baseline="-25000">
                <a:solidFill>
                  <a:srgbClr val="663300"/>
                </a:solidFill>
                <a:latin typeface="Times New Roman"/>
              </a:rPr>
              <a:t>1 </a:t>
            </a: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: daska je nagnuta udes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3400" y="304920"/>
            <a:ext cx="79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3300"/>
                </a:solidFill>
                <a:latin typeface="Times New Roman"/>
              </a:rPr>
              <a:t>Primjer: ispitujemo simetričnost Galtonove daske sa 16 redov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3048120"/>
            <a:ext cx="7848720" cy="4033800"/>
            <a:chOff x="228600" y="3048120"/>
            <a:chExt cx="7848720" cy="4033800"/>
          </a:xfrm>
        </p:grpSpPr>
        <p:sp>
          <p:nvSpPr>
            <p:cNvPr id="231" name=""/>
            <p:cNvSpPr/>
            <p:nvPr/>
          </p:nvSpPr>
          <p:spPr>
            <a:xfrm>
              <a:off x="228600" y="304812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Raspodjela dana nul-hipotezo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"/>
            <p:cNvGraphicFramePr/>
            <p:nvPr/>
          </p:nvGraphicFramePr>
          <p:xfrm>
            <a:off x="3276720" y="3352680"/>
            <a:ext cx="4800600" cy="372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76720" y="3352680"/>
                      <a:ext cx="4800600" cy="372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5840" y="320760"/>
            <a:ext cx="589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00"/>
                </a:solidFill>
                <a:uFillTx/>
                <a:latin typeface="Times New Roman"/>
              </a:rPr>
              <a:t>2. Postavljanje problema, kritično područj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914400"/>
            <a:ext cx="84740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je uzimanja uzorka podijelimo skup mogućih ishoda u dva područ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 = područje prihvaćanj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 = područje odbacivanj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hr-HR" sz="2400" spc="-1" strike="noStrike">
                <a:solidFill>
                  <a:srgbClr val="ff0000"/>
                </a:solidFill>
                <a:latin typeface="Times New Roman"/>
              </a:rPr>
              <a:t>kritično područ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85080" y="2514600"/>
            <a:ext cx="6694560" cy="4010400"/>
            <a:chOff x="685080" y="2514600"/>
            <a:chExt cx="6694560" cy="4010400"/>
          </a:xfrm>
        </p:grpSpPr>
        <p:sp>
          <p:nvSpPr>
            <p:cNvPr id="237" name=""/>
            <p:cNvSpPr/>
            <p:nvPr/>
          </p:nvSpPr>
          <p:spPr>
            <a:xfrm>
              <a:off x="685080" y="6095880"/>
              <a:ext cx="6694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663300"/>
                  </a:solidFill>
                  <a:latin typeface="Times New Roman"/>
                </a:rPr>
                <a:t>Odlučimo se: </a:t>
              </a:r>
              <a:r>
                <a:rPr b="0" lang="hr-HR" sz="2200" spc="-1" strike="noStrike">
                  <a:solidFill>
                    <a:srgbClr val="663300"/>
                  </a:solidFill>
                  <a:latin typeface="Times New Roman"/>
                </a:rPr>
                <a:t>	</a:t>
              </a:r>
              <a:r>
                <a:rPr b="0" lang="hr-HR" sz="2200" spc="-1" strike="noStrike">
                  <a:solidFill>
                    <a:srgbClr val="663300"/>
                  </a:solidFill>
                  <a:latin typeface="Times New Roman"/>
                </a:rPr>
                <a:t>A=</a:t>
              </a:r>
              <a:r>
                <a:rPr b="0" lang="en-US" sz="2200" spc="-1" strike="noStrike">
                  <a:solidFill>
                    <a:srgbClr val="663300"/>
                  </a:solidFill>
                  <a:latin typeface="Times New Roman"/>
                </a:rPr>
                <a:t>{0,1,2,</a:t>
              </a:r>
              <a:r>
                <a:rPr b="0" lang="hr-HR" sz="2200" spc="-1" strike="noStrike">
                  <a:solidFill>
                    <a:srgbClr val="663300"/>
                  </a:solidFill>
                  <a:latin typeface="Times New Roman"/>
                </a:rPr>
                <a:t>…,11</a:t>
              </a:r>
              <a:r>
                <a:rPr b="0" lang="en-US" sz="2200" spc="-1" strike="noStrike">
                  <a:solidFill>
                    <a:srgbClr val="663300"/>
                  </a:solidFill>
                  <a:latin typeface="Times New Roman"/>
                </a:rPr>
                <a:t>}</a:t>
              </a:r>
              <a:r>
                <a:rPr b="0" lang="en-US" sz="2200" spc="-1" strike="noStrike">
                  <a:solidFill>
                    <a:srgbClr val="6633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663300"/>
                  </a:solidFill>
                  <a:latin typeface="Times New Roman"/>
                </a:rPr>
                <a:t>B={</a:t>
              </a:r>
              <a:r>
                <a:rPr b="0" lang="hr-HR" sz="2200" spc="-1" strike="noStrike">
                  <a:solidFill>
                    <a:srgbClr val="663300"/>
                  </a:solidFill>
                  <a:latin typeface="Times New Roman"/>
                </a:rPr>
                <a:t>12</a:t>
              </a:r>
              <a:r>
                <a:rPr b="0" lang="en-US" sz="2200" spc="-1" strike="noStrike">
                  <a:solidFill>
                    <a:srgbClr val="663300"/>
                  </a:solidFill>
                  <a:latin typeface="Times New Roman"/>
                </a:rPr>
                <a:t>,</a:t>
              </a:r>
              <a:r>
                <a:rPr b="0" lang="hr-HR" sz="2200" spc="-1" strike="noStrike">
                  <a:solidFill>
                    <a:srgbClr val="663300"/>
                  </a:solidFill>
                  <a:latin typeface="Times New Roman"/>
                </a:rPr>
                <a:t>13,…,1</a:t>
              </a:r>
              <a:r>
                <a:rPr b="0" lang="en-US" sz="2200" spc="-1" strike="noStrike">
                  <a:solidFill>
                    <a:srgbClr val="663300"/>
                  </a:solidFill>
                  <a:latin typeface="Times New Roman"/>
                </a:rPr>
                <a:t>6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8" name=""/>
            <p:cNvGraphicFramePr/>
            <p:nvPr/>
          </p:nvGraphicFramePr>
          <p:xfrm>
            <a:off x="1828800" y="2514600"/>
            <a:ext cx="4808520" cy="373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514600"/>
                      <a:ext cx="480852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93280" y="244440"/>
            <a:ext cx="231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00"/>
                </a:solidFill>
                <a:uFillTx/>
                <a:latin typeface="Times New Roman"/>
              </a:rPr>
              <a:t>Vrste pogrešak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-996840" y="914400"/>
          <a:ext cx="10140840" cy="259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96840" y="914400"/>
                    <a:ext cx="1014084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95840" y="396252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matra se da je pogreška I. vrste mnogo ozbiljnija od pogreške II. vr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4920" y="4689360"/>
            <a:ext cx="841716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jerojatnost pogreške I. vr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 vjerojatnost odbacivanj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kada je istinita =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/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jerojatnost pogreške II. vrs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 vjerojatnost prihvaćanj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kada nije istinita =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/H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1960" y="228600"/>
            <a:ext cx="129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ješen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3520" y="762120"/>
            <a:ext cx="7619400" cy="1919160"/>
            <a:chOff x="533520" y="762120"/>
            <a:chExt cx="7619400" cy="191916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533520" y="762120"/>
                  <a:ext cx="3173040" cy="191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nary>
                          <m:r>
                            <m:t xml:space="preserve">−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4471920" y="765000"/>
                  <a:ext cx="3681000" cy="191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nary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nary>
                          <m:r>
                            <m:t xml:space="preserve">−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" name=""/>
          <p:cNvSpPr/>
          <p:nvPr/>
        </p:nvSpPr>
        <p:spPr>
          <a:xfrm>
            <a:off x="228600" y="44956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pom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je računanja pravca regresije treba u grafu provjeriti ima li smisla linearna regresija i jesu li podaci podjednako rasprše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zultate sumiranja ne smije se zaokruživati jer pogreška zaokruživanja bitno utječe na razliku velikih sličnih broje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934320" y="3429000"/>
                <a:ext cx="9730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352680" y="3276720"/>
                <a:ext cx="20289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9480" y="3276720"/>
                <a:ext cx="1725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510552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pa bi vjerojatnost pogreške II. vrste uz naš odabir kritičnog područja bila </a:t>
            </a:r>
            <a:r>
              <a:rPr b="0" i="1" lang="hr-HR" sz="2400" spc="-1" strike="noStrike">
                <a:solidFill>
                  <a:srgbClr val="663300"/>
                </a:solidFill>
                <a:latin typeface="Symbol"/>
                <a:ea typeface="Symbol"/>
              </a:rPr>
              <a:t></a:t>
            </a:r>
            <a:r>
              <a:rPr b="0" i="1" lang="hr-H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663300"/>
                </a:solidFill>
                <a:latin typeface="Times New Roman"/>
              </a:rPr>
              <a:t>= 0,648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880" y="6095880"/>
            <a:ext cx="67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eliki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se događa kada je uzorak premalen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= 1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6240" y="304920"/>
            <a:ext cx="451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U našem primjeru je  </a:t>
            </a:r>
            <a:r>
              <a:rPr b="0" i="1" lang="en-US" sz="2200" spc="-1" strike="noStrike">
                <a:solidFill>
                  <a:srgbClr val="663300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= 0,</a:t>
            </a: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038</a:t>
            </a: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3300"/>
                </a:solidFill>
                <a:latin typeface="Symbol"/>
                <a:ea typeface="Symbol"/>
              </a:rPr>
              <a:t></a:t>
            </a: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1219320"/>
            <a:ext cx="8245440" cy="3865320"/>
            <a:chOff x="457200" y="1219320"/>
            <a:chExt cx="8245440" cy="3865320"/>
          </a:xfrm>
        </p:grpSpPr>
        <p:sp>
          <p:nvSpPr>
            <p:cNvPr id="249" name=""/>
            <p:cNvSpPr/>
            <p:nvPr/>
          </p:nvSpPr>
          <p:spPr>
            <a:xfrm>
              <a:off x="457200" y="1219320"/>
              <a:ext cx="824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3300"/>
                  </a:solidFill>
                  <a:latin typeface="Times New Roman"/>
                </a:rPr>
                <a:t>Međutim, čak i da je </a:t>
              </a:r>
              <a:r>
                <a:rPr b="0" lang="hr-HR" sz="2200" spc="-1" strike="noStrike">
                  <a:solidFill>
                    <a:srgbClr val="663300"/>
                  </a:solidFill>
                  <a:latin typeface="Times New Roman"/>
                </a:rPr>
                <a:t>daska</a:t>
              </a:r>
              <a:r>
                <a:rPr b="0" lang="en-US" sz="2200" spc="-1" strike="noStrike">
                  <a:solidFill>
                    <a:srgbClr val="663300"/>
                  </a:solidFill>
                  <a:latin typeface="Times New Roman"/>
                </a:rPr>
                <a:t> toliko </a:t>
              </a:r>
              <a:r>
                <a:rPr b="0" lang="hr-HR" sz="2200" spc="-1" strike="noStrike">
                  <a:solidFill>
                    <a:srgbClr val="663300"/>
                  </a:solidFill>
                  <a:latin typeface="Times New Roman"/>
                </a:rPr>
                <a:t>nagnuta</a:t>
              </a:r>
              <a:r>
                <a:rPr b="0" lang="en-US" sz="2200" spc="-1" strike="noStrike">
                  <a:solidFill>
                    <a:srgbClr val="663300"/>
                  </a:solidFill>
                  <a:latin typeface="Times New Roman"/>
                </a:rPr>
                <a:t> da je </a:t>
              </a:r>
              <a:r>
                <a:rPr b="0" i="1" lang="en-US" sz="2200" spc="-1" strike="noStrike">
                  <a:solidFill>
                    <a:srgbClr val="663300"/>
                  </a:solidFill>
                  <a:latin typeface="Times New Roman"/>
                </a:rPr>
                <a:t>p</a:t>
              </a:r>
              <a:r>
                <a:rPr b="0" lang="en-US" sz="2200" spc="-1" strike="noStrike">
                  <a:solidFill>
                    <a:srgbClr val="663300"/>
                  </a:solidFill>
                  <a:latin typeface="Times New Roman"/>
                </a:rPr>
                <a:t> = 2/3, raspodjela varijable </a:t>
              </a:r>
              <a:r>
                <a:rPr b="0" i="1" lang="en-US" sz="2200" spc="-1" strike="noStrike">
                  <a:solidFill>
                    <a:srgbClr val="6633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663300"/>
                  </a:solidFill>
                  <a:latin typeface="Times New Roman"/>
                </a:rPr>
                <a:t> bi bil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0" name=""/>
            <p:cNvGraphicFramePr/>
            <p:nvPr/>
          </p:nvGraphicFramePr>
          <p:xfrm>
            <a:off x="2438280" y="1830240"/>
            <a:ext cx="4191120" cy="325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1830240"/>
                      <a:ext cx="4191120" cy="32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88000" y="168120"/>
            <a:ext cx="576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gnifikantnost testa (važnost, značajno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65040" y="1184400"/>
            <a:ext cx="8474040" cy="1922760"/>
            <a:chOff x="365040" y="1184400"/>
            <a:chExt cx="8474040" cy="1922760"/>
          </a:xfrm>
        </p:grpSpPr>
        <p:sp>
          <p:nvSpPr>
            <p:cNvPr id="254" name=""/>
            <p:cNvSpPr/>
            <p:nvPr/>
          </p:nvSpPr>
          <p:spPr>
            <a:xfrm>
              <a:off x="365040" y="1184400"/>
              <a:ext cx="8474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 postupak provjere kažemo da ima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azinu signifikantnost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važnosti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ako j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ažemo da je to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est raz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2895480" y="2362320"/>
                  <a:ext cx="305136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pogreška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vrste</m:t>
                      </m:r>
                      <m:r>
                        <m:t xml:space="preserve">)</m:t>
                      </m:r>
                      <m:r>
                        <m:t xml:space="preserve">≤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6" name=""/>
          <p:cNvSpPr/>
          <p:nvPr/>
        </p:nvSpPr>
        <p:spPr>
          <a:xfrm>
            <a:off x="367560" y="3875040"/>
            <a:ext cx="361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Naš primjer je test razine 0,</a:t>
            </a:r>
            <a:r>
              <a:rPr b="0" lang="hr-HR" sz="2200" spc="-1" strike="noStrike">
                <a:solidFill>
                  <a:srgbClr val="663300"/>
                </a:solidFill>
                <a:latin typeface="Times New Roman"/>
              </a:rPr>
              <a:t>04</a:t>
            </a:r>
            <a:r>
              <a:rPr b="0" lang="en-US" sz="2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040" y="4765680"/>
            <a:ext cx="839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cionalno se kao razine signifikantnosti uzimaju vrijednosti 0,01; 0,05 ili 0,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5 kažemo da je tes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gnifikan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z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01 kažemo da je tes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rlo signifikan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33520" y="1371600"/>
            <a:ext cx="80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ć statističkog testa mjeri sposobnost testa da odbaci nul-hipotezu kad je uistinu pogrešna, tj. da učini ispravnu odlu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7680" y="308916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U našem primjeru je P = 0,3</a:t>
            </a:r>
            <a:r>
              <a:rPr b="0" lang="hr-HR" sz="2400" spc="-1" strike="noStrike">
                <a:solidFill>
                  <a:srgbClr val="6633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dealno je P = 1. Za snažniji test morali bismo imati veći uzor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8640" y="380880"/>
            <a:ext cx="147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oć tes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92920" y="168120"/>
            <a:ext cx="363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Opća pravila odabira tes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360" y="1184400"/>
            <a:ext cx="83217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je uzimanja uzork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reci nul-hipotezu i alternativnu hipotez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zmotri odgovarajuću raspodjelu danu nul-hipotez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luči o razini signifikantnosti te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redi kritično područje (odluči o kriteriju odbacivanja nul-hipote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da uzmi uzora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čitaj rezultat testa (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računaj vrijednost statistike test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čini odluku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o je vrijednost statistike testa u kritičn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ručju, odbac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o vrijednost statistike testa nije u kritičn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ručju, nemoj odbacit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828800" y="990720"/>
                <a:ext cx="35434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674720" y="2387520"/>
                <a:ext cx="31575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511200" y="193680"/>
            <a:ext cx="51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ražimo nepouzdanosti parametar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24280" y="2438280"/>
                <a:ext cx="943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457200" y="4038480"/>
            <a:ext cx="7696080" cy="2102400"/>
            <a:chOff x="457200" y="4038480"/>
            <a:chExt cx="7696080" cy="2102400"/>
          </a:xfrm>
        </p:grpSpPr>
        <p:sp>
          <p:nvSpPr>
            <p:cNvPr id="73" name=""/>
            <p:cNvSpPr/>
            <p:nvPr/>
          </p:nvSpPr>
          <p:spPr>
            <a:xfrm>
              <a:off x="457200" y="4038480"/>
              <a:ext cx="7696080" cy="210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pristrani procjenjitelj za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de-DE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 2</a:t>
              </a:r>
              <a:r>
                <a:rPr b="0" i="1" lang="de-DE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n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je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zrazo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904760" y="4647960"/>
                  <a:ext cx="5973480" cy="14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σ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/>
                              </m:sSub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+</m:t>
                                      </m:r>
                                      <m:r>
                                        <m:t xml:space="preserve">b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914400"/>
            <a:ext cx="8077320" cy="44139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85800" y="1066680"/>
                <a:ext cx="301608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72000" y="1066680"/>
                <a:ext cx="3497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570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80880" y="3505320"/>
                <a:ext cx="4616640" cy="18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638680" y="3733920"/>
                <a:ext cx="214812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77640" y="30492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načni rezult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22240" y="3207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elinearne regresij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1680" y="955800"/>
            <a:ext cx="59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visna varijabla nelinearno ovisi o nezavisn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2120" y="1512720"/>
            <a:ext cx="50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Times New Roman"/>
              </a:rPr>
              <a:t>Npr.</a:t>
            </a:r>
            <a:r>
              <a:rPr b="0" lang="hr-HR" sz="2200" spc="-1" strike="noStrike">
                <a:solidFill>
                  <a:srgbClr val="006666"/>
                </a:solidFill>
                <a:latin typeface="Times New Roman"/>
              </a:rPr>
              <a:t>: tjerani prigušeni harmonički osc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371600" y="1981080"/>
                <a:ext cx="285444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r>
                                          <m:t xml:space="preserve">τ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731840" y="2133720"/>
            <a:ext cx="24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metri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64320" y="3048120"/>
            <a:ext cx="7417440" cy="1308600"/>
            <a:chOff x="364320" y="3048120"/>
            <a:chExt cx="7417440" cy="130860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2819520" y="3048120"/>
                  <a:ext cx="4962240" cy="12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sSup>
                                            <m:e>
                                              <m:d>
                                                <m:dPr>
                                                  <m:begChr m:val="("/>
                                                  <m:endChr m:val=")"/>
                                                </m:dPr>
                                                <m:e>
                                                  <m:sSubSup>
                                                    <m:e>
                                                      <m:r>
                                                        <m:t xml:space="preserve">ω</m:t>
                                                      </m:r>
                                                    </m:e>
                                                    <m:sub>
                                                      <m:r>
                                                        <m:t xml:space="preserve">0</m:t>
                                                      </m:r>
                                                    </m:sub>
                                                    <m:sup>
                                                      <m:r>
                                                        <m:t xml:space="preserve">2</m:t>
                                                      </m:r>
                                                    </m:sup>
                                                  </m:sSubSup>
                                                  <m:r>
                                                    <m:t xml:space="preserve">−</m:t>
                                                  </m:r>
                                                  <m:sSubSup>
                                                    <m:e>
                                                      <m:r>
                                                        <m:t xml:space="preserve">ω</m:t>
                                                      </m:r>
                                                    </m:e>
                                                    <m:sub>
                                                      <m:r>
                                                        <m:t xml:space="preserve">i</m:t>
                                                      </m:r>
                                                    </m:sub>
                                                    <m:sup>
                                                      <m:r>
                                                        <m:t xml:space="preserve">2</m:t>
                                                      </m:r>
                                                    </m:sup>
                                                  </m:sSubSup>
                                                </m:e>
                                              </m:d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  <m:r>
                                            <m:t xml:space="preserve">+</m:t>
                                          </m:r>
                                          <m:sSup>
                                            <m:e>
                                              <m:d>
                                                <m:dPr>
                                                  <m:begChr m:val="("/>
                                                  <m:endChr m:val=")"/>
                                                </m:dPr>
                                                <m:e>
                                                  <m:f>
                                                    <m:fPr>
                                                      <m:type m:val="lin"/>
                                                    </m:fPr>
                                                    <m:num>
                                                      <m:r>
                                                        <m:t xml:space="preserve">ω</m:t>
                                                      </m:r>
                                                    </m:num>
                                                    <m:den>
                                                      <m:r>
                                                        <m:t xml:space="preserve">τ</m:t>
                                                      </m:r>
                                                    </m:den>
                                                  </m:f>
                                                </m:e>
                                              </m:d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e>
                                      </m:rad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89" name=""/>
            <p:cNvSpPr/>
            <p:nvPr/>
          </p:nvSpPr>
          <p:spPr>
            <a:xfrm>
              <a:off x="364320" y="3165480"/>
              <a:ext cx="207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ma kvadrat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dstupan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aln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15880" y="4765680"/>
            <a:ext cx="7097760" cy="1266840"/>
            <a:chOff x="515880" y="4765680"/>
            <a:chExt cx="7097760" cy="1266840"/>
          </a:xfrm>
        </p:grpSpPr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1143000" y="5257800"/>
                  <a:ext cx="647064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τ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>
              <a:off x="515880" y="4765680"/>
              <a:ext cx="195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 jednadžb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846520" y="6172200"/>
            <a:ext cx="18921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čunalo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97240" y="446040"/>
            <a:ext cx="381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Times New Roman"/>
              </a:rPr>
              <a:t>Primjer s praktikuma (vježba 5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486400" y="2133720"/>
                <a:ext cx="2854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r>
                                          <m:t xml:space="preserve">τ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6" name=""/>
          <p:cNvGraphicFramePr/>
          <p:nvPr/>
        </p:nvGraphicFramePr>
        <p:xfrm>
          <a:off x="1025640" y="1503360"/>
          <a:ext cx="3932280" cy="28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503360"/>
                    <a:ext cx="3932280" cy="28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1800" y="270000"/>
            <a:ext cx="55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gresija s transformiranim varijab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360" y="727200"/>
            <a:ext cx="816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linearnu ovisnost prikazati u linearnom oblik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ogu se primijeniti jednadžbe za linearnu regresij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akav grafički prikaz zorno potvrđuje (ili odbacuje) ispravnost primijenjene teor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360" y="2274840"/>
            <a:ext cx="425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66"/>
                </a:solidFill>
                <a:latin typeface="Times New Roman"/>
              </a:rPr>
              <a:t>Primjer iz praktikuma (vježba 6)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66"/>
                </a:solidFill>
                <a:latin typeface="Times New Roman"/>
              </a:rPr>
              <a:t>Dubina poniranja Maxwellova dis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800600" y="2362320"/>
                <a:ext cx="166212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02" name=""/>
          <p:cNvGraphicFramePr/>
          <p:nvPr/>
        </p:nvGraphicFramePr>
        <p:xfrm>
          <a:off x="287280" y="3494160"/>
          <a:ext cx="367524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494160"/>
                    <a:ext cx="367524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954600" y="385128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=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896000" y="3505320"/>
          <a:ext cx="3638520" cy="30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6000" y="3505320"/>
                    <a:ext cx="3638520" cy="30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5840" y="2700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garitamski graf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7080" y="80316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8920" y="797040"/>
            <a:ext cx="40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 znamo ili želimo provjer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7560" y="1512720"/>
            <a:ext cx="685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66"/>
                </a:solidFill>
                <a:latin typeface="Times New Roman"/>
              </a:rPr>
              <a:t>Primjer iz praktikuma (vježba 8): Modul elastičnosti čelik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1600" y="1905120"/>
            <a:ext cx="2354040" cy="1255680"/>
            <a:chOff x="381600" y="1905120"/>
            <a:chExt cx="2354040" cy="1255680"/>
          </a:xfrm>
        </p:grpSpPr>
        <p:sp>
          <p:nvSpPr>
            <p:cNvPr id="112" name=""/>
            <p:cNvSpPr/>
            <p:nvPr/>
          </p:nvSpPr>
          <p:spPr>
            <a:xfrm>
              <a:off x="381600" y="1905120"/>
              <a:ext cx="2354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6666"/>
                  </a:solidFill>
                  <a:latin typeface="Times New Roman"/>
                </a:rPr>
                <a:t>Savijenost šipke j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838080" y="2362320"/>
                  <a:ext cx="155412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E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352680" y="2286000"/>
            <a:ext cx="6019920" cy="451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0" y="3352680"/>
          <a:ext cx="34894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52680"/>
                    <a:ext cx="34894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514600" y="4876920"/>
            <a:ext cx="123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 li ovo kubna ovisno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7-05-29T08:36:28Z</dcterms:modified>
  <cp:revision>72</cp:revision>
  <dc:subject/>
  <dc:title>No Slide Title</dc:title>
</cp:coreProperties>
</file>