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1FA4-1DF8-4D21-BD3D-5DC4DCFF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1B77-F58B-4F83-ACA0-06EEA315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1E21-2D16-4ED9-BC76-4DD3C598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5E23-067A-498B-B3C2-87E2881C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EF1B-3BF5-4D04-9364-93F0B328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635A-C805-44FB-AD4C-FE3B6DF6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C177-768A-437F-BD80-5A15161A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E57E-47D5-4662-9852-E0E3874D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4B0F-2186-48B2-9C28-CBE24689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0E62-F29A-46ED-A006-A6A3670E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4C8E-4B74-4B02-A6A6-ABBF6982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CC87-5DB8-4A35-BDCC-CD0ED48E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500A-CAB0-4A15-A50A-88E87F92F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8600" y="685800"/>
            <a:ext cx="8915400" cy="746280"/>
            <a:chOff x="228600" y="685800"/>
            <a:chExt cx="8915400" cy="746280"/>
          </a:xfrm>
        </p:grpSpPr>
        <p:sp>
          <p:nvSpPr>
            <p:cNvPr id="42" name=""/>
            <p:cNvSpPr/>
            <p:nvPr/>
          </p:nvSpPr>
          <p:spPr>
            <a:xfrm>
              <a:off x="228600" y="685800"/>
              <a:ext cx="8915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660066"/>
                  </a:solidFill>
                  <a:latin typeface="Times New Roman"/>
                </a:rPr>
                <a:t>I. Posredna veličina je linearna kombinacija izravno mjerenih veličin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2971800" y="1066680"/>
                  <a:ext cx="2120760" cy="36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X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Y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" name=""/>
          <p:cNvGrpSpPr/>
          <p:nvPr/>
        </p:nvGrpSpPr>
        <p:grpSpPr>
          <a:xfrm>
            <a:off x="2133720" y="1600200"/>
            <a:ext cx="5199120" cy="547560"/>
            <a:chOff x="2133720" y="1600200"/>
            <a:chExt cx="5199120" cy="547560"/>
          </a:xfrm>
        </p:grpSpPr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2133720" y="1676160"/>
                  <a:ext cx="202896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h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+</m:t>
                      </m:r>
                      <m:r>
                        <m:t xml:space="preserve">b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y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" name=""/>
                <p:cNvSpPr txBox="1"/>
                <p:nvPr/>
              </p:nvSpPr>
              <p:spPr>
                <a:xfrm>
                  <a:off x="4800600" y="1600200"/>
                  <a:ext cx="2532240" cy="54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bSup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bSup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" name=""/>
          <p:cNvSpPr/>
          <p:nvPr/>
        </p:nvSpPr>
        <p:spPr>
          <a:xfrm>
            <a:off x="1602720" y="0"/>
            <a:ext cx="532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0000"/>
                </a:solidFill>
                <a:latin typeface="Times New Roman"/>
              </a:rPr>
              <a:t>Propagacija pogreš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064160" y="4572000"/>
            <a:ext cx="4926960" cy="1620720"/>
            <a:chOff x="1064160" y="4572000"/>
            <a:chExt cx="4926960" cy="1620720"/>
          </a:xfrm>
        </p:grpSpPr>
        <p:sp>
          <p:nvSpPr>
            <p:cNvPr id="49" name=""/>
            <p:cNvSpPr/>
            <p:nvPr/>
          </p:nvSpPr>
          <p:spPr>
            <a:xfrm>
              <a:off x="1064160" y="5486400"/>
              <a:ext cx="251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relativna pogrešk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4191120" y="5410080"/>
                  <a:ext cx="1749240" cy="78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h</m:t>
                              </m:r>
                            </m:sub>
                          </m:sSub>
                        </m:num>
                        <m:den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h</m:t>
                              </m:r>
                            </m:e>
                          </m:acc>
                        </m:den>
                      </m:f>
                      <m:r>
                        <m:t xml:space="preserve">=</m:t>
                      </m:r>
                      <m:r>
                        <m:t xml:space="preserve">α</m:t>
                      </m:r>
                      <m:r>
                        <m:t xml:space="preserve">⋅</m:t>
                      </m:r>
                      <m:f>
                        <m:num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num>
                        <m:den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51" name=""/>
            <p:cNvGrpSpPr/>
            <p:nvPr/>
          </p:nvGrpSpPr>
          <p:grpSpPr>
            <a:xfrm>
              <a:off x="3078000" y="4572000"/>
              <a:ext cx="2913120" cy="482040"/>
              <a:chOff x="3078000" y="4572000"/>
              <a:chExt cx="2913120" cy="482040"/>
            </a:xfrm>
          </p:grpSpPr>
          <mc:AlternateContent>
            <mc:Choice xmlns:a14="http://schemas.microsoft.com/office/drawing/2010/main" Requires="a14">
              <p:sp>
                <p:nvSpPr>
                  <p:cNvPr id="52" name=""/>
                  <p:cNvSpPr txBox="1"/>
                  <p:nvPr/>
                </p:nvSpPr>
                <p:spPr>
                  <a:xfrm>
                    <a:off x="3809880" y="4572000"/>
                    <a:ext cx="2181240" cy="479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α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3" name=""/>
              <p:cNvSpPr/>
              <p:nvPr/>
            </p:nvSpPr>
            <p:spPr>
              <a:xfrm>
                <a:off x="3078000" y="4594320"/>
                <a:ext cx="42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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" name=""/>
          <p:cNvGrpSpPr/>
          <p:nvPr/>
        </p:nvGrpSpPr>
        <p:grpSpPr>
          <a:xfrm>
            <a:off x="216000" y="2239920"/>
            <a:ext cx="8373960" cy="429120"/>
            <a:chOff x="216000" y="2239920"/>
            <a:chExt cx="8373960" cy="429120"/>
          </a:xfrm>
        </p:grpSpPr>
        <p:sp>
          <p:nvSpPr>
            <p:cNvPr id="55" name=""/>
            <p:cNvSpPr/>
            <p:nvPr/>
          </p:nvSpPr>
          <p:spPr>
            <a:xfrm>
              <a:off x="216000" y="2239920"/>
              <a:ext cx="7572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660066"/>
                  </a:solidFill>
                  <a:latin typeface="Times New Roman"/>
                </a:rPr>
                <a:t>II. Posredna veličina je </a:t>
              </a:r>
              <a:r>
                <a:rPr b="0" lang="hr-HR" sz="2200" spc="-1" strike="noStrike" u="sng">
                  <a:solidFill>
                    <a:srgbClr val="660066"/>
                  </a:solidFill>
                  <a:uFillTx/>
                  <a:latin typeface="Times New Roman"/>
                </a:rPr>
                <a:t>nelinearna funkcija</a:t>
              </a:r>
              <a:r>
                <a:rPr b="0" lang="hr-HR" sz="2200" spc="-1" strike="noStrike">
                  <a:solidFill>
                    <a:srgbClr val="660066"/>
                  </a:solidFill>
                  <a:latin typeface="Times New Roman"/>
                </a:rPr>
                <a:t> jedne mjerene veličin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7848720" y="2251080"/>
                  <a:ext cx="74124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" name=""/>
          <p:cNvGrpSpPr/>
          <p:nvPr/>
        </p:nvGrpSpPr>
        <p:grpSpPr>
          <a:xfrm>
            <a:off x="1401840" y="2743200"/>
            <a:ext cx="4694040" cy="914400"/>
            <a:chOff x="1401840" y="2743200"/>
            <a:chExt cx="4694040" cy="914400"/>
          </a:xfrm>
        </p:grpSpPr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4038480" y="2743200"/>
                  <a:ext cx="205740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h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den>
                          </m:f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μ</m:t>
                              </m:r>
                            </m:sub>
                          </m:sSub>
                        </m:e>
                      </m:d>
                      <m:r>
                        <m:t xml:space="preserve">⋅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1401840" y="2873520"/>
                  <a:ext cx="145080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h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≈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" name=""/>
          <p:cNvGrpSpPr/>
          <p:nvPr/>
        </p:nvGrpSpPr>
        <p:grpSpPr>
          <a:xfrm>
            <a:off x="307800" y="3962520"/>
            <a:ext cx="8037720" cy="457200"/>
            <a:chOff x="307800" y="3962520"/>
            <a:chExt cx="8037720" cy="457200"/>
          </a:xfrm>
        </p:grpSpPr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7010280" y="3962520"/>
                  <a:ext cx="13352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α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62" name=""/>
            <p:cNvSpPr/>
            <p:nvPr/>
          </p:nvSpPr>
          <p:spPr>
            <a:xfrm>
              <a:off x="307800" y="3962520"/>
              <a:ext cx="6571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660066"/>
                  </a:solidFill>
                  <a:latin typeface="Times New Roman"/>
                </a:rPr>
                <a:t>IIa. Posredna veličina je </a:t>
              </a:r>
              <a:r>
                <a:rPr b="0" lang="hr-HR" sz="2200" spc="-1" strike="noStrike" u="sng">
                  <a:solidFill>
                    <a:srgbClr val="660066"/>
                  </a:solidFill>
                  <a:uFillTx/>
                  <a:latin typeface="Times New Roman"/>
                </a:rPr>
                <a:t>potencija</a:t>
              </a:r>
              <a:r>
                <a:rPr b="0" lang="hr-HR" sz="2200" spc="-1" strike="noStrike">
                  <a:solidFill>
                    <a:srgbClr val="660066"/>
                  </a:solidFill>
                  <a:latin typeface="Times New Roman"/>
                </a:rPr>
                <a:t> jedne mjerene veličin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457200" y="5105520"/>
            <a:ext cx="7362720" cy="1341360"/>
            <a:chOff x="457200" y="5105520"/>
            <a:chExt cx="7362720" cy="1341360"/>
          </a:xfrm>
        </p:grpSpPr>
        <p:sp>
          <p:nvSpPr>
            <p:cNvPr id="115" name=""/>
            <p:cNvSpPr/>
            <p:nvPr/>
          </p:nvSpPr>
          <p:spPr>
            <a:xfrm>
              <a:off x="457200" y="5105520"/>
              <a:ext cx="57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nepouzdanost opće srednje vrijednosti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6019920" y="5181480"/>
                  <a:ext cx="1800000" cy="126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M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k</m:t>
                              </m:r>
                            </m:sup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7" name=""/>
          <p:cNvSpPr/>
          <p:nvPr/>
        </p:nvSpPr>
        <p:spPr>
          <a:xfrm>
            <a:off x="208440" y="117360"/>
            <a:ext cx="49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pouzdanost opće srednje vrijed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28600" y="1143000"/>
            <a:ext cx="7864560" cy="1701720"/>
            <a:chOff x="228600" y="1143000"/>
            <a:chExt cx="7864560" cy="1701720"/>
          </a:xfrm>
        </p:grpSpPr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3048120" y="1981080"/>
                  <a:ext cx="177012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/>
                      </m:sSubSup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k</m:t>
                          </m:r>
                        </m:sup>
                        <m:e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0" name=""/>
            <p:cNvSpPr/>
            <p:nvPr/>
          </p:nvSpPr>
          <p:spPr>
            <a:xfrm>
              <a:off x="228600" y="1143000"/>
              <a:ext cx="7864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cjenjitelj prave vrijednosti mjerene veličine jest linearna kombinacija prosjeka iz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jerenj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09520" y="3241800"/>
            <a:ext cx="8172360" cy="1191240"/>
            <a:chOff x="209520" y="3241800"/>
            <a:chExt cx="8172360" cy="1191240"/>
          </a:xfrm>
        </p:grpSpPr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3578400" y="3505320"/>
                  <a:ext cx="4803480" cy="86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M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V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Sup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/>
                          </m:sSubSup>
                        </m:e>
                      </m:d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k</m:t>
                          </m:r>
                        </m:sup>
                        <m:e>
                          <m:sSubSup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V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k</m:t>
                          </m:r>
                        </m:sup>
                        <m:e>
                          <m:sSubSup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sSubSup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23" name=""/>
            <p:cNvSpPr/>
            <p:nvPr/>
          </p:nvSpPr>
          <p:spPr>
            <a:xfrm>
              <a:off x="209520" y="3241800"/>
              <a:ext cx="3216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jancu linearne kombinacije znademo izračunati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62760" y="1413000"/>
            <a:ext cx="45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o je bilo za konzistentna mjerenj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9960" y="2631960"/>
            <a:ext cx="62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ko mjerenja nisu konzistentna, uzimamo srednje vrijednosti svake serije i tretiramo ih kao pojedinačna mjeren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Linearna regres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6320" y="1793880"/>
            <a:ext cx="8686800" cy="3840120"/>
            <a:chOff x="76320" y="1793880"/>
            <a:chExt cx="8686800" cy="3840120"/>
          </a:xfrm>
        </p:grpSpPr>
        <p:sp>
          <p:nvSpPr>
            <p:cNvPr id="128" name=""/>
            <p:cNvSpPr/>
            <p:nvPr/>
          </p:nvSpPr>
          <p:spPr>
            <a:xfrm>
              <a:off x="971640" y="1793880"/>
              <a:ext cx="21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rovi varijabli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9" name=""/>
            <p:cNvGraphicFramePr/>
            <p:nvPr/>
          </p:nvGraphicFramePr>
          <p:xfrm>
            <a:off x="76320" y="2666880"/>
            <a:ext cx="8686800" cy="29671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2666880"/>
                      <a:ext cx="8686800" cy="296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09400" y="422280"/>
            <a:ext cx="45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čki povezane varij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822600" y="979560"/>
            <a:ext cx="6340320" cy="4924440"/>
            <a:chOff x="822600" y="979560"/>
            <a:chExt cx="6340320" cy="4924440"/>
          </a:xfrm>
        </p:grpSpPr>
        <p:sp>
          <p:nvSpPr>
            <p:cNvPr id="133" name=""/>
            <p:cNvSpPr/>
            <p:nvPr/>
          </p:nvSpPr>
          <p:spPr>
            <a:xfrm>
              <a:off x="822600" y="979560"/>
              <a:ext cx="3885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800080"/>
                  </a:solidFill>
                  <a:latin typeface="Times New Roman"/>
                </a:rPr>
                <a:t>Vrijeme i put u slobodnom padu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4" name=""/>
            <p:cNvGraphicFramePr/>
            <p:nvPr/>
          </p:nvGraphicFramePr>
          <p:xfrm>
            <a:off x="1447920" y="1374840"/>
            <a:ext cx="5715000" cy="4529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1374840"/>
                      <a:ext cx="5715000" cy="452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09040" y="42228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deterministički povezane varij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823320" y="979560"/>
            <a:ext cx="6009120" cy="5135400"/>
            <a:chOff x="823320" y="979560"/>
            <a:chExt cx="6009120" cy="5135400"/>
          </a:xfrm>
        </p:grpSpPr>
        <p:sp>
          <p:nvSpPr>
            <p:cNvPr id="138" name=""/>
            <p:cNvSpPr/>
            <p:nvPr/>
          </p:nvSpPr>
          <p:spPr>
            <a:xfrm>
              <a:off x="823320" y="979560"/>
              <a:ext cx="4798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800080"/>
                  </a:solidFill>
                  <a:latin typeface="Times New Roman"/>
                </a:rPr>
                <a:t>Početna brzina i domet topovske granate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9" name=""/>
            <p:cNvGraphicFramePr/>
            <p:nvPr/>
          </p:nvGraphicFramePr>
          <p:xfrm>
            <a:off x="1449360" y="1776240"/>
            <a:ext cx="5383080" cy="4338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9360" y="1776240"/>
                      <a:ext cx="5383080" cy="433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18040" y="369720"/>
            <a:ext cx="423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Snaga automobila i potrošnja gor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90720" y="1371600"/>
          <a:ext cx="5502240" cy="43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371600"/>
                    <a:ext cx="5502240" cy="43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92200" y="320760"/>
            <a:ext cx="223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Linearan odn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14080" y="955800"/>
            <a:ext cx="4227840" cy="517320"/>
            <a:chOff x="514080" y="955800"/>
            <a:chExt cx="4227840" cy="517320"/>
          </a:xfrm>
        </p:grpSpPr>
        <p:sp>
          <p:nvSpPr>
            <p:cNvPr id="146" name=""/>
            <p:cNvSpPr/>
            <p:nvPr/>
          </p:nvSpPr>
          <p:spPr>
            <a:xfrm>
              <a:off x="514080" y="955800"/>
              <a:ext cx="216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terministički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3429000" y="1066680"/>
            <a:ext cx="1312920" cy="4064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29000" y="1066680"/>
                      <a:ext cx="131292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9" name=""/>
          <p:cNvGrpSpPr/>
          <p:nvPr/>
        </p:nvGrpSpPr>
        <p:grpSpPr>
          <a:xfrm>
            <a:off x="594720" y="1817640"/>
            <a:ext cx="4150440" cy="717480"/>
            <a:chOff x="594720" y="1817640"/>
            <a:chExt cx="4150440" cy="717480"/>
          </a:xfrm>
        </p:grpSpPr>
        <p:sp>
          <p:nvSpPr>
            <p:cNvPr id="150" name=""/>
            <p:cNvSpPr/>
            <p:nvPr/>
          </p:nvSpPr>
          <p:spPr>
            <a:xfrm>
              <a:off x="594720" y="1817640"/>
              <a:ext cx="2626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800080"/>
                  </a:solidFill>
                  <a:latin typeface="Times New Roman"/>
                </a:rPr>
                <a:t>Npr.: poznata opruga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3352680" y="1828800"/>
                  <a:ext cx="1392480" cy="70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g</m:t>
                          </m:r>
                        </m:num>
                        <m:den>
                          <m:r>
                            <m:t xml:space="preserve">K</m:t>
                          </m:r>
                        </m:den>
                      </m:f>
                      <m:r>
                        <m:t xml:space="preserve">m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2" name=""/>
          <p:cNvSpPr/>
          <p:nvPr/>
        </p:nvSpPr>
        <p:spPr>
          <a:xfrm>
            <a:off x="666000" y="3276720"/>
            <a:ext cx="24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determinističk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3920" y="5867280"/>
            <a:ext cx="30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Npr.: opruge iz iste seri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42280" y="3699000"/>
            <a:ext cx="482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zavisna varijab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vrijednost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8240" y="4232160"/>
            <a:ext cx="73465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 određen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visna varijab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 slučajna varijabl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rima vrijedn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75560" y="345960"/>
            <a:ext cx="582408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....,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- vrijednosti nezavisne varij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slučajna varijabla pridružena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-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opažena vrijednost pridružena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-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opaženih parova 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,....., 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5960" y="205740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04920" y="2438280"/>
          <a:ext cx="5354640" cy="41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38280"/>
                    <a:ext cx="5354640" cy="41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5714280" y="31240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21000" y="4038480"/>
            <a:ext cx="64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46760" y="4967280"/>
            <a:ext cx="25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žimo najvjerojatnij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07400" y="152280"/>
            <a:ext cx="70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Određivanje koeficijenata metodom najmanjih kvadr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371600" y="3873600"/>
          <a:ext cx="6434280" cy="275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73600"/>
                    <a:ext cx="6434280" cy="27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204560" y="3429000"/>
            <a:ext cx="43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jednaka za sve vrijednosti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5040" y="990720"/>
            <a:ext cx="8398080" cy="2320920"/>
            <a:chOff x="365040" y="990720"/>
            <a:chExt cx="8398080" cy="2320920"/>
          </a:xfrm>
        </p:grpSpPr>
        <p:sp>
          <p:nvSpPr>
            <p:cNvPr id="168" name=""/>
            <p:cNvSpPr/>
            <p:nvPr/>
          </p:nvSpPr>
          <p:spPr>
            <a:xfrm>
              <a:off x="365040" y="990720"/>
              <a:ext cx="8398080" cy="94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stoje parametri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akvi da za svaku vrijednost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i="1" lang="en-GB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zavisne varijable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zavisnu varijablu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i="1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ožemo pisati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3352680" y="2016360"/>
                  <a:ext cx="1992600" cy="45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ε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"/>
            <p:cNvSpPr/>
            <p:nvPr/>
          </p:nvSpPr>
          <p:spPr>
            <a:xfrm>
              <a:off x="370440" y="2438640"/>
              <a:ext cx="6974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dje je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rmalna slučajna varijabla s očekivanjem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 varijancom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1360440" y="2460600"/>
                  <a:ext cx="25560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ε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7026120" y="2473560"/>
                  <a:ext cx="112428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ε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2149560" y="2778120"/>
                  <a:ext cx="135252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ε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4" name=""/>
          <p:cNvSpPr/>
          <p:nvPr/>
        </p:nvSpPr>
        <p:spPr>
          <a:xfrm>
            <a:off x="134640" y="70020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Times New Roman"/>
              </a:rPr>
              <a:t>Pretpostavk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228600" y="4162320"/>
          <a:ext cx="8458200" cy="191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162320"/>
                    <a:ext cx="845820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52280" y="685800"/>
          <a:ext cx="8382240" cy="2706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685800"/>
                    <a:ext cx="8382240" cy="27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89080" y="41400"/>
            <a:ext cx="832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66"/>
                </a:solidFill>
                <a:latin typeface="Times New Roman"/>
              </a:rPr>
              <a:t>III. Najopćenitiji slučaj: Posredna veličina je nelinearna funkcija dviju ili više mjerenih veli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419720" y="533520"/>
                <a:ext cx="10540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" name=""/>
          <p:cNvGrpSpPr/>
          <p:nvPr/>
        </p:nvGrpSpPr>
        <p:grpSpPr>
          <a:xfrm>
            <a:off x="447120" y="1219320"/>
            <a:ext cx="7575120" cy="1863720"/>
            <a:chOff x="447120" y="1219320"/>
            <a:chExt cx="7575120" cy="1863720"/>
          </a:xfrm>
        </p:grpSpPr>
        <p:sp>
          <p:nvSpPr>
            <p:cNvPr id="66" name=""/>
            <p:cNvSpPr/>
            <p:nvPr/>
          </p:nvSpPr>
          <p:spPr>
            <a:xfrm>
              <a:off x="447120" y="1219320"/>
              <a:ext cx="757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Pokazuje se da malena pogreška propagira na sljedeći nači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2539800" y="2095920"/>
                  <a:ext cx="4368960" cy="98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h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X</m:t>
                                  </m:r>
                                </m:den>
                              </m:f>
                            </m:e>
                          </m:d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,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⋅</m:t>
                      </m:r>
                      <m:sSubSup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sSub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h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Y</m:t>
                                  </m:r>
                                </m:den>
                              </m:f>
                            </m:e>
                          </m:d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,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⋅</m:t>
                      </m:r>
                      <m:sSubSup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8" name=""/>
          <p:cNvSpPr/>
          <p:nvPr/>
        </p:nvSpPr>
        <p:spPr>
          <a:xfrm>
            <a:off x="0" y="3429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Općenito za </a:t>
            </a:r>
            <a:r>
              <a:rPr b="0" i="1" lang="hr-HR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n</a:t>
            </a:r>
            <a:r>
              <a:rPr b="0" lang="hr-HR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izravno mjerenih veličina ima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172200" y="3505320"/>
                <a:ext cx="2209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438280" y="4343400"/>
                <a:ext cx="4232520" cy="21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r>
                                              <m:t xml:space="preserve">h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</m:d>
                                  </m:e>
                                  <m:sub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sSub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5680" y="41400"/>
            <a:ext cx="52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rimjer iz praktikum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dul elastič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857160"/>
            <a:ext cx="8001000" cy="5999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162920" y="228600"/>
            <a:ext cx="1981080" cy="28980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jeri se ovisnost savijenosti šipke o sili teže utega, zatim debljina i širina šipke te udaljenost potpornj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z dobivenih podataka određuje se modul elastičnosti čelik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05920" y="11736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eorijska formula za savijenost šip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105520" y="457200"/>
                <a:ext cx="182880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E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297720" y="1447920"/>
            <a:ext cx="39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zmjerene su sljedeće velič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230480" y="1995480"/>
                <a:ext cx="6314760" cy="20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7,6</m:t>
                        </m:r>
                        <m:r>
                          <m:t xml:space="preserve">±</m:t>
                        </m:r>
                        <m:r>
                          <m:t xml:space="preserve">0,1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6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±</m:t>
                        </m:r>
                        <m:r>
                          <m:t xml:space="preserve">0,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213840" y="4572000"/>
            <a:ext cx="71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ajvjerojatnija vrijednost za modul elastičnosti čelika 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438280" y="5257800"/>
                <a:ext cx="437040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f>
                      <m:num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8322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r>
                      <m:t xml:space="preserve">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20" y="152280"/>
            <a:ext cx="41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Varijanca modula elastičnosti 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54080" y="696960"/>
                <a:ext cx="59878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30360" y="1665360"/>
                <a:ext cx="74214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4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  <m:s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s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4</m:t>
                                </m:r>
                                <m:s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s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4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  <m:s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s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4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  <m:s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77800" y="2611440"/>
                <a:ext cx="506736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num>
                                  <m:den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num>
                                  <m:den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num>
                                  <m:den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</m:acc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num>
                                  <m:den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</m:acc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609480" y="3657600"/>
                <a:ext cx="56833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226440" y="4572000"/>
            <a:ext cx="31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tandardna pogreška 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624120" y="4746600"/>
                <a:ext cx="371016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f>
                      <m:num>
                        <m:r>
                          <m:t xml:space="preserve">N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219960" y="5791320"/>
            <a:ext cx="48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ezultat za modul elastičnosti piše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562720" y="5867280"/>
                <a:ext cx="299376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,2</m:t>
                    </m:r>
                    <m:r>
                      <m:t xml:space="preserve">±</m:t>
                    </m:r>
                    <m:r>
                      <m:t xml:space="preserve">0,1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f>
                      <m:num>
                        <m:r>
                          <m:t xml:space="preserve">N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63320" y="806400"/>
            <a:ext cx="68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0000"/>
                </a:solidFill>
                <a:latin typeface="Times New Roman"/>
              </a:rPr>
              <a:t>Mjerenja različitih statističkih tež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040" y="2212920"/>
            <a:ext cx="8474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zikalnu veličinu mjerimo u više navrat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bivamo različite rezultat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nima nas koja je prava, ili barem najvjerojatnija, vrijednost te fizikalne veliči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jerenja se obično izvode na različite načine i s različitim pouzdanostima pa ih ne smijemo tretirati ravnoprav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Kažemo da mjerenja imaju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različite statističke težine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54240" y="457200"/>
            <a:ext cx="8348400" cy="1799280"/>
            <a:chOff x="354240" y="457200"/>
            <a:chExt cx="8348400" cy="1799280"/>
          </a:xfrm>
        </p:grpSpPr>
        <p:sp>
          <p:nvSpPr>
            <p:cNvPr id="92" name=""/>
            <p:cNvSpPr/>
            <p:nvPr/>
          </p:nvSpPr>
          <p:spPr>
            <a:xfrm>
              <a:off x="354240" y="457200"/>
              <a:ext cx="623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Times New Roman"/>
                </a:rPr>
                <a:t>Jedna takva serija mjerenja daje rezultat u obliku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0880" y="1330200"/>
              <a:ext cx="832176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gdje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predstavlja interval 68% pouzdanosti za nalaženje prave vrijednosti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3382920" y="914400"/>
                  <a:ext cx="1417680" cy="38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5" name=""/>
          <p:cNvGrpSpPr/>
          <p:nvPr/>
        </p:nvGrpSpPr>
        <p:grpSpPr>
          <a:xfrm>
            <a:off x="424440" y="2708280"/>
            <a:ext cx="8235000" cy="955800"/>
            <a:chOff x="424440" y="2708280"/>
            <a:chExt cx="8235000" cy="955800"/>
          </a:xfrm>
        </p:grpSpPr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3429000" y="3276720"/>
                  <a:ext cx="153180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7" name=""/>
            <p:cNvSpPr/>
            <p:nvPr/>
          </p:nvSpPr>
          <p:spPr>
            <a:xfrm>
              <a:off x="424440" y="2708280"/>
              <a:ext cx="823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Učinimo li još jednu seriju mjerenja, njezin rezultat imat će oblik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8" name=""/>
          <p:cNvGraphicFramePr/>
          <p:nvPr/>
        </p:nvGraphicFramePr>
        <p:xfrm>
          <a:off x="2286000" y="3657600"/>
          <a:ext cx="4800600" cy="304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657600"/>
                    <a:ext cx="4800600" cy="30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62880" y="27000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ff3300"/>
                </a:solidFill>
                <a:uFillTx/>
                <a:latin typeface="Times New Roman"/>
              </a:rPr>
              <a:t>Opća srednja vrijed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762120"/>
            <a:ext cx="832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ko istu veličinu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mjerimo u raznim prigodama dobivamo različite rezultate s različitim pouzdanostim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733920" y="1600200"/>
                <a:ext cx="1555560" cy="16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±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±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⋮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±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1978920" y="5715000"/>
            <a:ext cx="5621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ražimo onaj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za koji je ova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maksimal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80880" y="3581280"/>
            <a:ext cx="7831080" cy="1957680"/>
            <a:chOff x="380880" y="3581280"/>
            <a:chExt cx="7831080" cy="1957680"/>
          </a:xfrm>
        </p:grpSpPr>
        <p:sp>
          <p:nvSpPr>
            <p:cNvPr id="105" name=""/>
            <p:cNvSpPr/>
            <p:nvPr/>
          </p:nvSpPr>
          <p:spPr>
            <a:xfrm>
              <a:off x="380880" y="3581280"/>
              <a:ext cx="4596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Funkcija gustoće vjerojatnosti za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990720" y="4114800"/>
                  <a:ext cx="7221240" cy="14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;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…</m:t>
                          </m:r>
                          <m:r>
                            <m:t xml:space="preserve">,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  <m:r>
                                        <m:t xml:space="preserve">π</m:t>
                                      </m:r>
                                    </m:e>
                                  </m:rad>
                                </m:e>
                              </m:d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</m:den>
                      </m:f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k</m:t>
                              </m:r>
                            </m:sup>
                            <m:e>
                              <m:f>
                                <m:num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acc>
                                                <m:accPr>
                                                  <m:chr m:val="¯"/>
                                                </m:accPr>
                                                <m:e>
                                                  <m:r>
                                                    <m:t xml:space="preserve">x</m:t>
                                                  </m:r>
                                                </m:e>
                                              </m:acc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p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2</m:t>
                                  </m:r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</m:nary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678960" y="457200"/>
            <a:ext cx="5645520" cy="2038320"/>
            <a:chOff x="678960" y="457200"/>
            <a:chExt cx="5645520" cy="2038320"/>
          </a:xfrm>
        </p:grpSpPr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4648320" y="457200"/>
                  <a:ext cx="1676160" cy="203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/>
                      </m:sSub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k</m:t>
                              </m:r>
                            </m:sup>
                            <m:e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</m:nary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k</m:t>
                              </m:r>
                            </m:sup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9" name=""/>
            <p:cNvSpPr/>
            <p:nvPr/>
          </p:nvSpPr>
          <p:spPr>
            <a:xfrm>
              <a:off x="678960" y="533520"/>
              <a:ext cx="369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Najvjerojatnija vrijednost j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09520" y="2666880"/>
            <a:ext cx="6080040" cy="1717920"/>
            <a:chOff x="209520" y="2666880"/>
            <a:chExt cx="6080040" cy="171792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4648320" y="2666880"/>
                  <a:ext cx="1641240" cy="171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k</m:t>
                              </m:r>
                            </m:sup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209520" y="3013200"/>
              <a:ext cx="398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Definiramo </a:t>
              </a: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</a:rPr>
                <a:t>statističku težinu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505320" y="5334120"/>
                <a:ext cx="15825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  <m:sup/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3T08:39:05Z</dcterms:created>
  <dc:creator>PMFX</dc:creator>
  <dc:description/>
  <dc:language>en-US</dc:language>
  <cp:lastModifiedBy>Miroslav Požek</cp:lastModifiedBy>
  <dcterms:modified xsi:type="dcterms:W3CDTF">2007-05-29T07:26:50Z</dcterms:modified>
  <cp:revision>70</cp:revision>
  <dc:subject/>
  <dc:title>No Slide Title</dc:title>
</cp:coreProperties>
</file>