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EC7-63A9-4569-8701-7E44B057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DF8-00F7-4DAE-B18B-FF24E300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6F6-7268-4DE1-B6B9-B1B9059D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002-3014-461D-8F16-C50C6C85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14E-356D-449C-BA03-0216B41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73A-ECF1-4EB3-B770-C230BA2C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B0F-DAA0-4CA4-8860-7CC7A243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FB3-3FD1-4255-B853-7B130018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F7B-6C2C-407F-A1F1-16AE495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713-9510-4FEF-AF21-F8508FD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122-AEA9-4237-BFA0-070084C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BE0-2D18-4E24-90A8-C73FC918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1D7A-8285-4B6F-8B80-FD1FC48A4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685800"/>
            <a:ext cx="8915400" cy="746280"/>
            <a:chOff x="228600" y="685800"/>
            <a:chExt cx="8915400" cy="746280"/>
          </a:xfrm>
        </p:grpSpPr>
        <p:sp>
          <p:nvSpPr>
            <p:cNvPr id="42" name=""/>
            <p:cNvSpPr/>
            <p:nvPr/>
          </p:nvSpPr>
          <p:spPr>
            <a:xfrm>
              <a:off x="228600" y="685800"/>
              <a:ext cx="8915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I. Posredna veličina je linearna kombinacija izravno mjerenih veliči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2971800" y="1066680"/>
                  <a:ext cx="212076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" name=""/>
          <p:cNvGrpSpPr/>
          <p:nvPr/>
        </p:nvGrpSpPr>
        <p:grpSpPr>
          <a:xfrm>
            <a:off x="2133720" y="1600200"/>
            <a:ext cx="5199120" cy="547560"/>
            <a:chOff x="2133720" y="1600200"/>
            <a:chExt cx="5199120" cy="54756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2133720" y="1676160"/>
                  <a:ext cx="20289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h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b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4800600" y="1600200"/>
                  <a:ext cx="253224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" name=""/>
          <p:cNvSpPr/>
          <p:nvPr/>
        </p:nvSpPr>
        <p:spPr>
          <a:xfrm>
            <a:off x="1602720" y="0"/>
            <a:ext cx="53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Propagacija pogreš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64160" y="4572000"/>
            <a:ext cx="4926960" cy="1620720"/>
            <a:chOff x="1064160" y="4572000"/>
            <a:chExt cx="4926960" cy="1620720"/>
          </a:xfrm>
        </p:grpSpPr>
        <p:sp>
          <p:nvSpPr>
            <p:cNvPr id="49" name=""/>
            <p:cNvSpPr/>
            <p:nvPr/>
          </p:nvSpPr>
          <p:spPr>
            <a:xfrm>
              <a:off x="1064160" y="5486400"/>
              <a:ext cx="251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relativna pogreš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4191120" y="5410080"/>
                  <a:ext cx="174924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h</m:t>
                              </m:r>
                            </m:e>
                          </m:acc>
                        </m:den>
                      </m:f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1" name=""/>
            <p:cNvGrpSpPr/>
            <p:nvPr/>
          </p:nvGrpSpPr>
          <p:grpSpPr>
            <a:xfrm>
              <a:off x="3078000" y="4572000"/>
              <a:ext cx="2913120" cy="482040"/>
              <a:chOff x="3078000" y="4572000"/>
              <a:chExt cx="2913120" cy="482040"/>
            </a:xfrm>
          </p:grpSpPr>
          <mc:AlternateContent>
            <mc:Choice xmlns:a14="http://schemas.microsoft.com/office/drawing/2010/main" Requires="a14">
              <p:sp>
                <p:nvSpPr>
                  <p:cNvPr id="52" name=""/>
                  <p:cNvSpPr txBox="1"/>
                  <p:nvPr/>
                </p:nvSpPr>
                <p:spPr>
                  <a:xfrm>
                    <a:off x="3809880" y="4572000"/>
                    <a:ext cx="2181240" cy="47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" name=""/>
              <p:cNvSpPr/>
              <p:nvPr/>
            </p:nvSpPr>
            <p:spPr>
              <a:xfrm>
                <a:off x="3078000" y="4594320"/>
                <a:ext cx="42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216000" y="2239920"/>
            <a:ext cx="8373960" cy="429120"/>
            <a:chOff x="216000" y="2239920"/>
            <a:chExt cx="8373960" cy="429120"/>
          </a:xfrm>
        </p:grpSpPr>
        <p:sp>
          <p:nvSpPr>
            <p:cNvPr id="55" name=""/>
            <p:cNvSpPr/>
            <p:nvPr/>
          </p:nvSpPr>
          <p:spPr>
            <a:xfrm>
              <a:off x="216000" y="2239920"/>
              <a:ext cx="757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II. Posredna veličina je </a:t>
              </a:r>
              <a:r>
                <a:rPr b="0" lang="hr-HR" sz="22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nelinearna funkcija</a:t>
              </a: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 jedne mjerene veliči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7848720" y="2251080"/>
                  <a:ext cx="7412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1401840" y="2743200"/>
            <a:ext cx="4694040" cy="914400"/>
            <a:chOff x="1401840" y="2743200"/>
            <a:chExt cx="4694040" cy="91440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4038480" y="2743200"/>
                  <a:ext cx="20574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h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μ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401840" y="2873520"/>
                  <a:ext cx="145080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h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≈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" name=""/>
          <p:cNvGrpSpPr/>
          <p:nvPr/>
        </p:nvGrpSpPr>
        <p:grpSpPr>
          <a:xfrm>
            <a:off x="307800" y="3962520"/>
            <a:ext cx="8037720" cy="457200"/>
            <a:chOff x="307800" y="3962520"/>
            <a:chExt cx="8037720" cy="45720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7010280" y="3962520"/>
                  <a:ext cx="1335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α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307800" y="3962520"/>
              <a:ext cx="6571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IIa. Posredna veličina je </a:t>
              </a:r>
              <a:r>
                <a:rPr b="0" lang="hr-HR" sz="22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potencija</a:t>
              </a: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 jedne mjerene veliči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57200" y="5105520"/>
            <a:ext cx="7362720" cy="1341360"/>
            <a:chOff x="457200" y="5105520"/>
            <a:chExt cx="7362720" cy="1341360"/>
          </a:xfrm>
        </p:grpSpPr>
        <p:sp>
          <p:nvSpPr>
            <p:cNvPr id="115" name=""/>
            <p:cNvSpPr/>
            <p:nvPr/>
          </p:nvSpPr>
          <p:spPr>
            <a:xfrm>
              <a:off x="457200" y="510552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nepouzdanost opće srednje vrijednost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019920" y="5181480"/>
                  <a:ext cx="1800000" cy="12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/>
          <p:cNvSpPr/>
          <p:nvPr/>
        </p:nvSpPr>
        <p:spPr>
          <a:xfrm>
            <a:off x="208440" y="11736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pouzdanost opće srednje vrijed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7864560" cy="1701720"/>
            <a:chOff x="228600" y="1143000"/>
            <a:chExt cx="7864560" cy="170172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048120" y="1981080"/>
                  <a:ext cx="17701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228600" y="1143000"/>
              <a:ext cx="786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jenjitelj prave vrijednosti mjerene veličine jest linearna kombinacija prosjeka iz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jerenj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09520" y="3241800"/>
            <a:ext cx="8172360" cy="1191240"/>
            <a:chOff x="209520" y="3241800"/>
            <a:chExt cx="8172360" cy="1191240"/>
          </a:xfrm>
        </p:grpSpPr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3578400" y="3505320"/>
                  <a:ext cx="48034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V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/>
                          </m:sSubSup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V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sSubSup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209520" y="3241800"/>
              <a:ext cx="32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jancu linearne kombinacije znademo izračunat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62760" y="141300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 je bilo za konzistentna mjerenj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960" y="263196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mjerenja nisu konzistentna, uzimamo srednje vrijednosti svake serije i tretiramo ih kao pojedinačna mjeren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Linearna regres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320" y="1793880"/>
            <a:ext cx="8686800" cy="3840120"/>
            <a:chOff x="76320" y="1793880"/>
            <a:chExt cx="8686800" cy="3840120"/>
          </a:xfrm>
        </p:grpSpPr>
        <p:sp>
          <p:nvSpPr>
            <p:cNvPr id="128" name=""/>
            <p:cNvSpPr/>
            <p:nvPr/>
          </p:nvSpPr>
          <p:spPr>
            <a:xfrm>
              <a:off x="971640" y="1793880"/>
              <a:ext cx="21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ovi varijabl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76320" y="2666880"/>
            <a:ext cx="8686800" cy="2967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2666880"/>
                      <a:ext cx="8686800" cy="29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9400" y="4222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čki povezane varij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22600" y="979560"/>
            <a:ext cx="6340320" cy="4924440"/>
            <a:chOff x="822600" y="979560"/>
            <a:chExt cx="6340320" cy="4924440"/>
          </a:xfrm>
        </p:grpSpPr>
        <p:sp>
          <p:nvSpPr>
            <p:cNvPr id="133" name=""/>
            <p:cNvSpPr/>
            <p:nvPr/>
          </p:nvSpPr>
          <p:spPr>
            <a:xfrm>
              <a:off x="822600" y="979560"/>
              <a:ext cx="3885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Times New Roman"/>
                </a:rPr>
                <a:t>Vrijeme i put u slobodnom padu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1447920" y="1374840"/>
            <a:ext cx="5715000" cy="452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1374840"/>
                      <a:ext cx="5715000" cy="452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09040" y="42228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deterministički povezane varij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23320" y="979560"/>
            <a:ext cx="6009120" cy="5135400"/>
            <a:chOff x="823320" y="979560"/>
            <a:chExt cx="6009120" cy="5135400"/>
          </a:xfrm>
        </p:grpSpPr>
        <p:sp>
          <p:nvSpPr>
            <p:cNvPr id="138" name=""/>
            <p:cNvSpPr/>
            <p:nvPr/>
          </p:nvSpPr>
          <p:spPr>
            <a:xfrm>
              <a:off x="823320" y="979560"/>
              <a:ext cx="479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Times New Roman"/>
                </a:rPr>
                <a:t>Početna brzina i domet topovske granat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1449360" y="1776240"/>
            <a:ext cx="5383080" cy="433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9360" y="1776240"/>
                      <a:ext cx="5383080" cy="43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18040" y="369720"/>
            <a:ext cx="423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Snaga automobila i potrošnja gor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371600"/>
          <a:ext cx="550224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550224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92200" y="32076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inearan od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14080" y="955800"/>
            <a:ext cx="4227840" cy="517320"/>
            <a:chOff x="514080" y="955800"/>
            <a:chExt cx="4227840" cy="517320"/>
          </a:xfrm>
        </p:grpSpPr>
        <p:sp>
          <p:nvSpPr>
            <p:cNvPr id="146" name=""/>
            <p:cNvSpPr/>
            <p:nvPr/>
          </p:nvSpPr>
          <p:spPr>
            <a:xfrm>
              <a:off x="514080" y="95580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terminističk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3429000" y="1066680"/>
            <a:ext cx="1312920" cy="4064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1066680"/>
                      <a:ext cx="13129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594720" y="1817640"/>
            <a:ext cx="4150440" cy="717480"/>
            <a:chOff x="594720" y="1817640"/>
            <a:chExt cx="4150440" cy="717480"/>
          </a:xfrm>
        </p:grpSpPr>
        <p:sp>
          <p:nvSpPr>
            <p:cNvPr id="150" name=""/>
            <p:cNvSpPr/>
            <p:nvPr/>
          </p:nvSpPr>
          <p:spPr>
            <a:xfrm>
              <a:off x="594720" y="1817640"/>
              <a:ext cx="262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Times New Roman"/>
                </a:rPr>
                <a:t>Npr.: poznata opruga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352680" y="1828800"/>
                  <a:ext cx="13924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2" name=""/>
          <p:cNvSpPr/>
          <p:nvPr/>
        </p:nvSpPr>
        <p:spPr>
          <a:xfrm>
            <a:off x="666000" y="327672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deterministič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920" y="5867280"/>
            <a:ext cx="30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Npr.: opruge iz iste ser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2280" y="3699000"/>
            <a:ext cx="48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zavisna varijab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rijednos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8240" y="4232160"/>
            <a:ext cx="7346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određen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visna varijab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 slučajna varijab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rima vrijedn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75560" y="345960"/>
            <a:ext cx="58240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.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- vrijednosti nezavis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lučajna varijabla pridružen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opažena vrijednost pridružen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opaženih parova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,.....,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5960" y="2057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438280"/>
          <a:ext cx="535464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535464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714280" y="3124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21000" y="4038480"/>
            <a:ext cx="6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6760" y="4967280"/>
            <a:ext cx="25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žimo najvjerojatnij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07400" y="15228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Određivanje koeficijenata metodom najmanjih kvad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71600" y="3873600"/>
          <a:ext cx="643428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73600"/>
                    <a:ext cx="643428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04560" y="3429000"/>
            <a:ext cx="43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jednaka za sve vrijednost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040" y="990720"/>
            <a:ext cx="8398080" cy="2320920"/>
            <a:chOff x="365040" y="990720"/>
            <a:chExt cx="8398080" cy="2320920"/>
          </a:xfrm>
        </p:grpSpPr>
        <p:sp>
          <p:nvSpPr>
            <p:cNvPr id="168" name=""/>
            <p:cNvSpPr/>
            <p:nvPr/>
          </p:nvSpPr>
          <p:spPr>
            <a:xfrm>
              <a:off x="365040" y="990720"/>
              <a:ext cx="839808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oje parametri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vi da za svaku vrijednost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en-GB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zavisne varijabl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zavisnu varijablu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žemo pisat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3352680" y="2016360"/>
                  <a:ext cx="199260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370440" y="2438640"/>
              <a:ext cx="697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je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lna slučajna varijabla s očekivanje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varijanco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360440" y="2460600"/>
                  <a:ext cx="2556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7026120" y="2473560"/>
                  <a:ext cx="11242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149560" y="2778120"/>
                  <a:ext cx="13525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134640" y="7002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</a:rPr>
              <a:t>Pretpostav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28600" y="4162320"/>
          <a:ext cx="8458200" cy="19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62320"/>
                    <a:ext cx="84582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52280" y="685800"/>
          <a:ext cx="8382240" cy="2706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85800"/>
                    <a:ext cx="83822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080" y="41400"/>
            <a:ext cx="83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III. Najopćenitiji slučaj: Posredna veličina je nelinearna funkcija dviju ili više mjerenih veli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419720" y="533520"/>
                <a:ext cx="1054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"/>
          <p:cNvGrpSpPr/>
          <p:nvPr/>
        </p:nvGrpSpPr>
        <p:grpSpPr>
          <a:xfrm>
            <a:off x="447120" y="1219320"/>
            <a:ext cx="7575120" cy="1863720"/>
            <a:chOff x="447120" y="1219320"/>
            <a:chExt cx="7575120" cy="1863720"/>
          </a:xfrm>
        </p:grpSpPr>
        <p:sp>
          <p:nvSpPr>
            <p:cNvPr id="66" name=""/>
            <p:cNvSpPr/>
            <p:nvPr/>
          </p:nvSpPr>
          <p:spPr>
            <a:xfrm>
              <a:off x="447120" y="1219320"/>
              <a:ext cx="75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Pokazuje se da malena pogreška propagira na sljedeći nači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2539800" y="2095920"/>
                  <a:ext cx="4368960" cy="98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" name=""/>
          <p:cNvSpPr/>
          <p:nvPr/>
        </p:nvSpPr>
        <p:spPr>
          <a:xfrm>
            <a:off x="0" y="342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Općenito za </a:t>
            </a:r>
            <a:r>
              <a:rPr b="0" i="1" lang="hr-H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izravno mjerenih veličina im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172200" y="3505320"/>
                <a:ext cx="220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38280" y="4343400"/>
                <a:ext cx="423252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b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5680" y="4140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imjer iz praktiku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ul elasti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8001000" cy="5999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62920" y="228600"/>
            <a:ext cx="1981080" cy="28980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jeri se ovisnost savijenosti šipke o sili teže utega, zatim debljina i širina šipke te udaljenost potpornj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z dobivenih podataka određuje se modul elastičnosti čel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5920" y="11736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eorijska formula za savijenost šip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105520" y="457200"/>
                <a:ext cx="18288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E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97720" y="144792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mjerene su sljedeće velič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230480" y="1995480"/>
                <a:ext cx="631476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7,6</m:t>
                        </m:r>
                        <m:r>
                          <m:t xml:space="preserve">±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13840" y="4572000"/>
            <a:ext cx="71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vjerojatnija vrijednost za modul elastičnosti čelika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8280" y="5257800"/>
                <a:ext cx="43704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322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20" y="15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arijanca modula elastičnosti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4080" y="696960"/>
                <a:ext cx="5987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30360" y="1665360"/>
                <a:ext cx="742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7800" y="2611440"/>
                <a:ext cx="5067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num>
                                  <m:den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09480" y="3657600"/>
                <a:ext cx="5683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226440" y="457200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ndardna pogreška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624120" y="4746600"/>
                <a:ext cx="3710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19960" y="57913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zultat za modul elastičnosti piše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562720" y="5867280"/>
                <a:ext cx="29937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,2</m:t>
                    </m:r>
                    <m:r>
                      <m:t xml:space="preserve">±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63320" y="806400"/>
            <a:ext cx="68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Times New Roman"/>
              </a:rPr>
              <a:t>Mjerenja različitih statističkih tež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040" y="2212920"/>
            <a:ext cx="847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zikalnu veličinu mjerimo u više navrat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bivamo različite rezultat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ima nas koja je prava, ili barem najvjerojatnija, vrijednost te fizikalne velič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jerenja se obično izvode na različite načine i s različitim pouzdanostima pa ih ne smijemo tretirati ravnoprav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Kažemo da mjerenja imaju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različite statističke težin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54240" y="457200"/>
            <a:ext cx="8348400" cy="1799280"/>
            <a:chOff x="354240" y="457200"/>
            <a:chExt cx="8348400" cy="1799280"/>
          </a:xfrm>
        </p:grpSpPr>
        <p:sp>
          <p:nvSpPr>
            <p:cNvPr id="92" name=""/>
            <p:cNvSpPr/>
            <p:nvPr/>
          </p:nvSpPr>
          <p:spPr>
            <a:xfrm>
              <a:off x="354240" y="457200"/>
              <a:ext cx="623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Jedna takva serija mjerenja daje rezultat u oblik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1330200"/>
              <a:ext cx="83217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gd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predstavlja interval 68% pouzdanosti za nalaženje prave vrijednost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3382920" y="914400"/>
                  <a:ext cx="141768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" name=""/>
          <p:cNvGrpSpPr/>
          <p:nvPr/>
        </p:nvGrpSpPr>
        <p:grpSpPr>
          <a:xfrm>
            <a:off x="424440" y="2708280"/>
            <a:ext cx="8235000" cy="955800"/>
            <a:chOff x="424440" y="2708280"/>
            <a:chExt cx="8235000" cy="9558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429000" y="3276720"/>
                  <a:ext cx="153180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424440" y="2708280"/>
              <a:ext cx="82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Učinimo li još jednu seriju mjerenja, njezin rezultat imat će oblik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" name=""/>
          <p:cNvGraphicFramePr/>
          <p:nvPr/>
        </p:nvGraphicFramePr>
        <p:xfrm>
          <a:off x="2286000" y="3657600"/>
          <a:ext cx="4800600" cy="30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657600"/>
                    <a:ext cx="480060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2880" y="2700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3300"/>
                </a:solidFill>
                <a:uFillTx/>
                <a:latin typeface="Times New Roman"/>
              </a:rPr>
              <a:t>Opća srednja vrijed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76212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istu veličin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mjerimo u raznim prigodama dobivamo različite rezultate s različitim pouzdanosti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733920" y="1600200"/>
                <a:ext cx="155556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978920" y="5715000"/>
            <a:ext cx="562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žimo onaj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a koji je ov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maksimal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0880" y="3581280"/>
            <a:ext cx="7831080" cy="1957680"/>
            <a:chOff x="380880" y="3581280"/>
            <a:chExt cx="7831080" cy="1957680"/>
          </a:xfrm>
        </p:grpSpPr>
        <p:sp>
          <p:nvSpPr>
            <p:cNvPr id="105" name=""/>
            <p:cNvSpPr/>
            <p:nvPr/>
          </p:nvSpPr>
          <p:spPr>
            <a:xfrm>
              <a:off x="380880" y="3581280"/>
              <a:ext cx="4596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Funkcija gustoće vjerojatnosti z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990720" y="4114800"/>
                  <a:ext cx="7221240" cy="14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;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  <m:r>
                            <m:t xml:space="preserve">,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e>
                                  </m:rad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678960" y="457200"/>
            <a:ext cx="5645520" cy="2038320"/>
            <a:chOff x="678960" y="457200"/>
            <a:chExt cx="5645520" cy="203832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4648320" y="457200"/>
                  <a:ext cx="1676160" cy="20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678960" y="533520"/>
              <a:ext cx="369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ajvjerojatnija vrijednost 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9520" y="2666880"/>
            <a:ext cx="6080040" cy="1717920"/>
            <a:chOff x="209520" y="2666880"/>
            <a:chExt cx="6080040" cy="17179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648320" y="2666880"/>
                  <a:ext cx="1641240" cy="171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209520" y="3013200"/>
              <a:ext cx="39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Definiramo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statističku težinu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505320" y="5334120"/>
                <a:ext cx="1582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/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5-29T07:26:50Z</dcterms:modified>
  <cp:revision>70</cp:revision>
  <dc:subject/>
  <dc:title>No Slide Title</dc:title>
</cp:coreProperties>
</file>