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751-5864-4827-996A-C13751B2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701-72F7-4A17-A5F7-3F5B1B9A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345-08FC-453F-99D1-29D27CD6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615-5E2A-44A7-9FC7-58468054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DD4-95E9-4F89-8AE6-2FB8CE9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BC6-2A69-46E2-9815-FEF09FAD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3BD-2EE9-4AA9-BB0D-2B30F54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8E8-3339-44BB-A4AC-47BF1A18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E93-54A8-42BE-A6DE-D8053D1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61B-8F72-46FC-AFBF-A359461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C47-0F24-48B5-B47D-49E374C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78B-F7C8-4C52-85D8-CBA4788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FFB7-A583-4047-B325-FDADBC11D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t.sc.edu/~west/javahtml/CLT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2084400"/>
            <a:ext cx="8097840" cy="4135320"/>
            <a:chOff x="609480" y="2084400"/>
            <a:chExt cx="8097840" cy="4135320"/>
          </a:xfrm>
        </p:grpSpPr>
        <p:pic>
          <p:nvPicPr>
            <p:cNvPr id="42" name="normalniprosjek" descr=""/>
            <p:cNvPicPr/>
            <p:nvPr/>
          </p:nvPicPr>
          <p:blipFill>
            <a:blip r:embed="rId1"/>
            <a:stretch/>
          </p:blipFill>
          <p:spPr>
            <a:xfrm>
              <a:off x="609480" y="2084400"/>
              <a:ext cx="8097840" cy="4135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2666880"/>
                  <a:ext cx="13161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838080" y="3429000"/>
                  <a:ext cx="12891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445680" y="533520"/>
            <a:ext cx="822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uzorak sastavljen od normalnih slučajnih varijabli, onda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rosjek normalno raspodijel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1960" y="304920"/>
            <a:ext cx="81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Interval pouzdanosti prosjeka populaci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05740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zimamo uzorak od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elemenata (velik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i izračunamo njegov prosjek. Tako smo nepristrano procijenil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nima nas koliko pouzdano, tj., u kojem intervalu se pouzdano nalazi prosjek populaci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28840" y="4648320"/>
            <a:ext cx="9542520" cy="909000"/>
            <a:chOff x="-528840" y="4648320"/>
            <a:chExt cx="9542520" cy="909000"/>
          </a:xfrm>
        </p:grpSpPr>
        <p:sp>
          <p:nvSpPr>
            <p:cNvPr id="112" name=""/>
            <p:cNvSpPr/>
            <p:nvPr/>
          </p:nvSpPr>
          <p:spPr>
            <a:xfrm>
              <a:off x="-528840" y="4648320"/>
              <a:ext cx="95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Prema središnjem graničnom teoremu (CLT),      je normalno raspodijeljen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638680" y="4700520"/>
                  <a:ext cx="315720" cy="34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608280" y="5081400"/>
                  <a:ext cx="18968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/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-295560" y="3962520"/>
            <a:ext cx="467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Neka je varijanca populacije </a:t>
            </a:r>
            <a:r>
              <a:rPr b="0" i="1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000" y="9907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šće želimo procijenit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pul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npr., pravu vrijednost mjerene velič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711000" y="1905120"/>
            <a:ext cx="46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a normalnu raspodjelu vrijed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7800" y="4114800"/>
            <a:ext cx="8152920" cy="1600200"/>
            <a:chOff x="217800" y="4114800"/>
            <a:chExt cx="8152920" cy="1600200"/>
          </a:xfrm>
        </p:grpSpPr>
        <p:sp>
          <p:nvSpPr>
            <p:cNvPr id="119" name=""/>
            <p:cNvSpPr/>
            <p:nvPr/>
          </p:nvSpPr>
          <p:spPr>
            <a:xfrm>
              <a:off x="217800" y="4114800"/>
              <a:ext cx="81529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3333cc"/>
                  </a:solidFill>
                  <a:latin typeface="Times New Roman"/>
                </a:rPr>
                <a:t>To možemo pisat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rava vrijednost prosjeka populacije nalazi se u interval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s vjerojatnošću 68%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893960" y="4878360"/>
                  <a:ext cx="1467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∈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"/>
          <p:cNvGrpSpPr/>
          <p:nvPr/>
        </p:nvGrpSpPr>
        <p:grpSpPr>
          <a:xfrm>
            <a:off x="297000" y="2457360"/>
            <a:ext cx="8847000" cy="773280"/>
            <a:chOff x="297000" y="2457360"/>
            <a:chExt cx="8847000" cy="77328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2944800" y="2457360"/>
                  <a:ext cx="27907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r>
                            <m:t xml:space="preserve">≤</m:t>
                          </m:r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>
                                <m:t xml:space="preserve">/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6068880" y="2457360"/>
                  <a:ext cx="30751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575</m:t>
                          </m:r>
                          <m:r>
                            <m:t xml:space="preserve">≤</m:t>
                          </m:r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>
                                <m:t xml:space="preserve">/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575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9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97000" y="2509920"/>
                  <a:ext cx="24271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>
                                <m:t xml:space="preserve">/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8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"/>
          <p:cNvSpPr/>
          <p:nvPr/>
        </p:nvSpPr>
        <p:spPr>
          <a:xfrm>
            <a:off x="448164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6720" y="914400"/>
            <a:ext cx="8712360" cy="459720"/>
            <a:chOff x="216720" y="914400"/>
            <a:chExt cx="8712360" cy="459720"/>
          </a:xfrm>
        </p:grpSpPr>
        <p:sp>
          <p:nvSpPr>
            <p:cNvPr id="128" name=""/>
            <p:cNvSpPr/>
            <p:nvPr/>
          </p:nvSpPr>
          <p:spPr>
            <a:xfrm>
              <a:off x="216720" y="914400"/>
              <a:ext cx="87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ad odaberemo uzorak, slučajna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poprimit će vrijed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457960" y="952560"/>
                  <a:ext cx="3078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8537400" y="965160"/>
                  <a:ext cx="301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-381960" y="533520"/>
            <a:ext cx="8968320" cy="1557360"/>
            <a:chOff x="-381960" y="533520"/>
            <a:chExt cx="8968320" cy="1557360"/>
          </a:xfrm>
        </p:grpSpPr>
        <p:sp>
          <p:nvSpPr>
            <p:cNvPr id="132" name=""/>
            <p:cNvSpPr/>
            <p:nvPr/>
          </p:nvSpPr>
          <p:spPr>
            <a:xfrm>
              <a:off x="-381960" y="533520"/>
              <a:ext cx="8968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Obično </a:t>
              </a:r>
              <a:r>
                <a:rPr b="0" lang="hr-HR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 znamo varijancu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osnovnog skupa pa ju moramo procijeniti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Nepristrani procjenjitelj varijance j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968720" y="925560"/>
                  <a:ext cx="259092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-433800" y="2540160"/>
            <a:ext cx="8808120" cy="2044440"/>
            <a:chOff x="-433800" y="2540160"/>
            <a:chExt cx="8808120" cy="2044440"/>
          </a:xfrm>
        </p:grpSpPr>
        <p:sp>
          <p:nvSpPr>
            <p:cNvPr id="135" name=""/>
            <p:cNvSpPr/>
            <p:nvPr/>
          </p:nvSpPr>
          <p:spPr>
            <a:xfrm>
              <a:off x="-433800" y="2540160"/>
              <a:ext cx="88081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Za procjenjitelja standardne devijacije najčešće uzimamo slučajnu varijab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koja je vrlo bliska nepristranom procjenjitelju standardne devijacij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392280" y="2895480"/>
                  <a:ext cx="2076480" cy="12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"/>
          <p:cNvGrpSpPr/>
          <p:nvPr/>
        </p:nvGrpSpPr>
        <p:grpSpPr>
          <a:xfrm>
            <a:off x="145800" y="4732200"/>
            <a:ext cx="8617320" cy="1436760"/>
            <a:chOff x="145800" y="4732200"/>
            <a:chExt cx="8617320" cy="143676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562720" y="4732200"/>
                  <a:ext cx="3200400" cy="14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145800" y="5486400"/>
              <a:ext cx="531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nterval 68% pouzdanosti prosjeka je 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6440" y="11736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fizici se dogovorno svi rezultati mjerenja pišu s navođenjem iznosa 68-postotne nepouzdanos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5320" y="990720"/>
                <a:ext cx="838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" name=""/>
          <p:cNvGrpSpPr/>
          <p:nvPr/>
        </p:nvGrpSpPr>
        <p:grpSpPr>
          <a:xfrm>
            <a:off x="2160" y="1447920"/>
            <a:ext cx="9068040" cy="1369800"/>
            <a:chOff x="2160" y="1447920"/>
            <a:chExt cx="9068040" cy="1369800"/>
          </a:xfrm>
        </p:grpSpPr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990720" y="1447920"/>
                  <a:ext cx="2147760" cy="13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2160" y="2157120"/>
              <a:ext cx="9068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gdje je 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hr-HR" sz="2200" spc="-1" strike="noStrike">
                  <a:solidFill>
                    <a:srgbClr val="ff0000"/>
                  </a:solidFill>
                  <a:latin typeface="Times New Roman"/>
                </a:rPr>
                <a:t>nepouzdanost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izračunata iz </a:t>
              </a: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nezavisnih mjerenja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12760" y="3733920"/>
            <a:ext cx="8931240" cy="2288520"/>
            <a:chOff x="212760" y="3733920"/>
            <a:chExt cx="8931240" cy="2288520"/>
          </a:xfrm>
        </p:grpSpPr>
        <p:sp>
          <p:nvSpPr>
            <p:cNvPr id="146" name=""/>
            <p:cNvSpPr/>
            <p:nvPr/>
          </p:nvSpPr>
          <p:spPr>
            <a:xfrm>
              <a:off x="212760" y="3733920"/>
              <a:ext cx="8931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Također se upotrebljava veličina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ja označava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preciznost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svakog pojedinog mjerenj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4367160" y="3886200"/>
                  <a:ext cx="274320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4037040" y="2708280"/>
            <a:ext cx="395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DARDNA PO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38360" y="1144440"/>
                <a:ext cx="6001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219320" y="1143000"/>
            <a:ext cx="3657240" cy="3581280"/>
            <a:chOff x="1219320" y="1143000"/>
            <a:chExt cx="3657240" cy="3581280"/>
          </a:xfrm>
        </p:grpSpPr>
        <p:grpSp>
          <p:nvGrpSpPr>
            <p:cNvPr id="151" name=""/>
            <p:cNvGrpSpPr/>
            <p:nvPr/>
          </p:nvGrpSpPr>
          <p:grpSpPr>
            <a:xfrm>
              <a:off x="1224000" y="1145160"/>
              <a:ext cx="3646440" cy="3576240"/>
              <a:chOff x="1224000" y="1145160"/>
              <a:chExt cx="3646440" cy="35762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224000" y="1145160"/>
                <a:ext cx="578520" cy="297720"/>
                <a:chOff x="1224000" y="1145160"/>
                <a:chExt cx="578520" cy="297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296000" y="114516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24000" y="114516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802880" y="1145160"/>
                <a:ext cx="990000" cy="297720"/>
                <a:chOff x="1802880" y="1145160"/>
                <a:chExt cx="990000" cy="297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874880" y="114516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m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02880" y="114516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793240" y="1145160"/>
                <a:ext cx="2077200" cy="297720"/>
                <a:chOff x="2793240" y="1145160"/>
                <a:chExt cx="2077200" cy="2977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865240" y="114516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ms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93240" y="114516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224000" y="1442880"/>
                <a:ext cx="578520" cy="297720"/>
                <a:chOff x="1224000" y="1442880"/>
                <a:chExt cx="578520" cy="2977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296000" y="144288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24000" y="144288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802880" y="1442880"/>
                <a:ext cx="990000" cy="297720"/>
                <a:chOff x="1802880" y="1442880"/>
                <a:chExt cx="990000" cy="2977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874880" y="144288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802880" y="144288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93240" y="1442880"/>
                <a:ext cx="2077200" cy="297720"/>
                <a:chOff x="2793240" y="1442880"/>
                <a:chExt cx="2077200" cy="297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865240" y="144288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57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93240" y="144288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224000" y="1740960"/>
                <a:ext cx="578520" cy="297720"/>
                <a:chOff x="1224000" y="1740960"/>
                <a:chExt cx="578520" cy="297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296000" y="174096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24000" y="174096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802880" y="1740960"/>
                <a:ext cx="990000" cy="297720"/>
                <a:chOff x="1802880" y="1740960"/>
                <a:chExt cx="990000" cy="297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874880" y="174096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02880" y="174096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793240" y="1740960"/>
                <a:ext cx="2077200" cy="297720"/>
                <a:chOff x="2793240" y="1740960"/>
                <a:chExt cx="2077200" cy="2977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865240" y="174096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3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93240" y="174096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224000" y="2039040"/>
                <a:ext cx="578520" cy="297720"/>
                <a:chOff x="1224000" y="2039040"/>
                <a:chExt cx="578520" cy="2977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96000" y="203904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224000" y="203904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802880" y="2039040"/>
                <a:ext cx="990000" cy="297720"/>
                <a:chOff x="1802880" y="2039040"/>
                <a:chExt cx="990000" cy="297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874880" y="203904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02880" y="203904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793240" y="2039040"/>
                <a:ext cx="2077200" cy="297720"/>
                <a:chOff x="2793240" y="2039040"/>
                <a:chExt cx="2077200" cy="297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65240" y="203904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1239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93240" y="203904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224000" y="2337120"/>
                <a:ext cx="578520" cy="298080"/>
                <a:chOff x="1224000" y="2337120"/>
                <a:chExt cx="578520" cy="298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296000" y="2337120"/>
                  <a:ext cx="4345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224000" y="2337120"/>
                  <a:ext cx="5785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02880" y="2337120"/>
                <a:ext cx="990000" cy="298080"/>
                <a:chOff x="1802880" y="2337120"/>
                <a:chExt cx="990000" cy="2980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874880" y="2337120"/>
                  <a:ext cx="84564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02880" y="2337120"/>
                  <a:ext cx="99000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93240" y="2337120"/>
                <a:ext cx="2077200" cy="298080"/>
                <a:chOff x="2793240" y="2337120"/>
                <a:chExt cx="2077200" cy="2980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865240" y="2337120"/>
                  <a:ext cx="193320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669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93240" y="2337120"/>
                  <a:ext cx="207720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224000" y="2635560"/>
                <a:ext cx="578520" cy="297720"/>
                <a:chOff x="1224000" y="2635560"/>
                <a:chExt cx="578520" cy="297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96000" y="263556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24000" y="263556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802880" y="2635560"/>
                <a:ext cx="990000" cy="297720"/>
                <a:chOff x="1802880" y="2635560"/>
                <a:chExt cx="990000" cy="297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874880" y="263556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02880" y="263556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793240" y="2635560"/>
                <a:ext cx="2077200" cy="297720"/>
                <a:chOff x="2793240" y="2635560"/>
                <a:chExt cx="2077200" cy="297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865240" y="263556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760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93240" y="263556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224000" y="2933640"/>
                <a:ext cx="578520" cy="297720"/>
                <a:chOff x="1224000" y="2933640"/>
                <a:chExt cx="578520" cy="2977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296000" y="293364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224000" y="293364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802880" y="2933640"/>
                <a:ext cx="990000" cy="297720"/>
                <a:chOff x="1802880" y="2933640"/>
                <a:chExt cx="990000" cy="2977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874880" y="293364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802880" y="293364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793240" y="2933640"/>
                <a:ext cx="2077200" cy="297720"/>
                <a:chOff x="2793240" y="2933640"/>
                <a:chExt cx="2077200" cy="2977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865240" y="293364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942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793240" y="293364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224000" y="3231360"/>
                <a:ext cx="578520" cy="297720"/>
                <a:chOff x="1224000" y="3231360"/>
                <a:chExt cx="578520" cy="2977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96000" y="323136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24000" y="323136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802880" y="3231360"/>
                <a:ext cx="990000" cy="297720"/>
                <a:chOff x="1802880" y="3231360"/>
                <a:chExt cx="990000" cy="2977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874880" y="323136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2880" y="323136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793240" y="3231360"/>
                <a:ext cx="2077200" cy="297720"/>
                <a:chOff x="2793240" y="3231360"/>
                <a:chExt cx="2077200" cy="2977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865240" y="323136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942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793240" y="323136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224000" y="3529440"/>
                <a:ext cx="578520" cy="297720"/>
                <a:chOff x="1224000" y="3529440"/>
                <a:chExt cx="578520" cy="2977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96000" y="352944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24000" y="352944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802880" y="3529440"/>
                <a:ext cx="990000" cy="297720"/>
                <a:chOff x="1802880" y="3529440"/>
                <a:chExt cx="990000" cy="2977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874880" y="352944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802880" y="352944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793240" y="3529440"/>
                <a:ext cx="2077200" cy="297720"/>
                <a:chOff x="2793240" y="3529440"/>
                <a:chExt cx="2077200" cy="2977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865240" y="352944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487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93240" y="352944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224000" y="3827520"/>
                <a:ext cx="578520" cy="297720"/>
                <a:chOff x="1224000" y="3827520"/>
                <a:chExt cx="578520" cy="2977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296000" y="382752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24000" y="382752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802880" y="3827520"/>
                <a:ext cx="990000" cy="297720"/>
                <a:chOff x="1802880" y="3827520"/>
                <a:chExt cx="990000" cy="2977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874880" y="382752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02880" y="382752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793240" y="3827520"/>
                <a:ext cx="2077200" cy="297720"/>
                <a:chOff x="2793240" y="3827520"/>
                <a:chExt cx="2077200" cy="2977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865240" y="382752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3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793240" y="382752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224000" y="4125600"/>
                <a:ext cx="578520" cy="297720"/>
                <a:chOff x="1224000" y="4125600"/>
                <a:chExt cx="578520" cy="297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296000" y="412560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224000" y="412560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1802880" y="4125600"/>
                <a:ext cx="990000" cy="297720"/>
                <a:chOff x="1802880" y="4125600"/>
                <a:chExt cx="990000" cy="297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874880" y="412560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02880" y="412560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793240" y="4125600"/>
                <a:ext cx="2077200" cy="297720"/>
                <a:chOff x="2793240" y="4125600"/>
                <a:chExt cx="2077200" cy="2977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865240" y="412560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39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793240" y="412560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224000" y="4423680"/>
                <a:ext cx="578520" cy="297720"/>
                <a:chOff x="1224000" y="4423680"/>
                <a:chExt cx="578520" cy="2977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296000" y="4423680"/>
                  <a:ext cx="43452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24000" y="4423680"/>
                  <a:ext cx="57852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802880" y="4423680"/>
                <a:ext cx="990000" cy="297720"/>
                <a:chOff x="1802880" y="4423680"/>
                <a:chExt cx="990000" cy="297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874880" y="4423680"/>
                  <a:ext cx="8456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802880" y="4423680"/>
                  <a:ext cx="9900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793240" y="4423680"/>
                <a:ext cx="2077200" cy="297720"/>
                <a:chOff x="2793240" y="4423680"/>
                <a:chExt cx="2077200" cy="2977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865240" y="4423680"/>
                  <a:ext cx="193320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669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793240" y="4423680"/>
                  <a:ext cx="2077200" cy="29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1219320" y="1143000"/>
              <a:ext cx="36572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943600" y="1066680"/>
                <a:ext cx="10288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6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867280" y="1676520"/>
                <a:ext cx="1704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8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600" y="2514600"/>
                <a:ext cx="171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4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943600" y="3124080"/>
                <a:ext cx="2286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9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867280" y="4191120"/>
                <a:ext cx="1400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2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756000" y="5029200"/>
            <a:ext cx="6654600" cy="817560"/>
            <a:chOff x="756000" y="5029200"/>
            <a:chExt cx="6654600" cy="81756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191120" y="5333760"/>
                  <a:ext cx="321948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8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±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756000" y="5029200"/>
              <a:ext cx="33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isanje rezultata mjere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49400" y="6018120"/>
            <a:ext cx="4346280" cy="687600"/>
            <a:chOff x="149400" y="6018120"/>
            <a:chExt cx="4346280" cy="687600"/>
          </a:xfrm>
        </p:grpSpPr>
        <p:sp>
          <p:nvSpPr>
            <p:cNvPr id="271" name=""/>
            <p:cNvSpPr/>
            <p:nvPr/>
          </p:nvSpPr>
          <p:spPr>
            <a:xfrm>
              <a:off x="149400" y="609588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relativna pogreška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2666880" y="6018120"/>
                  <a:ext cx="182880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602720" y="228600"/>
            <a:ext cx="53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Propagacija pogreš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990720"/>
            <a:ext cx="79408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sredno mjerene velič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Npr.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Mjerimo visinu stol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i visinu stolc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 a zanima nas koliko će visok biti stolac ako ga stavimo na stol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h=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Mjerimo vrijem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padanja kuglice s vrha nebodera, a želimo odrediti visinu neboder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h=gt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Mjerimo mas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i volumen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nekog predmeta, a želimo odrediti njegovu gustoću </a:t>
            </a:r>
            <a:r>
              <a:rPr b="0" i="1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=m/V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4572000"/>
            <a:ext cx="7086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tpostav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greške su slučajne (normalno raspodijelje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malene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0240" y="45720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jednostavniji sluča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533520" y="1447920"/>
            <a:ext cx="9372600" cy="1092240"/>
            <a:chOff x="-533520" y="1447920"/>
            <a:chExt cx="9372600" cy="1092240"/>
          </a:xfrm>
        </p:grpSpPr>
        <p:sp>
          <p:nvSpPr>
            <p:cNvPr id="278" name=""/>
            <p:cNvSpPr/>
            <p:nvPr/>
          </p:nvSpPr>
          <p:spPr>
            <a:xfrm>
              <a:off x="-533520" y="1447920"/>
              <a:ext cx="937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660066"/>
                  </a:solidFill>
                  <a:latin typeface="Times New Roman"/>
                </a:rPr>
                <a:t>Posredna veličina je linearna kombinacija izravno mjerenih velič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3009960" y="2133720"/>
                  <a:ext cx="23572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"/>
          <p:cNvGrpSpPr/>
          <p:nvPr/>
        </p:nvGrpSpPr>
        <p:grpSpPr>
          <a:xfrm>
            <a:off x="914400" y="3352680"/>
            <a:ext cx="5266800" cy="466560"/>
            <a:chOff x="914400" y="3352680"/>
            <a:chExt cx="5266800" cy="466560"/>
          </a:xfrm>
        </p:grpSpPr>
        <p:sp>
          <p:nvSpPr>
            <p:cNvPr id="281" name=""/>
            <p:cNvSpPr/>
            <p:nvPr/>
          </p:nvSpPr>
          <p:spPr>
            <a:xfrm>
              <a:off x="914400" y="3352680"/>
              <a:ext cx="26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čekivanje 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3112920" y="3387600"/>
                  <a:ext cx="30682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a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μ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3" name=""/>
          <p:cNvGrpSpPr/>
          <p:nvPr/>
        </p:nvGrpSpPr>
        <p:grpSpPr>
          <a:xfrm>
            <a:off x="989280" y="4800600"/>
            <a:ext cx="4952880" cy="655560"/>
            <a:chOff x="989280" y="4800600"/>
            <a:chExt cx="4952880" cy="65556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200400" y="4800600"/>
                  <a:ext cx="27417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989280" y="487656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Varijanca 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595080" y="533520"/>
            <a:ext cx="7908840" cy="896760"/>
            <a:chOff x="595080" y="533520"/>
            <a:chExt cx="7908840" cy="896760"/>
          </a:xfrm>
        </p:grpSpPr>
        <p:sp>
          <p:nvSpPr>
            <p:cNvPr id="287" name=""/>
            <p:cNvSpPr/>
            <p:nvPr/>
          </p:nvSpPr>
          <p:spPr>
            <a:xfrm>
              <a:off x="595080" y="533520"/>
              <a:ext cx="79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660066"/>
                  </a:solidFill>
                  <a:latin typeface="Times New Roman"/>
                </a:rPr>
                <a:t>Posredna veličina je </a:t>
              </a:r>
              <a:r>
                <a:rPr b="0" lang="hr-HR" sz="24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nelinearna funkcija</a:t>
              </a:r>
              <a:r>
                <a:rPr b="0" lang="hr-HR" sz="2400" spc="-1" strike="noStrike">
                  <a:solidFill>
                    <a:srgbClr val="660066"/>
                  </a:solidFill>
                  <a:latin typeface="Times New Roman"/>
                </a:rPr>
                <a:t> jedne mjerene velič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978000" y="1025640"/>
                  <a:ext cx="7412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"/>
          <p:cNvSpPr/>
          <p:nvPr/>
        </p:nvSpPr>
        <p:spPr>
          <a:xfrm>
            <a:off x="292680" y="1828800"/>
            <a:ext cx="83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udući da smo pretpostavili da je pogreška malena, možemo 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090440" y="2438280"/>
                <a:ext cx="3094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≃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24640" y="3581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gledajmo sad kako propagira pogrešk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057400" y="4419720"/>
                <a:ext cx="4494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91840" y="50706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ojem u 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362320" y="5638680"/>
                <a:ext cx="3930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64320" y="4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rugi sluča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375120" y="2133720"/>
            <a:ext cx="6798960" cy="1014120"/>
            <a:chOff x="375120" y="2133720"/>
            <a:chExt cx="6798960" cy="1014120"/>
          </a:xfrm>
        </p:grpSpPr>
        <p:sp>
          <p:nvSpPr>
            <p:cNvPr id="297" name=""/>
            <p:cNvSpPr/>
            <p:nvPr/>
          </p:nvSpPr>
          <p:spPr>
            <a:xfrm>
              <a:off x="375120" y="2234880"/>
              <a:ext cx="404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male pogreške dakle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4889520" y="2133720"/>
                  <a:ext cx="228456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h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μ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"/>
          <p:cNvGrpSpPr/>
          <p:nvPr/>
        </p:nvGrpSpPr>
        <p:grpSpPr>
          <a:xfrm>
            <a:off x="226800" y="3733920"/>
            <a:ext cx="4840560" cy="509400"/>
            <a:chOff x="226800" y="3733920"/>
            <a:chExt cx="4840560" cy="509400"/>
          </a:xfrm>
        </p:grpSpPr>
        <p:sp>
          <p:nvSpPr>
            <p:cNvPr id="300" name=""/>
            <p:cNvSpPr/>
            <p:nvPr/>
          </p:nvSpPr>
          <p:spPr>
            <a:xfrm>
              <a:off x="226800" y="3733920"/>
              <a:ext cx="32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osebno: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ogreška potenci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3581280" y="3733920"/>
                  <a:ext cx="1486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α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526320" y="5486400"/>
            <a:ext cx="6354000" cy="782640"/>
            <a:chOff x="526320" y="5486400"/>
            <a:chExt cx="6354000" cy="782640"/>
          </a:xfrm>
        </p:grpSpPr>
        <p:sp>
          <p:nvSpPr>
            <p:cNvPr id="303" name=""/>
            <p:cNvSpPr/>
            <p:nvPr/>
          </p:nvSpPr>
          <p:spPr>
            <a:xfrm>
              <a:off x="526320" y="5639040"/>
              <a:ext cx="447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relativne pogreške dakle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130720" y="5486400"/>
                  <a:ext cx="174960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h</m:t>
                              </m:r>
                            </m:e>
                          </m:acc>
                        </m:den>
                      </m:f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687480" y="4495680"/>
            <a:ext cx="2913120" cy="482040"/>
            <a:chOff x="3687480" y="4495680"/>
            <a:chExt cx="2913120" cy="482040"/>
          </a:xfrm>
        </p:grpSpPr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419360" y="4495680"/>
                  <a:ext cx="218124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  <m:s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p>
                          <m:r>
                            <m:t xml:space="preserve">α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7" name=""/>
            <p:cNvSpPr/>
            <p:nvPr/>
          </p:nvSpPr>
          <p:spPr>
            <a:xfrm>
              <a:off x="3687480" y="45180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33520" y="609480"/>
                <a:ext cx="765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304920"/>
          <a:ext cx="3116520" cy="25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31165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486400" y="304920"/>
          <a:ext cx="3116160" cy="25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04920"/>
                    <a:ext cx="311616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192920" y="10666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95480" y="2895480"/>
            <a:ext cx="3809880" cy="762120"/>
            <a:chOff x="2895480" y="2895480"/>
            <a:chExt cx="3809880" cy="762120"/>
          </a:xfrm>
        </p:grpSpPr>
        <p:sp>
          <p:nvSpPr>
            <p:cNvPr id="52" name=""/>
            <p:cNvSpPr/>
            <p:nvPr/>
          </p:nvSpPr>
          <p:spPr>
            <a:xfrm>
              <a:off x="2895480" y="2895480"/>
              <a:ext cx="114300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09720" y="2895480"/>
              <a:ext cx="129564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3048120" y="3962520"/>
          <a:ext cx="3228840" cy="25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962520"/>
                    <a:ext cx="322884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363680"/>
            <a:ext cx="3116160" cy="3439440"/>
            <a:chOff x="0" y="1363680"/>
            <a:chExt cx="3116160" cy="3439440"/>
          </a:xfrm>
        </p:grpSpPr>
        <p:graphicFrame>
          <p:nvGraphicFramePr>
            <p:cNvPr id="57" name=""/>
            <p:cNvGraphicFramePr/>
            <p:nvPr/>
          </p:nvGraphicFramePr>
          <p:xfrm>
            <a:off x="0" y="1363680"/>
            <a:ext cx="3116160" cy="257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63680"/>
                      <a:ext cx="311616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900000" y="43434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86400" y="1219320"/>
            <a:ext cx="3657600" cy="3507480"/>
            <a:chOff x="5486400" y="1219320"/>
            <a:chExt cx="3657600" cy="3507480"/>
          </a:xfrm>
        </p:grpSpPr>
        <p:graphicFrame>
          <p:nvGraphicFramePr>
            <p:cNvPr id="61" name=""/>
            <p:cNvGraphicFramePr/>
            <p:nvPr/>
          </p:nvGraphicFramePr>
          <p:xfrm>
            <a:off x="5486400" y="1219320"/>
            <a:ext cx="3657600" cy="288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19320"/>
                      <a:ext cx="3657600" cy="28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7316640" y="42670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819520" y="1414440"/>
            <a:ext cx="3228840" cy="3388680"/>
            <a:chOff x="2819520" y="1414440"/>
            <a:chExt cx="3228840" cy="3388680"/>
          </a:xfrm>
        </p:grpSpPr>
        <p:graphicFrame>
          <p:nvGraphicFramePr>
            <p:cNvPr id="65" name=""/>
            <p:cNvGraphicFramePr/>
            <p:nvPr/>
          </p:nvGraphicFramePr>
          <p:xfrm>
            <a:off x="2819520" y="1414440"/>
            <a:ext cx="3228840" cy="254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19520" y="1414440"/>
                      <a:ext cx="3228840" cy="254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4192200" y="43434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514600" y="2743200"/>
            <a:ext cx="3809520" cy="762120"/>
            <a:chOff x="2514600" y="2743200"/>
            <a:chExt cx="3809520" cy="762120"/>
          </a:xfrm>
        </p:grpSpPr>
        <p:sp>
          <p:nvSpPr>
            <p:cNvPr id="69" name=""/>
            <p:cNvSpPr/>
            <p:nvPr/>
          </p:nvSpPr>
          <p:spPr>
            <a:xfrm>
              <a:off x="2514600" y="2743200"/>
              <a:ext cx="114264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028840" y="2743200"/>
              <a:ext cx="129528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380880" y="0"/>
          <a:ext cx="2741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2741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"/>
          <p:cNvGrpSpPr/>
          <p:nvPr/>
        </p:nvGrpSpPr>
        <p:grpSpPr>
          <a:xfrm>
            <a:off x="4192920" y="0"/>
            <a:ext cx="3882600" cy="2494080"/>
            <a:chOff x="4192920" y="0"/>
            <a:chExt cx="3882600" cy="2494080"/>
          </a:xfrm>
        </p:grpSpPr>
        <p:sp>
          <p:nvSpPr>
            <p:cNvPr id="74" name=""/>
            <p:cNvSpPr/>
            <p:nvPr/>
          </p:nvSpPr>
          <p:spPr>
            <a:xfrm>
              <a:off x="4192920" y="1066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5334120" y="0"/>
            <a:ext cx="2741400" cy="249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0"/>
                      <a:ext cx="2741400" cy="249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7" name=""/>
          <p:cNvGraphicFramePr/>
          <p:nvPr/>
        </p:nvGraphicFramePr>
        <p:xfrm>
          <a:off x="2895480" y="3733920"/>
          <a:ext cx="2835360" cy="24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733920"/>
                    <a:ext cx="283536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6760" y="1143000"/>
            <a:ext cx="566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tat.sc.edu/~west/javahtml/CLT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6080" y="15228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Središnji granični teorem (C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685800"/>
            <a:ext cx="8229600" cy="2724120"/>
            <a:chOff x="380880" y="685800"/>
            <a:chExt cx="8229600" cy="2724120"/>
          </a:xfrm>
        </p:grpSpPr>
        <p:sp>
          <p:nvSpPr>
            <p:cNvPr id="82" name=""/>
            <p:cNvSpPr/>
            <p:nvPr/>
          </p:nvSpPr>
          <p:spPr>
            <a:xfrm>
              <a:off x="380880" y="685800"/>
              <a:ext cx="8229600" cy="27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eka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slučajni uzorak </a:t>
              </a: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ilo koje raspodje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s očekivanjem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i standardnom devijacijom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dovoljno velik,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ima približno </a:t>
              </a:r>
              <a:r>
                <a:rPr b="1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maln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raspodjelu s očekivanjem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 standardnom devijacij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ima također približno normalnu raspodjelu s očekivanjem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i standardnom devijacij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219320" y="1447560"/>
                  <a:ext cx="3524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57200" y="1981080"/>
                  <a:ext cx="10429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029200" y="1752480"/>
                  <a:ext cx="129528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457200" y="2846160"/>
                  <a:ext cx="12240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>
                        <m:t xml:space="preserve">n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5105520" y="2819160"/>
                  <a:ext cx="161928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8" name="prosjekCLT" descr=""/>
          <p:cNvPicPr/>
          <p:nvPr/>
        </p:nvPicPr>
        <p:blipFill>
          <a:blip r:embed="rId1"/>
          <a:stretch/>
        </p:blipFill>
        <p:spPr>
          <a:xfrm>
            <a:off x="1143000" y="3492360"/>
            <a:ext cx="67518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pulacija koja nas zanima ima karakteristične parametr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momenti, proporcije i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ismo u mogućnosti odrediti ih na cijelom sk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zimamo uzor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 osnovi uzorka želimo procijeniti parametre osnovnog skupa (populaci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5880" y="533520"/>
            <a:ext cx="66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ocjena parametara </a:t>
            </a: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populacij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a </a:t>
            </a: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osnov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u</a:t>
            </a: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zor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69960" y="345960"/>
            <a:ext cx="7940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neki parametar raspodjele osnovnog skupa (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a bismo procjenil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zimamo uzora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efiniramo slučajnu varijablu      kao funkciju slučajnih varijabl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zivamo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procjenjitel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arametra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62120" y="1851120"/>
                <a:ext cx="284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3" name=""/>
          <p:cNvGrpSpPr/>
          <p:nvPr/>
        </p:nvGrpSpPr>
        <p:grpSpPr>
          <a:xfrm>
            <a:off x="669960" y="2479680"/>
            <a:ext cx="8016840" cy="1922760"/>
            <a:chOff x="669960" y="2479680"/>
            <a:chExt cx="8016840" cy="1922760"/>
          </a:xfrm>
        </p:grpSpPr>
        <p:sp>
          <p:nvSpPr>
            <p:cNvPr id="94" name=""/>
            <p:cNvSpPr/>
            <p:nvPr/>
          </p:nvSpPr>
          <p:spPr>
            <a:xfrm>
              <a:off x="669960" y="2479680"/>
              <a:ext cx="8016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procjenjitelj       kažemo da je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nepristrani procjenjitelj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parametr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ako je njegovo oček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743200" y="2819520"/>
                  <a:ext cx="2840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352680" y="3733920"/>
                  <a:ext cx="120168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"/>
          <p:cNvGrpSpPr/>
          <p:nvPr/>
        </p:nvGrpSpPr>
        <p:grpSpPr>
          <a:xfrm>
            <a:off x="609480" y="4876920"/>
            <a:ext cx="8016840" cy="1607400"/>
            <a:chOff x="609480" y="4876920"/>
            <a:chExt cx="8016840" cy="1607400"/>
          </a:xfrm>
        </p:grpSpPr>
        <p:sp>
          <p:nvSpPr>
            <p:cNvPr id="98" name=""/>
            <p:cNvSpPr/>
            <p:nvPr/>
          </p:nvSpPr>
          <p:spPr>
            <a:xfrm>
              <a:off x="609480" y="4876920"/>
              <a:ext cx="801684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po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zici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ko j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...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slučajni uzorak neke populacije, onda je slučajna varijabla      nepristrani procjenjitelj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kivanj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te populacije 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895480" y="5638680"/>
                  <a:ext cx="3621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419720" y="1066680"/>
                <a:ext cx="284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080" y="117360"/>
            <a:ext cx="84740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o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zi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i uzorak neke populacije, onda je slučajna varij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pristrani procjenjitelj varijance osnovnog skupa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47840" y="1117440"/>
                <a:ext cx="30718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0" y="4038480"/>
            <a:ext cx="9144000" cy="861840"/>
            <a:chOff x="0" y="4038480"/>
            <a:chExt cx="9144000" cy="861840"/>
          </a:xfrm>
        </p:grpSpPr>
        <p:sp>
          <p:nvSpPr>
            <p:cNvPr id="104" name=""/>
            <p:cNvSpPr/>
            <p:nvPr/>
          </p:nvSpPr>
          <p:spPr>
            <a:xfrm>
              <a:off x="0" y="42145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Mogli smo za procjenjitelja odabrat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876920" y="4038480"/>
                  <a:ext cx="25984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" name=""/>
          <p:cNvGrpSpPr/>
          <p:nvPr/>
        </p:nvGrpSpPr>
        <p:grpSpPr>
          <a:xfrm>
            <a:off x="1829520" y="5257800"/>
            <a:ext cx="3351600" cy="882720"/>
            <a:chOff x="1829520" y="5257800"/>
            <a:chExt cx="3351600" cy="882720"/>
          </a:xfrm>
        </p:grpSpPr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2895480" y="5257800"/>
                  <a:ext cx="228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"/>
            <p:cNvSpPr/>
            <p:nvPr/>
          </p:nvSpPr>
          <p:spPr>
            <a:xfrm>
              <a:off x="1829520" y="54864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li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25T12:59:28Z</dcterms:modified>
  <cp:revision>68</cp:revision>
  <dc:subject/>
  <dc:title>No Slide Title</dc:title>
</cp:coreProperties>
</file>