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75C-A624-4EBC-A0F8-F2099909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74A-19E3-41A7-8044-F5A212AF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B4D-E546-42C7-9FE4-A458B8F6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810-C641-46BA-A114-C4AFAA69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03B-B3A4-48C7-83F1-21B18537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646C-B8E0-4504-BD58-C40140A4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054-41F9-4F72-82FC-57CFBE6A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CEC-0AD2-4782-8D79-52E3450C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4D5-3A0D-4756-B3C5-FD6ED8B3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430-61B3-4788-9585-1014BE63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031-5789-417F-9468-68EBAB9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D402-4BA3-4872-8ADE-BDCCADA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AA0C-4FD8-417D-A5C2-2369C2270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9280" y="523800"/>
            <a:ext cx="44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ezavisne slučajne varij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295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05120"/>
            <a:ext cx="86104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e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za svaki par vrijednos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 diskretne varij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a kontinuirane varijab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ti uvjeti nisu ispunjeni za sve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kažemo d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44600" y="2666880"/>
                <a:ext cx="283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25520" y="3378240"/>
                <a:ext cx="2774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133720" y="5486400"/>
                <a:ext cx="3071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4440" y="142920"/>
            <a:ext cx="67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Linearna kombinacija </a:t>
            </a:r>
            <a:r>
              <a:rPr b="0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dviju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lučajnih varijab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762120"/>
            <a:ext cx="801684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D raspodj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e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koje se mogu zbraj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družena raspodjela vjerojatnosti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,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(linearna kombinac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4760" y="289548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Očekivanje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590920" y="3429000"/>
                <a:ext cx="30780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447920" y="4495680"/>
                <a:ext cx="58957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50720" y="396252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2600" y="525780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razlike</a:t>
            </a: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 nezavisnih varijabli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" y="5791320"/>
                <a:ext cx="4579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486400" y="5334120"/>
            <a:ext cx="2895480" cy="1281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arijanca razlike je zbroj varijanci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 ne razlik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15520" y="142920"/>
            <a:ext cx="62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Linearna kombinacija </a:t>
            </a:r>
            <a:r>
              <a:rPr b="0" i="1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n</a:t>
            </a:r>
            <a:r>
              <a:rPr b="0" lang="hr-HR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slučajnih varijab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80168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bilo koji skup slučajnih varijabl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i konst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slučajna varij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+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linearna kombinaci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o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74760" y="2895480"/>
            <a:ext cx="7538760" cy="944280"/>
            <a:chOff x="374760" y="2895480"/>
            <a:chExt cx="7538760" cy="944280"/>
          </a:xfrm>
        </p:grpSpPr>
        <p:sp>
          <p:nvSpPr>
            <p:cNvPr id="205" name=""/>
            <p:cNvSpPr/>
            <p:nvPr/>
          </p:nvSpPr>
          <p:spPr>
            <a:xfrm>
              <a:off x="374760" y="2895480"/>
              <a:ext cx="42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Očekivanje linearne kombinacije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56840" y="3428640"/>
                  <a:ext cx="745668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511200" y="40798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Varijanca linearne kombinacij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6600" y="4800600"/>
                <a:ext cx="9001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v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09" name=""/>
          <p:cNvGrpSpPr/>
          <p:nvPr/>
        </p:nvGrpSpPr>
        <p:grpSpPr>
          <a:xfrm>
            <a:off x="132120" y="5603760"/>
            <a:ext cx="8170560" cy="949320"/>
            <a:chOff x="132120" y="5603760"/>
            <a:chExt cx="8170560" cy="949320"/>
          </a:xfrm>
        </p:grpSpPr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838080" y="6076800"/>
                  <a:ext cx="746460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132120" y="5603760"/>
              <a:ext cx="29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za nezavisne varijab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4440" y="30492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Slučajni uzor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990720"/>
            <a:ext cx="861048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U mnogim statističkim problemima vrijednosti u uzorku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elemenat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...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 i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 neke populacije mogu se zamisliti kao opažene vrijednosti niza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jednakih slučajnih varijab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Neka s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takve nove slučajne varij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66688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lučajne varijable. Kažemo da one čin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slučajni uzor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eličin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ako su varijab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a) nezavisne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b) imaju iste raspodjele vjerojatn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648320"/>
            <a:ext cx="69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žemo da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nezavisn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i identično raspodijelj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06760" y="5183280"/>
            <a:ext cx="600372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je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jerenje fizikalne veličine (populacija je beskonač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zimanje uzorka s povra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zimanje uzorka iz velike popu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74320" y="304920"/>
            <a:ext cx="53013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0000"/>
                </a:solidFill>
                <a:latin typeface="Times New Roman"/>
              </a:rPr>
              <a:t>Slučajni uzor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hr-HR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21932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skup od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identičnih i nezavisnih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895480"/>
            <a:ext cx="6454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maju istu raspodjelu vjerojatnosti pa dak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o očekivanje  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stu varijancu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200400" y="2286000"/>
                <a:ext cx="17035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1679400" y="254160"/>
            <a:ext cx="4475520" cy="585360"/>
            <a:chOff x="1679400" y="254160"/>
            <a:chExt cx="4475520" cy="585360"/>
          </a:xfrm>
        </p:grpSpPr>
        <p:sp>
          <p:nvSpPr>
            <p:cNvPr id="222" name=""/>
            <p:cNvSpPr/>
            <p:nvPr/>
          </p:nvSpPr>
          <p:spPr>
            <a:xfrm>
              <a:off x="1679400" y="318960"/>
              <a:ext cx="447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rosjek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lu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jnog u</a:t>
              </a:r>
              <a:r>
                <a:rPr b="1" lang="hr-HR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rk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971800" y="254160"/>
                  <a:ext cx="5205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4" name=""/>
          <p:cNvSpPr/>
          <p:nvPr/>
        </p:nvSpPr>
        <p:spPr>
          <a:xfrm>
            <a:off x="53352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60020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linearna kombinacija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6280" y="4114800"/>
            <a:ext cx="4213440" cy="459720"/>
            <a:chOff x="836280" y="4114800"/>
            <a:chExt cx="4213440" cy="459720"/>
          </a:xfrm>
        </p:grpSpPr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3733560" y="4114800"/>
                  <a:ext cx="13161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"/>
            <p:cNvSpPr/>
            <p:nvPr/>
          </p:nvSpPr>
          <p:spPr>
            <a:xfrm>
              <a:off x="836280" y="4114800"/>
              <a:ext cx="27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čekivanje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 prosjek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60320" y="5105520"/>
            <a:ext cx="6701040" cy="909000"/>
            <a:chOff x="760320" y="5105520"/>
            <a:chExt cx="6701040" cy="909000"/>
          </a:xfrm>
        </p:grpSpPr>
        <p:sp>
          <p:nvSpPr>
            <p:cNvPr id="230" name=""/>
            <p:cNvSpPr/>
            <p:nvPr/>
          </p:nvSpPr>
          <p:spPr>
            <a:xfrm>
              <a:off x="760320" y="53337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Varijanca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prosjek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172560" y="5181480"/>
                  <a:ext cx="128880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3429360" y="5105520"/>
                  <a:ext cx="1535040" cy="89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78680" y="318960"/>
            <a:ext cx="42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lu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jnog u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0666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lučajna varijab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600200"/>
            <a:ext cx="701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linearna kombinacija slučajnih varijabli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666880" y="304920"/>
                <a:ext cx="478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29000" y="2209680"/>
                <a:ext cx="141120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238" name=""/>
          <p:cNvGrpSpPr/>
          <p:nvPr/>
        </p:nvGrpSpPr>
        <p:grpSpPr>
          <a:xfrm>
            <a:off x="1064160" y="3962520"/>
            <a:ext cx="4141080" cy="532800"/>
            <a:chOff x="1064160" y="3962520"/>
            <a:chExt cx="4141080" cy="532800"/>
          </a:xfrm>
        </p:grpSpPr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3733920" y="4038480"/>
                  <a:ext cx="147132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1064160" y="3962520"/>
              <a:ext cx="240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Očekivanje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total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35200" y="5410080"/>
            <a:ext cx="6884640" cy="711000"/>
            <a:chOff x="835200" y="5410080"/>
            <a:chExt cx="6884640" cy="711000"/>
          </a:xfrm>
        </p:grpSpPr>
        <p:sp>
          <p:nvSpPr>
            <p:cNvPr id="242" name=""/>
            <p:cNvSpPr/>
            <p:nvPr/>
          </p:nvSpPr>
          <p:spPr>
            <a:xfrm>
              <a:off x="835200" y="5410080"/>
              <a:ext cx="21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Times New Roman"/>
                </a:rPr>
                <a:t>Varijanca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total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6248520" y="5562360"/>
                  <a:ext cx="14713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>
                        <m:t xml:space="preserve">σ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352680" y="5410080"/>
                  <a:ext cx="1663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n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594800" y="533520"/>
            <a:ext cx="47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spodjela prosjeka uzork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5238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ka je uzorak sastavljen od slučajnih varijabli proizvoljna oblika raspodje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79920" y="2971800"/>
            <a:ext cx="64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akav će bi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oblik raspodjel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prosjeka (ili totala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609480" y="2084400"/>
            <a:ext cx="8097840" cy="4135320"/>
            <a:chOff x="609480" y="2084400"/>
            <a:chExt cx="8097840" cy="4135320"/>
          </a:xfrm>
        </p:grpSpPr>
        <p:pic>
          <p:nvPicPr>
            <p:cNvPr id="249" name="normalniprosjek" descr=""/>
            <p:cNvPicPr/>
            <p:nvPr/>
          </p:nvPicPr>
          <p:blipFill>
            <a:blip r:embed="rId1"/>
            <a:stretch/>
          </p:blipFill>
          <p:spPr>
            <a:xfrm>
              <a:off x="609480" y="2084400"/>
              <a:ext cx="8097840" cy="41353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838080" y="2666880"/>
                  <a:ext cx="1316160" cy="45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838080" y="3429000"/>
                  <a:ext cx="128916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2" name=""/>
          <p:cNvSpPr/>
          <p:nvPr/>
        </p:nvSpPr>
        <p:spPr>
          <a:xfrm>
            <a:off x="445680" y="533520"/>
            <a:ext cx="822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je uzorak sastavljen od normalnih slučajnih varijabli, onda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rosjek normalno raspodijelj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9800" y="1763640"/>
            <a:ext cx="51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račun pomoću pravila vjerojatnost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imulacijski eks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65880" y="87948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spodjela prosjeka i totala u općenitom sluča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2960" y="19368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mjer 1 (diskretna raspodjel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80316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Prodavač automobila prodaje 50% automobila niže klase po cijeni 65.000 kuna, 35% automobila srednje klase po 100.000 kuna i 15% automobila više klase po 135.000 kun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Definirajmo slučajnu varijabl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prodaje jednog automobila (u tisućama ku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429000" y="2565360"/>
          <a:ext cx="5181480" cy="42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65360"/>
                    <a:ext cx="518148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066680" y="3063960"/>
          <a:ext cx="5762880" cy="379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063960"/>
                    <a:ext cx="576288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219320" y="1066680"/>
            <a:ext cx="6884280" cy="4371840"/>
            <a:chOff x="1219320" y="1066680"/>
            <a:chExt cx="6884280" cy="4371840"/>
          </a:xfrm>
        </p:grpSpPr>
        <p:grpSp>
          <p:nvGrpSpPr>
            <p:cNvPr id="48" name=""/>
            <p:cNvGrpSpPr/>
            <p:nvPr/>
          </p:nvGrpSpPr>
          <p:grpSpPr>
            <a:xfrm>
              <a:off x="1229040" y="1071360"/>
              <a:ext cx="6862320" cy="4362480"/>
              <a:chOff x="1229040" y="1071360"/>
              <a:chExt cx="6862320" cy="436248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229040" y="1071360"/>
                <a:ext cx="2430720" cy="625320"/>
                <a:chOff x="1229040" y="1071360"/>
                <a:chExt cx="2430720" cy="6253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373400" y="1071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229040" y="1071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660480" y="1071360"/>
                <a:ext cx="1569960" cy="625320"/>
                <a:chOff x="3660480" y="1071360"/>
                <a:chExt cx="1569960" cy="6253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804120" y="1071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660480" y="1071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5231160" y="1071360"/>
                <a:ext cx="1429920" cy="625320"/>
                <a:chOff x="5231160" y="1071360"/>
                <a:chExt cx="1429920" cy="6253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5375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5231160" y="1071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6662160" y="1071360"/>
                <a:ext cx="1429200" cy="625320"/>
                <a:chOff x="6662160" y="1071360"/>
                <a:chExt cx="1429200" cy="6253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6806520" y="1071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5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662160" y="1071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229040" y="1696680"/>
                <a:ext cx="2430720" cy="625680"/>
                <a:chOff x="1229040" y="1696680"/>
                <a:chExt cx="2430720" cy="62568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1373400" y="1696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mat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229040" y="1696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3660480" y="1696680"/>
                <a:ext cx="1569960" cy="625680"/>
                <a:chOff x="3660480" y="1696680"/>
                <a:chExt cx="1569960" cy="62568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3804120" y="1696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660480" y="1696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231160" y="1696680"/>
                <a:ext cx="1429920" cy="625680"/>
                <a:chOff x="5231160" y="1696680"/>
                <a:chExt cx="1429920" cy="6256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375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0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231160" y="1696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662160" y="1696680"/>
                <a:ext cx="1429200" cy="625680"/>
                <a:chOff x="6662160" y="1696680"/>
                <a:chExt cx="1429200" cy="625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6806520" y="1696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662160" y="1696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229040" y="2322360"/>
                <a:ext cx="2430720" cy="625320"/>
                <a:chOff x="1229040" y="2322360"/>
                <a:chExt cx="2430720" cy="6253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1373400" y="2322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zik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229040" y="2322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3660480" y="2322360"/>
                <a:ext cx="1569960" cy="625320"/>
                <a:chOff x="3660480" y="2322360"/>
                <a:chExt cx="1569960" cy="6253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3804120" y="2322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660480" y="2322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231160" y="2322360"/>
                <a:ext cx="1429920" cy="625320"/>
                <a:chOff x="5231160" y="2322360"/>
                <a:chExt cx="1429920" cy="6253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375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231160" y="2322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6662160" y="2322360"/>
                <a:ext cx="1429200" cy="625320"/>
                <a:chOff x="6662160" y="2322360"/>
                <a:chExt cx="1429200" cy="6253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806520" y="2322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04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662160" y="2322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229040" y="2947680"/>
                <a:ext cx="2430720" cy="625680"/>
                <a:chOff x="1229040" y="2947680"/>
                <a:chExt cx="2430720" cy="625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373400" y="2947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em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229040" y="2947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660480" y="2947680"/>
                <a:ext cx="1569960" cy="625680"/>
                <a:chOff x="3660480" y="2947680"/>
                <a:chExt cx="1569960" cy="625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804120" y="2947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660480" y="2947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5231160" y="2947680"/>
                <a:ext cx="1429920" cy="625680"/>
                <a:chOff x="5231160" y="2947680"/>
                <a:chExt cx="1429920" cy="625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5375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7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231160" y="2947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662160" y="2947680"/>
                <a:ext cx="1429200" cy="625680"/>
                <a:chOff x="6662160" y="2947680"/>
                <a:chExt cx="1429200" cy="625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6806520" y="2947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43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662160" y="2947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229040" y="3573360"/>
                <a:ext cx="2430720" cy="625320"/>
                <a:chOff x="1229040" y="3573360"/>
                <a:chExt cx="2430720" cy="6253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373400" y="3573360"/>
                  <a:ext cx="2141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iolog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229040" y="3573360"/>
                  <a:ext cx="24307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660480" y="3573360"/>
                <a:ext cx="1569960" cy="625320"/>
                <a:chOff x="3660480" y="3573360"/>
                <a:chExt cx="1569960" cy="6253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804120" y="3573360"/>
                  <a:ext cx="128232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6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660480" y="3573360"/>
                  <a:ext cx="156996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231160" y="3573360"/>
                <a:ext cx="1429920" cy="625320"/>
                <a:chOff x="5231160" y="3573360"/>
                <a:chExt cx="1429920" cy="625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375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231160" y="3573360"/>
                  <a:ext cx="14299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662160" y="3573360"/>
                <a:ext cx="1429200" cy="625320"/>
                <a:chOff x="6662160" y="3573360"/>
                <a:chExt cx="1429200" cy="6253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806520" y="3573360"/>
                  <a:ext cx="11408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2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62160" y="3573360"/>
                  <a:ext cx="14292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229040" y="4198680"/>
                <a:ext cx="2430720" cy="625680"/>
                <a:chOff x="1229040" y="4198680"/>
                <a:chExt cx="2430720" cy="625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73400" y="4198680"/>
                  <a:ext cx="21416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o-znanost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229040" y="4198680"/>
                  <a:ext cx="24307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660480" y="4198680"/>
                <a:ext cx="1569960" cy="625680"/>
                <a:chOff x="3660480" y="4198680"/>
                <a:chExt cx="1569960" cy="6256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804120" y="4198680"/>
                  <a:ext cx="128232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660480" y="4198680"/>
                  <a:ext cx="156996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231160" y="4198680"/>
                <a:ext cx="1429920" cy="625680"/>
                <a:chOff x="5231160" y="4198680"/>
                <a:chExt cx="1429920" cy="62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75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231160" y="4198680"/>
                  <a:ext cx="142992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662160" y="4198680"/>
                <a:ext cx="1429200" cy="625680"/>
                <a:chOff x="6662160" y="4198680"/>
                <a:chExt cx="1429200" cy="6256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806520" y="4198680"/>
                  <a:ext cx="1140840" cy="62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18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662160" y="4198680"/>
                  <a:ext cx="1429200" cy="62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229040" y="4824360"/>
                <a:ext cx="2430720" cy="609480"/>
                <a:chOff x="1229040" y="4824360"/>
                <a:chExt cx="2430720" cy="609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373400" y="4824360"/>
                  <a:ext cx="21416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ukupno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229040" y="4824360"/>
                  <a:ext cx="24307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660480" y="4824360"/>
                <a:ext cx="1569960" cy="609480"/>
                <a:chOff x="3660480" y="4824360"/>
                <a:chExt cx="1569960" cy="609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804120" y="4824360"/>
                  <a:ext cx="12823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53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660480" y="4824360"/>
                  <a:ext cx="156996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5231160" y="4824360"/>
                <a:ext cx="1429920" cy="609480"/>
                <a:chOff x="5231160" y="4824360"/>
                <a:chExt cx="1429920" cy="609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75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,469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231160" y="4824360"/>
                  <a:ext cx="142992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662160" y="4824360"/>
                <a:ext cx="1429200" cy="609480"/>
                <a:chOff x="6662160" y="4824360"/>
                <a:chExt cx="1429200" cy="609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806520" y="4824360"/>
                  <a:ext cx="11408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662160" y="4824360"/>
                  <a:ext cx="142920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1219320" y="1066680"/>
              <a:ext cx="6884280" cy="4371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61800" y="34596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vjeriti nezavisno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5667480"/>
            <a:ext cx="1523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79720" y="270000"/>
            <a:ext cx="8683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dređenog dana najavila su se dva kupca. Neka su slučaj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prvog kup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prihod od drugog kup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038480" y="1676520"/>
            <a:ext cx="4768920" cy="1828800"/>
            <a:chOff x="4038480" y="1676520"/>
            <a:chExt cx="4768920" cy="1828800"/>
          </a:xfrm>
        </p:grpSpPr>
        <p:sp>
          <p:nvSpPr>
            <p:cNvPr id="263" name=""/>
            <p:cNvSpPr/>
            <p:nvPr/>
          </p:nvSpPr>
          <p:spPr>
            <a:xfrm>
              <a:off x="4038480" y="1676520"/>
              <a:ext cx="35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lučajna varijabla     raspodijeljena je ovak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6477120" y="1676520"/>
                  <a:ext cx="3524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65" name=""/>
            <p:cNvGraphicFramePr/>
            <p:nvPr/>
          </p:nvGraphicFramePr>
          <p:xfrm>
            <a:off x="7238880" y="1828800"/>
            <a:ext cx="1568520" cy="167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38880" y="1828800"/>
                      <a:ext cx="1568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7" name=""/>
          <p:cNvGrpSpPr/>
          <p:nvPr/>
        </p:nvGrpSpPr>
        <p:grpSpPr>
          <a:xfrm>
            <a:off x="224640" y="1752480"/>
            <a:ext cx="3661560" cy="3936960"/>
            <a:chOff x="224640" y="1752480"/>
            <a:chExt cx="3661560" cy="3936960"/>
          </a:xfrm>
        </p:grpSpPr>
        <p:graphicFrame>
          <p:nvGraphicFramePr>
            <p:cNvPr id="268" name=""/>
            <p:cNvGraphicFramePr/>
            <p:nvPr/>
          </p:nvGraphicFramePr>
          <p:xfrm>
            <a:off x="318960" y="2305080"/>
            <a:ext cx="3567240" cy="33843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8960" y="2305080"/>
                      <a:ext cx="3567240" cy="33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0" name=""/>
            <p:cNvSpPr/>
            <p:nvPr/>
          </p:nvSpPr>
          <p:spPr>
            <a:xfrm>
              <a:off x="224640" y="1752480"/>
              <a:ext cx="33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Tablica mogućih prihod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1" name=""/>
          <p:cNvGraphicFramePr/>
          <p:nvPr/>
        </p:nvGraphicFramePr>
        <p:xfrm>
          <a:off x="4191120" y="3571920"/>
          <a:ext cx="4178160" cy="32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3571920"/>
                    <a:ext cx="41781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380880" y="304920"/>
          <a:ext cx="3116520" cy="25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311652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5486400" y="304920"/>
          <a:ext cx="3116160" cy="25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04920"/>
                    <a:ext cx="3116160" cy="25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192920" y="10666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95480" y="2895480"/>
            <a:ext cx="3809880" cy="762120"/>
            <a:chOff x="2895480" y="2895480"/>
            <a:chExt cx="3809880" cy="762120"/>
          </a:xfrm>
        </p:grpSpPr>
        <p:sp>
          <p:nvSpPr>
            <p:cNvPr id="279" name=""/>
            <p:cNvSpPr/>
            <p:nvPr/>
          </p:nvSpPr>
          <p:spPr>
            <a:xfrm>
              <a:off x="2895480" y="2895480"/>
              <a:ext cx="114300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409720" y="2895480"/>
              <a:ext cx="1295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1" name=""/>
          <p:cNvGraphicFramePr/>
          <p:nvPr/>
        </p:nvGraphicFramePr>
        <p:xfrm>
          <a:off x="3048120" y="3962520"/>
          <a:ext cx="3228840" cy="25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3962520"/>
                    <a:ext cx="322884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1363680"/>
            <a:ext cx="3116160" cy="3439440"/>
            <a:chOff x="0" y="1363680"/>
            <a:chExt cx="3116160" cy="3439440"/>
          </a:xfrm>
        </p:grpSpPr>
        <p:graphicFrame>
          <p:nvGraphicFramePr>
            <p:cNvPr id="284" name=""/>
            <p:cNvGraphicFramePr/>
            <p:nvPr/>
          </p:nvGraphicFramePr>
          <p:xfrm>
            <a:off x="0" y="1363680"/>
            <a:ext cx="3116160" cy="2579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363680"/>
                      <a:ext cx="3116160" cy="257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9000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486400" y="1219320"/>
            <a:ext cx="3657600" cy="3507480"/>
            <a:chOff x="5486400" y="1219320"/>
            <a:chExt cx="3657600" cy="3507480"/>
          </a:xfrm>
        </p:grpSpPr>
        <p:graphicFrame>
          <p:nvGraphicFramePr>
            <p:cNvPr id="288" name=""/>
            <p:cNvGraphicFramePr/>
            <p:nvPr/>
          </p:nvGraphicFramePr>
          <p:xfrm>
            <a:off x="5486400" y="1219320"/>
            <a:ext cx="3657600" cy="288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19320"/>
                      <a:ext cx="3657600" cy="28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7316640" y="42670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19520" y="1414440"/>
            <a:ext cx="3228840" cy="3388680"/>
            <a:chOff x="2819520" y="1414440"/>
            <a:chExt cx="3228840" cy="3388680"/>
          </a:xfrm>
        </p:grpSpPr>
        <p:graphicFrame>
          <p:nvGraphicFramePr>
            <p:cNvPr id="292" name=""/>
            <p:cNvGraphicFramePr/>
            <p:nvPr/>
          </p:nvGraphicFramePr>
          <p:xfrm>
            <a:off x="2819520" y="1414440"/>
            <a:ext cx="3228840" cy="254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19520" y="1414440"/>
                      <a:ext cx="3228840" cy="254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4192200" y="43434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1760" y="2286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mjer 2 (kontinuirana raspodjel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776160"/>
            <a:ext cx="807732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a putu do posla čekam autobus koji vozi svakih 10 minuta, a zatim tramvaj koji također vozi svakih 10 minu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ka su slučajne varij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vrijeme čekanja autob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vrijeme čekanja tramv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80880" y="2666880"/>
                <a:ext cx="8263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l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li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298" name=""/>
          <p:cNvGraphicFramePr/>
          <p:nvPr/>
        </p:nvGraphicFramePr>
        <p:xfrm>
          <a:off x="762120" y="3352680"/>
          <a:ext cx="322560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352680"/>
                    <a:ext cx="322560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5029200" y="3352680"/>
          <a:ext cx="3225960" cy="293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352680"/>
                    <a:ext cx="322596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1771560" y="6095880"/>
            <a:ext cx="46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T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0 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= ukupno vrijeme čekanja =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0" i="1" lang="hr-HR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514600" y="2743200"/>
            <a:ext cx="3809520" cy="762120"/>
            <a:chOff x="2514600" y="2743200"/>
            <a:chExt cx="3809520" cy="762120"/>
          </a:xfrm>
        </p:grpSpPr>
        <p:sp>
          <p:nvSpPr>
            <p:cNvPr id="304" name=""/>
            <p:cNvSpPr/>
            <p:nvPr/>
          </p:nvSpPr>
          <p:spPr>
            <a:xfrm>
              <a:off x="2514600" y="2743200"/>
              <a:ext cx="114264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028840" y="2743200"/>
              <a:ext cx="1295280" cy="7621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6" name=""/>
          <p:cNvGraphicFramePr/>
          <p:nvPr/>
        </p:nvGraphicFramePr>
        <p:xfrm>
          <a:off x="380880" y="0"/>
          <a:ext cx="274176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274176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8" name=""/>
          <p:cNvGrpSpPr/>
          <p:nvPr/>
        </p:nvGrpSpPr>
        <p:grpSpPr>
          <a:xfrm>
            <a:off x="4192920" y="0"/>
            <a:ext cx="3882600" cy="2494080"/>
            <a:chOff x="4192920" y="0"/>
            <a:chExt cx="3882600" cy="2494080"/>
          </a:xfrm>
        </p:grpSpPr>
        <p:sp>
          <p:nvSpPr>
            <p:cNvPr id="309" name=""/>
            <p:cNvSpPr/>
            <p:nvPr/>
          </p:nvSpPr>
          <p:spPr>
            <a:xfrm>
              <a:off x="4192920" y="10666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5334120" y="0"/>
            <a:ext cx="2741400" cy="249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0"/>
                      <a:ext cx="2741400" cy="249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12" name=""/>
          <p:cNvGraphicFramePr/>
          <p:nvPr/>
        </p:nvGraphicFramePr>
        <p:xfrm>
          <a:off x="2895480" y="3733920"/>
          <a:ext cx="2835360" cy="24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733920"/>
                    <a:ext cx="283536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111480" cy="373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76560" y="457200"/>
                <a:ext cx="32655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60320" y="34596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9320" y="1371600"/>
                <a:ext cx="563544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li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dy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4038480"/>
                <a:ext cx="56070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y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li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dy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2720" y="549360"/>
            <a:ext cx="350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imes New Roman"/>
              </a:rPr>
              <a:t>Momenti 2D raspodj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39200" y="1336680"/>
            <a:ext cx="6876000" cy="1984320"/>
            <a:chOff x="439200" y="1336680"/>
            <a:chExt cx="6876000" cy="1984320"/>
          </a:xfrm>
        </p:grpSpPr>
        <p:sp>
          <p:nvSpPr>
            <p:cNvPr id="144" name=""/>
            <p:cNvSpPr/>
            <p:nvPr/>
          </p:nvSpPr>
          <p:spPr>
            <a:xfrm>
              <a:off x="439200" y="133668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Pomoćni mom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276720" y="1600200"/>
                  <a:ext cx="403848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/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li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</m:sub>
                                <m:sup>
                                  <m:r>
                                    <m:t xml:space="preserve">∞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6" name=""/>
          <p:cNvGrpSpPr/>
          <p:nvPr/>
        </p:nvGrpSpPr>
        <p:grpSpPr>
          <a:xfrm>
            <a:off x="514800" y="3851280"/>
            <a:ext cx="7760880" cy="2212920"/>
            <a:chOff x="514800" y="3851280"/>
            <a:chExt cx="7760880" cy="2212920"/>
          </a:xfrm>
        </p:grpSpPr>
        <p:sp>
          <p:nvSpPr>
            <p:cNvPr id="147" name=""/>
            <p:cNvSpPr/>
            <p:nvPr/>
          </p:nvSpPr>
          <p:spPr>
            <a:xfrm>
              <a:off x="514800" y="3851280"/>
              <a:ext cx="24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Središnji momen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438280" y="4343400"/>
                  <a:ext cx="5837400" cy="17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sub>
                            <m:sup/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y</m:t>
                                  </m:r>
                                  <m:r>
                                    <m:t xml:space="preserve">∈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sub>
                                <m:sup/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y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li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s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−</m:t>
                              </m:r>
                              <m:r>
                                <m:t xml:space="preserve">∞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</m:sub>
                                <m:sup>
                                  <m:r>
                                    <m:t xml:space="preserve">∞</m:t>
                                  </m:r>
                                </m:sup>
                                <m:e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X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r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y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μ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Y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s</m:t>
                                      </m:r>
                                    </m:sup>
                                  </m:sSup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dy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35240" y="4994280"/>
            <a:ext cx="5144760" cy="463680"/>
            <a:chOff x="2235240" y="4994280"/>
            <a:chExt cx="5144760" cy="46368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2235240" y="5029200"/>
                  <a:ext cx="297648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1" name=""/>
            <p:cNvSpPr/>
            <p:nvPr/>
          </p:nvSpPr>
          <p:spPr>
            <a:xfrm>
              <a:off x="5774400" y="499428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varijan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209680" y="762120"/>
            <a:ext cx="3925440" cy="1143000"/>
            <a:chOff x="2209680" y="762120"/>
            <a:chExt cx="3925440" cy="11430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209680" y="762120"/>
                  <a:ext cx="11876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2209680" y="1447920"/>
                  <a:ext cx="117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>
              <a:off x="4631400" y="103176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čekiv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895480"/>
            <a:ext cx="4484520" cy="968400"/>
            <a:chOff x="2209680" y="2895480"/>
            <a:chExt cx="4484520" cy="968400"/>
          </a:xfrm>
        </p:grpSpPr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209680" y="2895480"/>
                  <a:ext cx="234324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5393160" y="316548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varij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595600" cy="311148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533520" y="3429000"/>
            <a:ext cx="6536880" cy="3105000"/>
            <a:chOff x="533520" y="3429000"/>
            <a:chExt cx="6536880" cy="310500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33520" y="3429000"/>
              <a:ext cx="2587680" cy="3105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3657600" y="3581280"/>
                  <a:ext cx="128916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657600" y="4038480"/>
                  <a:ext cx="124308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5485680" y="3733920"/>
              <a:ext cx="150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čekiv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581280" y="4648320"/>
                  <a:ext cx="160668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0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6" name=""/>
            <p:cNvSpPr/>
            <p:nvPr/>
          </p:nvSpPr>
          <p:spPr>
            <a:xfrm>
              <a:off x="5586840" y="4692600"/>
              <a:ext cx="130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varij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581280" y="5715000"/>
                  <a:ext cx="147636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X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5464800" y="5648400"/>
              <a:ext cx="160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varijan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657600" y="177840"/>
                <a:ext cx="12891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657600" y="635040"/>
                <a:ext cx="1243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5485680" y="3301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ek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657600" y="1143000"/>
                <a:ext cx="17096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713920" y="14731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arij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581280" y="2616120"/>
                <a:ext cx="1517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485320" y="269244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varija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69560" cy="34164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376920" y="5257800"/>
            <a:ext cx="7701840" cy="990720"/>
            <a:chOff x="376920" y="5257800"/>
            <a:chExt cx="7701840" cy="990720"/>
          </a:xfrm>
        </p:grpSpPr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1600200" y="5791320"/>
                  <a:ext cx="64785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76920" y="5257800"/>
              <a:ext cx="200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Times New Roman"/>
                </a:rPr>
                <a:t>Pomoćna form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27160" y="168120"/>
            <a:ext cx="166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Times New Roman"/>
              </a:rPr>
              <a:t>Korelacij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820440" y="1336680"/>
            <a:ext cx="6340680" cy="898560"/>
            <a:chOff x="820440" y="1336680"/>
            <a:chExt cx="6340680" cy="89856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971800" y="1371600"/>
                  <a:ext cx="41893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XY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820440" y="1336680"/>
              <a:ext cx="148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eficij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korela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93640" y="27432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ojst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04920" y="3429000"/>
            <a:ext cx="4811760" cy="459720"/>
            <a:chOff x="1204920" y="3429000"/>
            <a:chExt cx="4811760" cy="459720"/>
          </a:xfrm>
        </p:grpSpPr>
        <p:sp>
          <p:nvSpPr>
            <p:cNvPr id="186" name=""/>
            <p:cNvSpPr/>
            <p:nvPr/>
          </p:nvSpPr>
          <p:spPr>
            <a:xfrm>
              <a:off x="120492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676520" y="3463920"/>
                  <a:ext cx="43401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cY</m:t>
                      </m:r>
                      <m:r>
                        <m:t xml:space="preserve">+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r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"/>
          <p:cNvGrpSpPr/>
          <p:nvPr/>
        </p:nvGrpSpPr>
        <p:grpSpPr>
          <a:xfrm>
            <a:off x="1220760" y="3997440"/>
            <a:ext cx="1849320" cy="459720"/>
            <a:chOff x="1220760" y="3997440"/>
            <a:chExt cx="1849320" cy="459720"/>
          </a:xfrm>
        </p:grpSpPr>
        <p:sp>
          <p:nvSpPr>
            <p:cNvPr id="189" name=""/>
            <p:cNvSpPr/>
            <p:nvPr/>
          </p:nvSpPr>
          <p:spPr>
            <a:xfrm>
              <a:off x="1220760" y="399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692360" y="4032360"/>
                  <a:ext cx="137772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ρ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1198440" y="4413240"/>
            <a:ext cx="61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ko s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zavisne varijable, ond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rat ne vrije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97360" y="5327640"/>
            <a:ext cx="67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Ako j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da i samo onda je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 ili </a:t>
            </a: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22T17:29:30Z</dcterms:modified>
  <cp:revision>63</cp:revision>
  <dc:subject/>
  <dc:title>No Slide Title</dc:title>
</cp:coreProperties>
</file>