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EDA-4F4E-4396-B3E2-C5051F60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6B6-F7AE-46F0-94A0-853FAF4F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692-4353-414E-962E-96CF3491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9F9-AB67-427C-8F52-E78CAC4D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0A8-7B97-409B-8596-EAFA2837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644-2AC6-4959-81A5-607B01D6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2D1-A8EE-4365-BAA9-6F9390EB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0ED-0DEA-4B22-9175-96B77735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9DA-F023-4BEF-8E52-82C5751F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641-F93D-4624-8E11-8D789C85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E01-E1D6-4208-AFB3-C960C3BE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4D7-4E32-4F9D-B3EB-C1237C26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CBF6-CE78-4A9F-A952-DF78BAC64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WINDOWS/system32/calc.exe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Symbol"/>
                <a:ea typeface="Symbol"/>
              </a:rPr>
              <a:t>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raspodj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1143000" y="838080"/>
            <a:ext cx="68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ff3300"/>
                </a:solidFill>
                <a:uFillTx/>
                <a:latin typeface="Times New Roman"/>
              </a:rPr>
              <a:t>Standardna </a:t>
            </a:r>
            <a:r>
              <a:rPr b="1" lang="hr-HR" sz="2800" spc="-1" strike="noStrike" u="sng">
                <a:solidFill>
                  <a:srgbClr val="ff3300"/>
                </a:solidFill>
                <a:uFillTx/>
                <a:latin typeface="Symbol"/>
                <a:ea typeface="Symbol"/>
              </a:rPr>
              <a:t></a:t>
            </a:r>
            <a:r>
              <a:rPr b="1" lang="hr-HR" sz="2800" spc="-1" strike="noStrike" u="sng">
                <a:solidFill>
                  <a:srgbClr val="ff3300"/>
                </a:solidFill>
                <a:uFillTx/>
                <a:latin typeface="Times New Roman"/>
              </a:rPr>
              <a:t> raspodj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200" y="1447920"/>
            <a:ext cx="8093160" cy="3202920"/>
            <a:chOff x="457200" y="1447920"/>
            <a:chExt cx="8093160" cy="3202920"/>
          </a:xfrm>
        </p:grpSpPr>
        <p:sp>
          <p:nvSpPr>
            <p:cNvPr id="44" name=""/>
            <p:cNvSpPr/>
            <p:nvPr/>
          </p:nvSpPr>
          <p:spPr>
            <a:xfrm>
              <a:off x="457200" y="1447920"/>
              <a:ext cx="8093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ntinuirana slučajna varijabl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ma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ndardnu gama raspodje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ko je n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zina funkcija gustoće vjerojatnosti dana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2362320" y="2210040"/>
                  <a:ext cx="3498840" cy="20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α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x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Γ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α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  <m:e/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603000" y="4191120"/>
              <a:ext cx="485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gdje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parametar raspodjele (</a:t>
              </a:r>
              <a:r>
                <a:rPr b="0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&gt;0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09480" y="4943520"/>
            <a:ext cx="6705720" cy="1533600"/>
            <a:chOff x="609480" y="4943520"/>
            <a:chExt cx="6705720" cy="1533600"/>
          </a:xfrm>
        </p:grpSpPr>
        <p:sp>
          <p:nvSpPr>
            <p:cNvPr id="48" name=""/>
            <p:cNvSpPr/>
            <p:nvPr/>
          </p:nvSpPr>
          <p:spPr>
            <a:xfrm>
              <a:off x="609480" y="4943520"/>
              <a:ext cx="6705720" cy="1499760"/>
            </a:xfrm>
            <a:prstGeom prst="rect">
              <a:avLst/>
            </a:prstGeom>
            <a:solidFill>
              <a:srgbClr val="fcfdc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ovoljava osnovne uvjete za raspodjelu vjerojatnosti: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2971800" y="5324400"/>
                  <a:ext cx="18684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∀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2971800" y="5772240"/>
                  <a:ext cx="1432080" cy="70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;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" name=""/>
          <p:cNvSpPr/>
          <p:nvPr/>
        </p:nvSpPr>
        <p:spPr>
          <a:xfrm>
            <a:off x="135360" y="381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Prošli put nismo završil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1219320" y="1066680"/>
            <a:ext cx="6884280" cy="4371840"/>
            <a:chOff x="1219320" y="1066680"/>
            <a:chExt cx="6884280" cy="4371840"/>
          </a:xfrm>
        </p:grpSpPr>
        <p:grpSp>
          <p:nvGrpSpPr>
            <p:cNvPr id="182" name=""/>
            <p:cNvGrpSpPr/>
            <p:nvPr/>
          </p:nvGrpSpPr>
          <p:grpSpPr>
            <a:xfrm>
              <a:off x="1229040" y="1071360"/>
              <a:ext cx="6862320" cy="4362480"/>
              <a:chOff x="1229040" y="1071360"/>
              <a:chExt cx="6862320" cy="436248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1229040" y="1071360"/>
                <a:ext cx="2430720" cy="625320"/>
                <a:chOff x="1229040" y="1071360"/>
                <a:chExt cx="2430720" cy="6253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373400" y="1071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229040" y="1071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660480" y="1071360"/>
                <a:ext cx="1569960" cy="625320"/>
                <a:chOff x="3660480" y="1071360"/>
                <a:chExt cx="1569960" cy="6253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804120" y="1071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660480" y="1071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231160" y="1071360"/>
                <a:ext cx="1429920" cy="625320"/>
                <a:chOff x="5231160" y="1071360"/>
                <a:chExt cx="1429920" cy="625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375520" y="1071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231160" y="1071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662160" y="1071360"/>
                <a:ext cx="1429200" cy="625320"/>
                <a:chOff x="6662160" y="1071360"/>
                <a:chExt cx="1429200" cy="625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806520" y="1071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ukupno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25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662160" y="1071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229040" y="1696680"/>
                <a:ext cx="2430720" cy="625680"/>
                <a:chOff x="1229040" y="1696680"/>
                <a:chExt cx="2430720" cy="6256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373400" y="1696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ematik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229040" y="1696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660480" y="1696680"/>
                <a:ext cx="1569960" cy="625680"/>
                <a:chOff x="3660480" y="1696680"/>
                <a:chExt cx="1569960" cy="6256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804120" y="1696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5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660480" y="1696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231160" y="1696680"/>
                <a:ext cx="1429920" cy="625680"/>
                <a:chOff x="5231160" y="1696680"/>
                <a:chExt cx="1429920" cy="6256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375520" y="1696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0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231160" y="1696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662160" y="1696680"/>
                <a:ext cx="1429200" cy="625680"/>
                <a:chOff x="6662160" y="1696680"/>
                <a:chExt cx="1429200" cy="6256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806520" y="1696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662160" y="1696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229040" y="2322360"/>
                <a:ext cx="2430720" cy="625320"/>
                <a:chOff x="1229040" y="2322360"/>
                <a:chExt cx="2430720" cy="6253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373400" y="2322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zik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29040" y="2322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660480" y="2322360"/>
                <a:ext cx="1569960" cy="625320"/>
                <a:chOff x="3660480" y="2322360"/>
                <a:chExt cx="1569960" cy="625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804120" y="2322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660480" y="2322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5231160" y="2322360"/>
                <a:ext cx="1429920" cy="625320"/>
                <a:chOff x="5231160" y="2322360"/>
                <a:chExt cx="1429920" cy="625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375520" y="2322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7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231160" y="2322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662160" y="2322360"/>
                <a:ext cx="1429200" cy="625320"/>
                <a:chOff x="6662160" y="2322360"/>
                <a:chExt cx="1429200" cy="625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806520" y="2322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204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662160" y="2322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1229040" y="2947680"/>
                <a:ext cx="2430720" cy="625680"/>
                <a:chOff x="1229040" y="2947680"/>
                <a:chExt cx="2430720" cy="6256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373400" y="2947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emij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229040" y="2947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660480" y="2947680"/>
                <a:ext cx="1569960" cy="625680"/>
                <a:chOff x="3660480" y="2947680"/>
                <a:chExt cx="1569960" cy="6256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804120" y="2947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6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660480" y="2947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231160" y="2947680"/>
                <a:ext cx="1429920" cy="625680"/>
                <a:chOff x="5231160" y="2947680"/>
                <a:chExt cx="1429920" cy="6256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75520" y="2947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7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231160" y="2947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62160" y="2947680"/>
                <a:ext cx="1429200" cy="625680"/>
                <a:chOff x="6662160" y="2947680"/>
                <a:chExt cx="1429200" cy="6256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806520" y="2947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43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62160" y="2947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1229040" y="3573360"/>
                <a:ext cx="2430720" cy="625320"/>
                <a:chOff x="1229040" y="3573360"/>
                <a:chExt cx="2430720" cy="625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373400" y="3573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iologij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229040" y="3573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660480" y="3573360"/>
                <a:ext cx="1569960" cy="625320"/>
                <a:chOff x="3660480" y="3573360"/>
                <a:chExt cx="1569960" cy="625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804120" y="3573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6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660480" y="3573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231160" y="3573360"/>
                <a:ext cx="1429920" cy="625320"/>
                <a:chOff x="5231160" y="3573360"/>
                <a:chExt cx="1429920" cy="625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375520" y="3573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5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231160" y="3573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662160" y="3573360"/>
                <a:ext cx="1429200" cy="625320"/>
                <a:chOff x="6662160" y="3573360"/>
                <a:chExt cx="1429200" cy="625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806520" y="3573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21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662160" y="3573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229040" y="4198680"/>
                <a:ext cx="2430720" cy="625680"/>
                <a:chOff x="1229040" y="4198680"/>
                <a:chExt cx="2430720" cy="6256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373400" y="4198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o-znanost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229040" y="4198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660480" y="4198680"/>
                <a:ext cx="1569960" cy="625680"/>
                <a:chOff x="3660480" y="4198680"/>
                <a:chExt cx="1569960" cy="62568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804120" y="4198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2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660480" y="4198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231160" y="4198680"/>
                <a:ext cx="1429920" cy="625680"/>
                <a:chOff x="5231160" y="4198680"/>
                <a:chExt cx="1429920" cy="625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375520" y="4198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231160" y="4198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662160" y="4198680"/>
                <a:ext cx="1429200" cy="625680"/>
                <a:chOff x="6662160" y="4198680"/>
                <a:chExt cx="1429200" cy="625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806520" y="4198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8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662160" y="4198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229040" y="4824360"/>
                <a:ext cx="2430720" cy="609480"/>
                <a:chOff x="1229040" y="4824360"/>
                <a:chExt cx="2430720" cy="6094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373400" y="4824360"/>
                  <a:ext cx="21416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ukupno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229040" y="4824360"/>
                  <a:ext cx="2430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660480" y="4824360"/>
                <a:ext cx="1569960" cy="609480"/>
                <a:chOff x="3660480" y="4824360"/>
                <a:chExt cx="1569960" cy="6094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804120" y="4824360"/>
                  <a:ext cx="12823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53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660480" y="4824360"/>
                  <a:ext cx="15699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231160" y="4824360"/>
                <a:ext cx="1429920" cy="609480"/>
                <a:chOff x="5231160" y="4824360"/>
                <a:chExt cx="1429920" cy="6094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375520" y="4824360"/>
                  <a:ext cx="1140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469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231160" y="4824360"/>
                  <a:ext cx="14299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662160" y="4824360"/>
                <a:ext cx="1429200" cy="609480"/>
                <a:chOff x="6662160" y="4824360"/>
                <a:chExt cx="1429200" cy="6094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806520" y="4824360"/>
                  <a:ext cx="1140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662160" y="4824360"/>
                  <a:ext cx="14292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>
              <a:off x="1219320" y="1066680"/>
              <a:ext cx="6884280" cy="4371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3352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066680"/>
            <a:ext cx="853452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a s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vije kontinuirane slučajne varijable. Funkcij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e njihova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ružena funkcija gustoće vjerojatnos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ko za bilo koji dvodimenzionalni sku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ij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ebno, ako j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vodimenzionalni pravokutn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da 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809880" y="1828800"/>
                <a:ext cx="1295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⊆</m:t>
                    </m:r>
                    <m:r>
                      <m:t xml:space="preserve">R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438280" y="2362320"/>
                <a:ext cx="37720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04920" y="3657600"/>
                <a:ext cx="3768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914400" y="4114800"/>
                <a:ext cx="67626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422424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914400" y="5562720"/>
                <a:ext cx="14000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39672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505320" y="5410080"/>
                <a:ext cx="24476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dy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2DintegralB" descr=""/>
          <p:cNvPicPr/>
          <p:nvPr/>
        </p:nvPicPr>
        <p:blipFill>
          <a:blip r:embed="rId1"/>
          <a:stretch/>
        </p:blipFill>
        <p:spPr>
          <a:xfrm>
            <a:off x="141120" y="762120"/>
            <a:ext cx="92314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7080" y="228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Times New Roman"/>
              </a:rPr>
              <a:t>PRIMJ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09880" cy="3708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2859120" cy="3429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577960" y="317520"/>
                <a:ext cx="420084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3520" y="685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295280"/>
            <a:ext cx="8229600" cy="198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ne (marginalne) funkcije gustoće vjerojatnos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varijabl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značavamo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hr-H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hr-H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 dane su izrazi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371600" y="2133720"/>
                <a:ext cx="629748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899280" y="523800"/>
            <a:ext cx="44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ezavisne slučajne varij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1905120"/>
            <a:ext cx="861048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učajne varijabl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zavisn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ko za svaki par vrijednost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rij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a diskretne varij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a kontinuirane varija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ti uvjeti nisu ispunjeni za sve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ažemo da s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visn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44600" y="2666880"/>
                <a:ext cx="283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25520" y="3378240"/>
                <a:ext cx="2774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133720" y="5486400"/>
                <a:ext cx="3071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1219320" y="1066680"/>
            <a:ext cx="6884280" cy="4371840"/>
            <a:chOff x="1219320" y="1066680"/>
            <a:chExt cx="6884280" cy="4371840"/>
          </a:xfrm>
        </p:grpSpPr>
        <p:grpSp>
          <p:nvGrpSpPr>
            <p:cNvPr id="293" name=""/>
            <p:cNvGrpSpPr/>
            <p:nvPr/>
          </p:nvGrpSpPr>
          <p:grpSpPr>
            <a:xfrm>
              <a:off x="1229040" y="1071360"/>
              <a:ext cx="6862320" cy="4362480"/>
              <a:chOff x="1229040" y="1071360"/>
              <a:chExt cx="6862320" cy="43624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1229040" y="1071360"/>
                <a:ext cx="2430720" cy="625320"/>
                <a:chOff x="1229040" y="1071360"/>
                <a:chExt cx="2430720" cy="625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1373400" y="1071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229040" y="1071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3660480" y="1071360"/>
                <a:ext cx="1569960" cy="625320"/>
                <a:chOff x="3660480" y="1071360"/>
                <a:chExt cx="1569960" cy="625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804120" y="1071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660480" y="1071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5231160" y="1071360"/>
                <a:ext cx="1429920" cy="625320"/>
                <a:chOff x="5231160" y="1071360"/>
                <a:chExt cx="1429920" cy="625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375520" y="1071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231160" y="1071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662160" y="1071360"/>
                <a:ext cx="1429200" cy="625320"/>
                <a:chOff x="6662160" y="1071360"/>
                <a:chExt cx="1429200" cy="625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6806520" y="1071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ukupno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25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662160" y="1071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1229040" y="1696680"/>
                <a:ext cx="2430720" cy="625680"/>
                <a:chOff x="1229040" y="1696680"/>
                <a:chExt cx="2430720" cy="6256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373400" y="1696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ematik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229040" y="1696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660480" y="1696680"/>
                <a:ext cx="1569960" cy="625680"/>
                <a:chOff x="3660480" y="1696680"/>
                <a:chExt cx="1569960" cy="6256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804120" y="1696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5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660480" y="1696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231160" y="1696680"/>
                <a:ext cx="1429920" cy="625680"/>
                <a:chOff x="5231160" y="1696680"/>
                <a:chExt cx="1429920" cy="6256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375520" y="1696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0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231160" y="1696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62160" y="1696680"/>
                <a:ext cx="1429200" cy="625680"/>
                <a:chOff x="6662160" y="1696680"/>
                <a:chExt cx="1429200" cy="6256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806520" y="1696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62160" y="1696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229040" y="2322360"/>
                <a:ext cx="2430720" cy="625320"/>
                <a:chOff x="1229040" y="2322360"/>
                <a:chExt cx="2430720" cy="625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373400" y="2322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zik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229040" y="2322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660480" y="2322360"/>
                <a:ext cx="1569960" cy="625320"/>
                <a:chOff x="3660480" y="2322360"/>
                <a:chExt cx="1569960" cy="625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804120" y="2322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660480" y="2322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231160" y="2322360"/>
                <a:ext cx="1429920" cy="625320"/>
                <a:chOff x="5231160" y="2322360"/>
                <a:chExt cx="1429920" cy="6253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375520" y="2322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7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231160" y="2322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6662160" y="2322360"/>
                <a:ext cx="1429200" cy="625320"/>
                <a:chOff x="6662160" y="2322360"/>
                <a:chExt cx="1429200" cy="6253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806520" y="2322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204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62160" y="2322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1229040" y="2947680"/>
                <a:ext cx="2430720" cy="625680"/>
                <a:chOff x="1229040" y="2947680"/>
                <a:chExt cx="2430720" cy="6256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1373400" y="2947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emij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229040" y="2947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3660480" y="2947680"/>
                <a:ext cx="1569960" cy="625680"/>
                <a:chOff x="3660480" y="2947680"/>
                <a:chExt cx="1569960" cy="6256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804120" y="2947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6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660480" y="2947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5231160" y="2947680"/>
                <a:ext cx="1429920" cy="625680"/>
                <a:chOff x="5231160" y="2947680"/>
                <a:chExt cx="1429920" cy="6256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375520" y="2947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7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231160" y="2947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6662160" y="2947680"/>
                <a:ext cx="1429200" cy="625680"/>
                <a:chOff x="6662160" y="2947680"/>
                <a:chExt cx="1429200" cy="6256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806520" y="2947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43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662160" y="2947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1229040" y="3573360"/>
                <a:ext cx="2430720" cy="625320"/>
                <a:chOff x="1229040" y="3573360"/>
                <a:chExt cx="2430720" cy="6253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373400" y="3573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iologij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229040" y="3573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660480" y="3573360"/>
                <a:ext cx="1569960" cy="625320"/>
                <a:chOff x="3660480" y="3573360"/>
                <a:chExt cx="1569960" cy="6253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804120" y="3573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6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660480" y="3573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231160" y="3573360"/>
                <a:ext cx="1429920" cy="625320"/>
                <a:chOff x="5231160" y="3573360"/>
                <a:chExt cx="1429920" cy="62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375520" y="3573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5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231160" y="3573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62160" y="3573360"/>
                <a:ext cx="1429200" cy="625320"/>
                <a:chOff x="6662160" y="3573360"/>
                <a:chExt cx="1429200" cy="6253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806520" y="3573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21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62160" y="3573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1229040" y="4198680"/>
                <a:ext cx="2430720" cy="625680"/>
                <a:chOff x="1229040" y="4198680"/>
                <a:chExt cx="2430720" cy="6256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1373400" y="4198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o-znanost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229040" y="4198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660480" y="4198680"/>
                <a:ext cx="1569960" cy="625680"/>
                <a:chOff x="3660480" y="4198680"/>
                <a:chExt cx="1569960" cy="62568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804120" y="4198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2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660480" y="4198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231160" y="4198680"/>
                <a:ext cx="1429920" cy="625680"/>
                <a:chOff x="5231160" y="4198680"/>
                <a:chExt cx="1429920" cy="6256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375520" y="4198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231160" y="4198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662160" y="4198680"/>
                <a:ext cx="1429200" cy="625680"/>
                <a:chOff x="6662160" y="4198680"/>
                <a:chExt cx="1429200" cy="62568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6806520" y="4198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8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662160" y="4198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1229040" y="4824360"/>
                <a:ext cx="2430720" cy="609480"/>
                <a:chOff x="1229040" y="4824360"/>
                <a:chExt cx="2430720" cy="60948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373400" y="4824360"/>
                  <a:ext cx="21416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ukupno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229040" y="4824360"/>
                  <a:ext cx="2430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3660480" y="4824360"/>
                <a:ext cx="1569960" cy="609480"/>
                <a:chOff x="3660480" y="4824360"/>
                <a:chExt cx="1569960" cy="6094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804120" y="4824360"/>
                  <a:ext cx="12823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53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660480" y="4824360"/>
                  <a:ext cx="15699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5231160" y="4824360"/>
                <a:ext cx="1429920" cy="609480"/>
                <a:chOff x="5231160" y="4824360"/>
                <a:chExt cx="1429920" cy="6094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5375520" y="4824360"/>
                  <a:ext cx="1140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469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231160" y="4824360"/>
                  <a:ext cx="14299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6662160" y="4824360"/>
                <a:ext cx="1429200" cy="609480"/>
                <a:chOff x="6662160" y="4824360"/>
                <a:chExt cx="1429200" cy="6094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806520" y="4824360"/>
                  <a:ext cx="1140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662160" y="4824360"/>
                  <a:ext cx="14292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8" name=""/>
            <p:cNvSpPr/>
            <p:nvPr/>
          </p:nvSpPr>
          <p:spPr>
            <a:xfrm>
              <a:off x="1219320" y="1066680"/>
              <a:ext cx="6884280" cy="4371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61800" y="34596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vjeriti nezavisno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5667480"/>
            <a:ext cx="1523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57600" cy="3560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5257800" y="1752480"/>
            <a:ext cx="3111480" cy="373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176560" y="457200"/>
                <a:ext cx="3265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660320" y="34596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čeki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1219320" y="1371600"/>
                <a:ext cx="5635440" cy="17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li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dy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219320" y="4038480"/>
                <a:ext cx="56070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li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dy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972720" y="549360"/>
            <a:ext cx="350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Times New Roman"/>
              </a:rPr>
              <a:t>Momenti 2D raspodje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39200" y="1336680"/>
            <a:ext cx="6876000" cy="1984320"/>
            <a:chOff x="439200" y="1336680"/>
            <a:chExt cx="6876000" cy="1984320"/>
          </a:xfrm>
        </p:grpSpPr>
        <p:sp>
          <p:nvSpPr>
            <p:cNvPr id="389" name=""/>
            <p:cNvSpPr/>
            <p:nvPr/>
          </p:nvSpPr>
          <p:spPr>
            <a:xfrm>
              <a:off x="439200" y="1336680"/>
              <a:ext cx="242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Pomoćni momen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3276720" y="1600200"/>
                  <a:ext cx="403848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s</m:t>
                              </m:r>
                            </m:sub>
                          </m:sSub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sub>
                            <m:sup/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y</m:t>
                                  </m:r>
                                  <m:r>
                                    <m:t xml:space="preserve">∈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sub>
                                <m:sup/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r>
                                        <m:t xml:space="preserve">s</m:t>
                                      </m:r>
                                    </m:sup>
                                  </m:sSup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</m:nary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li</m:t>
                          </m:r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s</m:t>
                              </m:r>
                            </m:sub>
                          </m:sSub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−</m:t>
                              </m:r>
                              <m:r>
                                <m:t xml:space="preserve">∞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−</m:t>
                                  </m:r>
                                  <m:r>
                                    <m:t xml:space="preserve">∞</m:t>
                                  </m:r>
                                </m:sub>
                                <m:sup>
                                  <m:r>
                                    <m:t xml:space="preserve">∞</m:t>
                                  </m:r>
                                </m:sup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r>
                                        <m:t xml:space="preserve">s</m:t>
                                      </m:r>
                                    </m:sup>
                                  </m:sSup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dy</m:t>
                                  </m:r>
                                </m:e>
                              </m:nary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1" name=""/>
          <p:cNvGrpSpPr/>
          <p:nvPr/>
        </p:nvGrpSpPr>
        <p:grpSpPr>
          <a:xfrm>
            <a:off x="514800" y="3851280"/>
            <a:ext cx="7760880" cy="2212920"/>
            <a:chOff x="514800" y="3851280"/>
            <a:chExt cx="7760880" cy="2212920"/>
          </a:xfrm>
        </p:grpSpPr>
        <p:sp>
          <p:nvSpPr>
            <p:cNvPr id="392" name=""/>
            <p:cNvSpPr/>
            <p:nvPr/>
          </p:nvSpPr>
          <p:spPr>
            <a:xfrm>
              <a:off x="514800" y="3851280"/>
              <a:ext cx="243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Središnji momen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438280" y="4343400"/>
                  <a:ext cx="583740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s</m:t>
                              </m:r>
                            </m:sub>
                          </m:sSub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sub>
                            <m:sup/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y</m:t>
                                  </m:r>
                                  <m:r>
                                    <m:t xml:space="preserve">∈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sub>
                                <m:sup/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μ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X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p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y</m:t>
                                          </m:r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μ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Y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s</m:t>
                                      </m:r>
                                    </m:sup>
                                  </m:sSup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</m:nary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li</m:t>
                          </m:r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s</m:t>
                              </m:r>
                            </m:sub>
                          </m:sSub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−</m:t>
                              </m:r>
                              <m:r>
                                <m:t xml:space="preserve">∞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−</m:t>
                                  </m:r>
                                  <m:r>
                                    <m:t xml:space="preserve">∞</m:t>
                                  </m:r>
                                </m:sub>
                                <m:sup>
                                  <m:r>
                                    <m:t xml:space="preserve">∞</m:t>
                                  </m:r>
                                </m:sup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μ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X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p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y</m:t>
                                          </m:r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μ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Y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s</m:t>
                                      </m:r>
                                    </m:sup>
                                  </m:sSup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dy</m:t>
                                  </m:r>
                                </m:e>
                              </m:nary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90720" y="0"/>
          <a:ext cx="68608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6860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755640" y="5486400"/>
            <a:ext cx="462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rimje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rijeme reakcije na neki podražaj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2235240" y="4994280"/>
            <a:ext cx="5144760" cy="463680"/>
            <a:chOff x="2235240" y="4994280"/>
            <a:chExt cx="5144760" cy="463680"/>
          </a:xfrm>
        </p:grpSpPr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2235240" y="5029200"/>
                  <a:ext cx="297648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6" name=""/>
            <p:cNvSpPr/>
            <p:nvPr/>
          </p:nvSpPr>
          <p:spPr>
            <a:xfrm>
              <a:off x="5774400" y="4994280"/>
              <a:ext cx="160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ovarijan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209680" y="762120"/>
            <a:ext cx="3925440" cy="1143000"/>
            <a:chOff x="2209680" y="762120"/>
            <a:chExt cx="3925440" cy="1143000"/>
          </a:xfrm>
        </p:grpSpPr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2209680" y="762120"/>
                  <a:ext cx="11876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2209680" y="1447920"/>
                  <a:ext cx="11732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0" name=""/>
            <p:cNvSpPr/>
            <p:nvPr/>
          </p:nvSpPr>
          <p:spPr>
            <a:xfrm>
              <a:off x="4631400" y="1031760"/>
              <a:ext cx="150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očekivan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09680" y="2895480"/>
            <a:ext cx="4484520" cy="968400"/>
            <a:chOff x="2209680" y="2895480"/>
            <a:chExt cx="4484520" cy="968400"/>
          </a:xfrm>
        </p:grpSpPr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2209680" y="2895480"/>
                  <a:ext cx="2343240" cy="9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0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3" name=""/>
            <p:cNvSpPr/>
            <p:nvPr/>
          </p:nvSpPr>
          <p:spPr>
            <a:xfrm>
              <a:off x="5393160" y="316548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varij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2595600" cy="3111480"/>
          </a:xfrm>
          <a:prstGeom prst="rect">
            <a:avLst/>
          </a:prstGeom>
          <a:ln w="0">
            <a:noFill/>
          </a:ln>
        </p:spPr>
      </p:pic>
      <p:grpSp>
        <p:nvGrpSpPr>
          <p:cNvPr id="405" name=""/>
          <p:cNvGrpSpPr/>
          <p:nvPr/>
        </p:nvGrpSpPr>
        <p:grpSpPr>
          <a:xfrm>
            <a:off x="533520" y="3429000"/>
            <a:ext cx="6536880" cy="3105000"/>
            <a:chOff x="533520" y="3429000"/>
            <a:chExt cx="6536880" cy="3105000"/>
          </a:xfrm>
        </p:grpSpPr>
        <p:pic>
          <p:nvPicPr>
            <p:cNvPr id="406" name="" descr=""/>
            <p:cNvPicPr/>
            <p:nvPr/>
          </p:nvPicPr>
          <p:blipFill>
            <a:blip r:embed="rId2"/>
            <a:stretch/>
          </p:blipFill>
          <p:spPr>
            <a:xfrm>
              <a:off x="533520" y="3429000"/>
              <a:ext cx="2587680" cy="3105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3657600" y="3581280"/>
                  <a:ext cx="128916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3657600" y="4038480"/>
                  <a:ext cx="124308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9" name=""/>
            <p:cNvSpPr/>
            <p:nvPr/>
          </p:nvSpPr>
          <p:spPr>
            <a:xfrm>
              <a:off x="5485680" y="3733920"/>
              <a:ext cx="150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očekivan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3581280" y="4648320"/>
                  <a:ext cx="160668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0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11" name=""/>
            <p:cNvSpPr/>
            <p:nvPr/>
          </p:nvSpPr>
          <p:spPr>
            <a:xfrm>
              <a:off x="5586840" y="46926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varij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3581280" y="5715000"/>
                  <a:ext cx="147636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3" name=""/>
            <p:cNvSpPr/>
            <p:nvPr/>
          </p:nvSpPr>
          <p:spPr>
            <a:xfrm>
              <a:off x="5464800" y="5648400"/>
              <a:ext cx="160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ovarijan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3657600" y="177840"/>
                <a:ext cx="12891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657600" y="635040"/>
                <a:ext cx="12430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5485680" y="3301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čeki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3657600" y="1143000"/>
                <a:ext cx="170964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5713920" y="14731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arij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581280" y="2616120"/>
                <a:ext cx="1517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5485320" y="269244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varija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69560" cy="3416400"/>
          </a:xfrm>
          <a:prstGeom prst="rect">
            <a:avLst/>
          </a:prstGeom>
          <a:ln w="0">
            <a:noFill/>
          </a:ln>
        </p:spPr>
      </p:pic>
      <p:grpSp>
        <p:nvGrpSpPr>
          <p:cNvPr id="422" name=""/>
          <p:cNvGrpSpPr/>
          <p:nvPr/>
        </p:nvGrpSpPr>
        <p:grpSpPr>
          <a:xfrm>
            <a:off x="376920" y="5257800"/>
            <a:ext cx="7701840" cy="990720"/>
            <a:chOff x="376920" y="5257800"/>
            <a:chExt cx="7701840" cy="990720"/>
          </a:xfrm>
        </p:grpSpPr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1600200" y="5791320"/>
                  <a:ext cx="64785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4" name=""/>
            <p:cNvSpPr/>
            <p:nvPr/>
          </p:nvSpPr>
          <p:spPr>
            <a:xfrm>
              <a:off x="376920" y="5257800"/>
              <a:ext cx="20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</a:rPr>
                <a:t>Pomoćna form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127160" y="168120"/>
            <a:ext cx="1668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Times New Roman"/>
              </a:rPr>
              <a:t>Korelacij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820440" y="1336680"/>
            <a:ext cx="6340680" cy="898560"/>
            <a:chOff x="820440" y="1336680"/>
            <a:chExt cx="6340680" cy="89856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2971800" y="1371600"/>
                  <a:ext cx="41893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r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XY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"/>
            <p:cNvSpPr/>
            <p:nvPr/>
          </p:nvSpPr>
          <p:spPr>
            <a:xfrm>
              <a:off x="820440" y="1336680"/>
              <a:ext cx="148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oeficij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orelacij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593640" y="27432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vojst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204920" y="3429000"/>
            <a:ext cx="4811760" cy="459720"/>
            <a:chOff x="1204920" y="3429000"/>
            <a:chExt cx="4811760" cy="459720"/>
          </a:xfrm>
        </p:grpSpPr>
        <p:sp>
          <p:nvSpPr>
            <p:cNvPr id="431" name=""/>
            <p:cNvSpPr/>
            <p:nvPr/>
          </p:nvSpPr>
          <p:spPr>
            <a:xfrm>
              <a:off x="1204920" y="3429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1676520" y="3463920"/>
                  <a:ext cx="43401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rr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cY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r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3" name=""/>
          <p:cNvGrpSpPr/>
          <p:nvPr/>
        </p:nvGrpSpPr>
        <p:grpSpPr>
          <a:xfrm>
            <a:off x="1220760" y="3997440"/>
            <a:ext cx="1849320" cy="459720"/>
            <a:chOff x="1220760" y="3997440"/>
            <a:chExt cx="1849320" cy="459720"/>
          </a:xfrm>
        </p:grpSpPr>
        <p:sp>
          <p:nvSpPr>
            <p:cNvPr id="434" name=""/>
            <p:cNvSpPr/>
            <p:nvPr/>
          </p:nvSpPr>
          <p:spPr>
            <a:xfrm>
              <a:off x="1220760" y="399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1692360" y="4032360"/>
                  <a:ext cx="13777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ρ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6" name=""/>
          <p:cNvSpPr/>
          <p:nvPr/>
        </p:nvSpPr>
        <p:spPr>
          <a:xfrm>
            <a:off x="1198440" y="4413240"/>
            <a:ext cx="61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ko s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zavisne varijable, onda je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brat ne vrije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97360" y="5327640"/>
            <a:ext cx="67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ko j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da i samo onda je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 ili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.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14440" y="142920"/>
            <a:ext cx="67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Linearna kombinacija </a:t>
            </a:r>
            <a:r>
              <a:rPr b="0" lang="hr-HR" sz="2800" spc="-1" strike="noStrike" u="sng">
                <a:solidFill>
                  <a:srgbClr val="ff0000"/>
                </a:solidFill>
                <a:uFillTx/>
                <a:latin typeface="Times New Roman"/>
              </a:rPr>
              <a:t>dviju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slučajnih varijab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3520" y="990720"/>
            <a:ext cx="80168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D raspodj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lučajne varijabl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i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koje se mogu zbraj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družena raspodjela vjerojatnosti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Def: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(linearna kombinac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342900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Očekivanje linearne kombinacije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2646360" y="3973680"/>
                <a:ext cx="3078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143000" y="5715000"/>
                <a:ext cx="5896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450720" y="502920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Varijanca linearne kombinacije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515520" y="142920"/>
            <a:ext cx="62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Linearna kombinacija </a:t>
            </a:r>
            <a:r>
              <a:rPr b="0" i="1" lang="hr-HR" sz="2800" spc="-1" strike="noStrike" u="sng">
                <a:solidFill>
                  <a:srgbClr val="ff0000"/>
                </a:solidFill>
                <a:uFillTx/>
                <a:latin typeface="Times New Roman"/>
              </a:rPr>
              <a:t>n</a:t>
            </a:r>
            <a:r>
              <a:rPr b="0" lang="hr-HR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slučajnih varijab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520" y="990720"/>
            <a:ext cx="801684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bilo koji skup slučajnih varijabl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i konst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slučajna varij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+...+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ove se </a:t>
            </a:r>
            <a:r>
              <a:rPr b="1" lang="hr-HR" sz="2400" spc="-1" strike="noStrike">
                <a:solidFill>
                  <a:srgbClr val="ff0000"/>
                </a:solidFill>
                <a:latin typeface="Times New Roman"/>
              </a:rPr>
              <a:t>linearna kombinaci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o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74760" y="3809880"/>
            <a:ext cx="7538760" cy="944280"/>
            <a:chOff x="374760" y="3809880"/>
            <a:chExt cx="7538760" cy="944280"/>
          </a:xfrm>
        </p:grpSpPr>
        <p:sp>
          <p:nvSpPr>
            <p:cNvPr id="447" name=""/>
            <p:cNvSpPr/>
            <p:nvPr/>
          </p:nvSpPr>
          <p:spPr>
            <a:xfrm>
              <a:off x="374760" y="3809880"/>
              <a:ext cx="42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Očekivanje linearne kombinacije</a:t>
              </a:r>
              <a:r>
                <a:rPr b="0" lang="en-GB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456840" y="4343040"/>
                  <a:ext cx="74566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511200" y="1936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Varijanca linearne kombinacije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6600" y="914400"/>
                <a:ext cx="9001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51" name=""/>
          <p:cNvGrpSpPr/>
          <p:nvPr/>
        </p:nvGrpSpPr>
        <p:grpSpPr>
          <a:xfrm>
            <a:off x="132120" y="1717560"/>
            <a:ext cx="8170560" cy="949320"/>
            <a:chOff x="132120" y="1717560"/>
            <a:chExt cx="8170560" cy="949320"/>
          </a:xfrm>
        </p:grpSpPr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838080" y="2190600"/>
                  <a:ext cx="74646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132120" y="1717560"/>
              <a:ext cx="296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za nezavisne varij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448560" y="335268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Varijanca razlike</a:t>
            </a:r>
            <a:r>
              <a:rPr b="0" lang="hr-HR" sz="2400" spc="-1" strike="noStrike" u="sng">
                <a:solidFill>
                  <a:srgbClr val="ff0000"/>
                </a:solidFill>
                <a:uFillTx/>
                <a:latin typeface="Times New Roman"/>
              </a:rPr>
              <a:t> nezavisnih varijabli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600200" y="4876920"/>
                <a:ext cx="50896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821160" y="5883120"/>
            <a:ext cx="718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Times New Roman"/>
              </a:rPr>
              <a:t>!!!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Varijanca razlike je zbroj varijanci, a ne razlika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</a:rPr>
              <a:t>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720" y="4038480"/>
            <a:ext cx="724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stavimo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2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1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-1, dobivamo poseban sluča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2160" y="152280"/>
            <a:ext cx="44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3300"/>
                </a:solidFill>
                <a:uFillTx/>
                <a:latin typeface="Times New Roman"/>
              </a:rPr>
              <a:t>Općenita </a:t>
            </a:r>
            <a:r>
              <a:rPr b="1" sz="2800" spc="-1" strike="noStrike" u="sng">
                <a:solidFill>
                  <a:srgbClr val="ff3300"/>
                </a:solidFill>
                <a:uFillTx/>
                <a:latin typeface="Symbol"/>
                <a:ea typeface="Symbol"/>
              </a:rPr>
              <a:t></a:t>
            </a:r>
            <a:r>
              <a:rPr b="1" sz="2800" spc="-1" strike="noStrike" u="sng">
                <a:solidFill>
                  <a:srgbClr val="ff3300"/>
                </a:solidFill>
                <a:uFillTx/>
                <a:latin typeface="Times New Roman"/>
              </a:rPr>
              <a:t> raspodj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990720"/>
            <a:ext cx="8169120" cy="3313800"/>
            <a:chOff x="533520" y="990720"/>
            <a:chExt cx="8169120" cy="3313800"/>
          </a:xfrm>
        </p:grpSpPr>
        <p:sp>
          <p:nvSpPr>
            <p:cNvPr id="57" name=""/>
            <p:cNvSpPr/>
            <p:nvPr/>
          </p:nvSpPr>
          <p:spPr>
            <a:xfrm>
              <a:off x="533520" y="990720"/>
              <a:ext cx="816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ntinuirana slučajna varijabl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ma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ma raspodje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ko je n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zina funkcija gustoće vjerojatnosti dana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2530440" y="1787400"/>
                  <a:ext cx="4095720" cy="21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α</m:t>
                      </m:r>
                      <m:r>
                        <m:t xml:space="preserve">,</m:t>
                      </m:r>
                      <m:r>
                        <m:t xml:space="preserve">β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α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β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p>
                                        <m:r>
                                          <m:t xml:space="preserve">α</m:t>
                                        </m:r>
                                      </m:sup>
                                    </m:sSup>
                                    <m:r>
                                      <m:t xml:space="preserve">Γ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α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  <m:e/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624960" y="3844800"/>
              <a:ext cx="228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gdje su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i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&gt;0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81480" y="4495680"/>
            <a:ext cx="7133040" cy="949320"/>
            <a:chOff x="681480" y="4495680"/>
            <a:chExt cx="7133040" cy="949320"/>
          </a:xfrm>
        </p:grpSpPr>
        <p:sp>
          <p:nvSpPr>
            <p:cNvPr id="61" name=""/>
            <p:cNvSpPr/>
            <p:nvPr/>
          </p:nvSpPr>
          <p:spPr>
            <a:xfrm>
              <a:off x="681480" y="4495680"/>
              <a:ext cx="30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</a:t>
              </a: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čekivanje i varijanc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2301840" y="4987800"/>
                  <a:ext cx="3544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αβ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αβ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6263640" y="5064120"/>
              <a:ext cx="15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(</a:t>
              </a:r>
              <a:r>
                <a:rPr b="0" lang="hr-HR" sz="1800" spc="-1" strike="noStrike">
                  <a:solidFill>
                    <a:srgbClr val="000066"/>
                  </a:solidFill>
                  <a:latin typeface="Times New Roman"/>
                </a:rPr>
                <a:t>sami izvedit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61680" y="5902200"/>
            <a:ext cx="679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pćenita gama raspodjela postaje standardna za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4240" y="685800"/>
            <a:ext cx="44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ff3300"/>
                </a:solidFill>
                <a:uFillTx/>
                <a:latin typeface="Times New Roman"/>
              </a:rPr>
              <a:t>Eksponencijalna raspodj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438280" y="1219320"/>
                <a:ext cx="31784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λ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λx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  <m:e/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09480" y="28684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Vjerojatnosti u eksponencijalnoj raspodjeli lako se računaj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81480" y="3352680"/>
            <a:ext cx="6851160" cy="866880"/>
            <a:chOff x="681480" y="3352680"/>
            <a:chExt cx="6851160" cy="866880"/>
          </a:xfrm>
        </p:grpSpPr>
        <p:sp>
          <p:nvSpPr>
            <p:cNvPr id="69" name=""/>
            <p:cNvSpPr/>
            <p:nvPr/>
          </p:nvSpPr>
          <p:spPr>
            <a:xfrm>
              <a:off x="681480" y="3352680"/>
              <a:ext cx="30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čekivanje i varijanc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4282920" y="3463920"/>
                  <a:ext cx="324972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λ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" name=""/>
          <p:cNvGrpSpPr/>
          <p:nvPr/>
        </p:nvGrpSpPr>
        <p:grpSpPr>
          <a:xfrm>
            <a:off x="682920" y="4343400"/>
            <a:ext cx="6217920" cy="1603080"/>
            <a:chOff x="682920" y="4343400"/>
            <a:chExt cx="6217920" cy="1603080"/>
          </a:xfrm>
        </p:grpSpPr>
        <p:sp>
          <p:nvSpPr>
            <p:cNvPr id="72" name=""/>
            <p:cNvSpPr/>
            <p:nvPr/>
          </p:nvSpPr>
          <p:spPr>
            <a:xfrm>
              <a:off x="682920" y="4343400"/>
              <a:ext cx="26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unkcija raspodje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3521160" y="4530600"/>
                  <a:ext cx="3379680" cy="14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x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  <m:e/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"/>
          <p:cNvGrpSpPr/>
          <p:nvPr/>
        </p:nvGrpSpPr>
        <p:grpSpPr>
          <a:xfrm>
            <a:off x="286920" y="96840"/>
            <a:ext cx="3579480" cy="588960"/>
            <a:chOff x="286920" y="96840"/>
            <a:chExt cx="3579480" cy="588960"/>
          </a:xfrm>
        </p:grpSpPr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057400" y="96840"/>
                  <a:ext cx="16016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6" name=""/>
            <p:cNvSpPr/>
            <p:nvPr/>
          </p:nvSpPr>
          <p:spPr>
            <a:xfrm>
              <a:off x="286920" y="190440"/>
              <a:ext cx="35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66"/>
                  </a:solidFill>
                  <a:latin typeface="Times New Roman"/>
                </a:rPr>
                <a:t>poseban slučaj je</a:t>
              </a:r>
              <a:r>
                <a:rPr b="0" lang="hr-HR" sz="18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0" lang="hr-HR" sz="18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0" lang="hr-HR" sz="1800" spc="-1" strike="noStrike">
                  <a:solidFill>
                    <a:srgbClr val="000066"/>
                  </a:solidFill>
                  <a:latin typeface="Times New Roman"/>
                </a:rPr>
                <a:t>          </a:t>
              </a:r>
              <a:r>
                <a:rPr b="1" lang="hr-HR" sz="1800" spc="-1" strike="noStrike">
                  <a:solidFill>
                    <a:srgbClr val="000066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7680" y="422280"/>
            <a:ext cx="80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mje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d promatramo vrijeme između dva događaja u Poissonovim proces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640" y="1946160"/>
            <a:ext cx="77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imamo Poissonovu raspodjelu s parametrom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, onda su vremena između događaja raspodijeljena eksponencijalno s parametrom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684520" y="304920"/>
            <a:ext cx="22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3300"/>
                </a:solidFill>
                <a:latin typeface="Symbol"/>
                <a:ea typeface="Symbol"/>
              </a:rPr>
              <a:t></a:t>
            </a:r>
            <a:r>
              <a:rPr b="1" i="1" lang="en-A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AU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AU" sz="2800" spc="-1" strike="noStrike">
                <a:solidFill>
                  <a:srgbClr val="ff3300"/>
                </a:solidFill>
                <a:latin typeface="Times New Roman"/>
              </a:rPr>
              <a:t> raspodj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7200" y="1219320"/>
            <a:ext cx="7940520" cy="4117320"/>
            <a:chOff x="457200" y="1219320"/>
            <a:chExt cx="7940520" cy="4117320"/>
          </a:xfrm>
        </p:grpSpPr>
        <p:sp>
          <p:nvSpPr>
            <p:cNvPr id="81" name=""/>
            <p:cNvSpPr/>
            <p:nvPr/>
          </p:nvSpPr>
          <p:spPr>
            <a:xfrm>
              <a:off x="457200" y="1219320"/>
              <a:ext cx="7940520" cy="411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ntinuirana slučajna varijabl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ma </a:t>
              </a:r>
              <a:r>
                <a:rPr b="0" i="1" lang="en-A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0" i="1" lang="en-A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AU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AU" sz="2400" spc="-1" strike="noStrike">
                  <a:solidFill>
                    <a:srgbClr val="000000"/>
                  </a:solidFill>
                  <a:latin typeface="Times New Roman"/>
                </a:rPr>
                <a:t>raspodjel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parametrom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ko je njezina funkcija gustoće vjerojatnosti dana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Parametar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zove se “</a:t>
              </a:r>
              <a:r>
                <a:rPr b="0" lang="hr-HR" sz="2400" spc="-1" strike="noStrike">
                  <a:solidFill>
                    <a:srgbClr val="ff3300"/>
                  </a:solidFill>
                  <a:latin typeface="Times New Roman"/>
                </a:rPr>
                <a:t>broj stupnjeva slobod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” varijabl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149200" y="2479680"/>
                  <a:ext cx="3934080" cy="21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n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n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  <m:r>
                                      <m:t xml:space="preserve">Γ</m:t>
                                    </m:r>
                                    <m:r>
                                      <m:t xml:space="preserve">(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n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  <m:e/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" name=""/>
          <p:cNvSpPr/>
          <p:nvPr/>
        </p:nvSpPr>
        <p:spPr>
          <a:xfrm>
            <a:off x="533520" y="6019920"/>
            <a:ext cx="78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aspodjela je važna za primjenu statističkih testo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9680" y="7621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9960" y="5375160"/>
            <a:ext cx="15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n/2;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7440" y="228600"/>
            <a:ext cx="59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vodimenzionalne raspodje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990720"/>
            <a:ext cx="9144000" cy="3781800"/>
            <a:chOff x="0" y="990720"/>
            <a:chExt cx="9144000" cy="3781800"/>
          </a:xfrm>
        </p:grpSpPr>
        <p:sp>
          <p:nvSpPr>
            <p:cNvPr id="88" name=""/>
            <p:cNvSpPr/>
            <p:nvPr/>
          </p:nvSpPr>
          <p:spPr>
            <a:xfrm>
              <a:off x="304920" y="990720"/>
              <a:ext cx="4495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752480"/>
              <a:ext cx="861048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ka su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vije diskretne slučajne varijable definirane na prostoru elementarnih događaja nekog eksperimenta.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družena raspodjela vjerojatnosti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definirana je za svaki par točaka 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kao vjerojatnost da istodobno varijabl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primi vrijednost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 varijabl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primi vrijednost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=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4114800"/>
              <a:ext cx="914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219320" y="1066680"/>
            <a:ext cx="6884280" cy="4371840"/>
            <a:chOff x="1219320" y="1066680"/>
            <a:chExt cx="6884280" cy="4371840"/>
          </a:xfrm>
        </p:grpSpPr>
        <p:grpSp>
          <p:nvGrpSpPr>
            <p:cNvPr id="92" name=""/>
            <p:cNvGrpSpPr/>
            <p:nvPr/>
          </p:nvGrpSpPr>
          <p:grpSpPr>
            <a:xfrm>
              <a:off x="1229040" y="1071360"/>
              <a:ext cx="6862320" cy="4362480"/>
              <a:chOff x="1229040" y="1071360"/>
              <a:chExt cx="6862320" cy="43624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1229040" y="1071360"/>
                <a:ext cx="2430720" cy="625320"/>
                <a:chOff x="1229040" y="1071360"/>
                <a:chExt cx="2430720" cy="6253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373400" y="1071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229040" y="1071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660480" y="1071360"/>
                <a:ext cx="1569960" cy="625320"/>
                <a:chOff x="3660480" y="1071360"/>
                <a:chExt cx="1569960" cy="6253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804120" y="1071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660480" y="1071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231160" y="1071360"/>
                <a:ext cx="1429920" cy="625320"/>
                <a:chOff x="5231160" y="1071360"/>
                <a:chExt cx="1429920" cy="6253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375520" y="1071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231160" y="1071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662160" y="1071360"/>
                <a:ext cx="1429200" cy="625320"/>
                <a:chOff x="6662160" y="1071360"/>
                <a:chExt cx="1429200" cy="6253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806520" y="1071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662160" y="1071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1229040" y="1696680"/>
                <a:ext cx="2430720" cy="625680"/>
                <a:chOff x="1229040" y="1696680"/>
                <a:chExt cx="2430720" cy="6256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373400" y="1696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ematik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229040" y="1696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660480" y="1696680"/>
                <a:ext cx="1569960" cy="625680"/>
                <a:chOff x="3660480" y="1696680"/>
                <a:chExt cx="1569960" cy="6256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804120" y="1696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5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660480" y="1696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5231160" y="1696680"/>
                <a:ext cx="1429920" cy="625680"/>
                <a:chOff x="5231160" y="1696680"/>
                <a:chExt cx="1429920" cy="6256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375520" y="1696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0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31160" y="1696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6662160" y="1696680"/>
                <a:ext cx="1429200" cy="625680"/>
                <a:chOff x="6662160" y="1696680"/>
                <a:chExt cx="1429200" cy="6256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806520" y="1696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662160" y="1696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229040" y="2322360"/>
                <a:ext cx="2430720" cy="625320"/>
                <a:chOff x="1229040" y="2322360"/>
                <a:chExt cx="2430720" cy="6253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373400" y="2322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zik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29040" y="2322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660480" y="2322360"/>
                <a:ext cx="1569960" cy="625320"/>
                <a:chOff x="3660480" y="2322360"/>
                <a:chExt cx="1569960" cy="6253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804120" y="2322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660480" y="2322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231160" y="2322360"/>
                <a:ext cx="1429920" cy="625320"/>
                <a:chOff x="5231160" y="2322360"/>
                <a:chExt cx="1429920" cy="6253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375520" y="2322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7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231160" y="2322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662160" y="2322360"/>
                <a:ext cx="1429200" cy="625320"/>
                <a:chOff x="6662160" y="2322360"/>
                <a:chExt cx="1429200" cy="6253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806520" y="2322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662160" y="2322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229040" y="2947680"/>
                <a:ext cx="2430720" cy="625680"/>
                <a:chOff x="1229040" y="2947680"/>
                <a:chExt cx="2430720" cy="6256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373400" y="2947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emij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29040" y="2947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3660480" y="2947680"/>
                <a:ext cx="1569960" cy="625680"/>
                <a:chOff x="3660480" y="2947680"/>
                <a:chExt cx="1569960" cy="6256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804120" y="2947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6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660480" y="2947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231160" y="2947680"/>
                <a:ext cx="1429920" cy="625680"/>
                <a:chOff x="5231160" y="2947680"/>
                <a:chExt cx="1429920" cy="6256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375520" y="2947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7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231160" y="2947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6662160" y="2947680"/>
                <a:ext cx="1429200" cy="625680"/>
                <a:chOff x="6662160" y="2947680"/>
                <a:chExt cx="1429200" cy="6256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806520" y="2947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662160" y="2947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229040" y="3573360"/>
                <a:ext cx="2430720" cy="625320"/>
                <a:chOff x="1229040" y="3573360"/>
                <a:chExt cx="2430720" cy="6253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373400" y="3573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iologij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29040" y="3573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660480" y="3573360"/>
                <a:ext cx="1569960" cy="625320"/>
                <a:chOff x="3660480" y="3573360"/>
                <a:chExt cx="1569960" cy="6253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804120" y="3573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6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660480" y="3573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231160" y="3573360"/>
                <a:ext cx="1429920" cy="625320"/>
                <a:chOff x="5231160" y="3573360"/>
                <a:chExt cx="1429920" cy="625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375520" y="3573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5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231160" y="3573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662160" y="3573360"/>
                <a:ext cx="1429200" cy="625320"/>
                <a:chOff x="6662160" y="3573360"/>
                <a:chExt cx="1429200" cy="6253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06520" y="3573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662160" y="3573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229040" y="4198680"/>
                <a:ext cx="2430720" cy="625680"/>
                <a:chOff x="1229040" y="4198680"/>
                <a:chExt cx="2430720" cy="6256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373400" y="4198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o-znanost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229040" y="4198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660480" y="4198680"/>
                <a:ext cx="1569960" cy="625680"/>
                <a:chOff x="3660480" y="4198680"/>
                <a:chExt cx="1569960" cy="6256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804120" y="4198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2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60480" y="4198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231160" y="4198680"/>
                <a:ext cx="1429920" cy="625680"/>
                <a:chOff x="5231160" y="4198680"/>
                <a:chExt cx="1429920" cy="6256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375520" y="4198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231160" y="4198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662160" y="4198680"/>
                <a:ext cx="1429200" cy="625680"/>
                <a:chOff x="6662160" y="4198680"/>
                <a:chExt cx="1429200" cy="6256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806520" y="4198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662160" y="4198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229040" y="4824360"/>
                <a:ext cx="2430720" cy="609480"/>
                <a:chOff x="1229040" y="4824360"/>
                <a:chExt cx="2430720" cy="6094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373400" y="4824360"/>
                  <a:ext cx="21416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229040" y="4824360"/>
                  <a:ext cx="2430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660480" y="4824360"/>
                <a:ext cx="1569960" cy="609480"/>
                <a:chOff x="3660480" y="4824360"/>
                <a:chExt cx="1569960" cy="6094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804120" y="4824360"/>
                  <a:ext cx="12823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660480" y="4824360"/>
                  <a:ext cx="15699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231160" y="4824360"/>
                <a:ext cx="1429920" cy="609480"/>
                <a:chOff x="5231160" y="4824360"/>
                <a:chExt cx="1429920" cy="6094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375520" y="4824360"/>
                  <a:ext cx="1140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231160" y="4824360"/>
                  <a:ext cx="14299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662160" y="4824360"/>
                <a:ext cx="1429200" cy="609480"/>
                <a:chOff x="6662160" y="4824360"/>
                <a:chExt cx="1429200" cy="6094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806520" y="4824360"/>
                  <a:ext cx="1140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662160" y="4824360"/>
                  <a:ext cx="14292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1219320" y="1066680"/>
              <a:ext cx="6884280" cy="4371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0880" y="6094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219320"/>
            <a:ext cx="8381880" cy="198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ne (marginalne) raspodjele vjerojatnos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varijabl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značavamo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hr-H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hr-H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 dane su izrazi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523880" y="2235240"/>
                <a:ext cx="59817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22:35:39Z</dcterms:created>
  <dc:creator>miro</dc:creator>
  <dc:description/>
  <dc:language>en-US</dc:language>
  <cp:lastModifiedBy>Miroslav Požek</cp:lastModifiedBy>
  <dcterms:modified xsi:type="dcterms:W3CDTF">2006-05-07T16:36:55Z</dcterms:modified>
  <cp:revision>62</cp:revision>
  <dc:subject/>
  <dc:title>No Slide Title</dc:title>
</cp:coreProperties>
</file>