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4E6-E159-49D6-B136-822BF0A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104-A222-40F8-9B4F-359FCFF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AE9-BD2B-4593-A152-7525E58E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4AA-D9CC-42E4-96CE-C61ED6D0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F65-4E0C-4C0E-8F7D-1537237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393-7135-4B9F-BFD4-3CA67C8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019-7D26-44A0-8554-29A282B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8D2-1BA7-478B-A041-75CAF6A6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44A-6AB6-42F9-A973-7AC4F17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5BD-D4FE-4524-A9BA-A059577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5B4-B8F0-4A37-A257-74AC72A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389-B431-40BE-9316-4EB424C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0F5-D836-4052-B12A-D68F2BD0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833400"/>
          <a:ext cx="6858000" cy="60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3400"/>
                    <a:ext cx="6858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81040" y="304920"/>
                <a:ext cx="325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00600" y="304920"/>
                <a:ext cx="384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68480" y="158760"/>
          <a:ext cx="7648560" cy="151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58760"/>
                    <a:ext cx="76485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28600" y="1219320"/>
            <a:ext cx="85345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jerimo veličin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a njezina prava vrijednost je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koju n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mo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jerni instrument daje standardna odstupanj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jedn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514600"/>
          <a:ext cx="539280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5392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58840" y="3454560"/>
                <a:ext cx="50641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49440" y="-138240"/>
          <a:ext cx="5384880" cy="45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-138240"/>
                    <a:ext cx="53848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28600" y="228600"/>
            <a:ext cx="8534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dv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su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8360" y="427032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44680" y="5033880"/>
                <a:ext cx="77104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733920"/>
            <a:ext cx="771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vjerojatnija vrijednost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onaj </a:t>
            </a:r>
            <a:r>
              <a:rPr b="0" i="1" lang="hr-HR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 koji gornja funkcija  ima maksim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33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a i rezultati s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…x</a:t>
            </a:r>
            <a:r>
              <a:rPr b="0" i="1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000" y="137160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26920" y="2362320"/>
                <a:ext cx="5991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295280" y="5029200"/>
                <a:ext cx="1873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065240" y="5791320"/>
            <a:ext cx="56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zovemo “</a:t>
            </a: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princip najmanjih kvadra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30400" y="730080"/>
            <a:ext cx="6557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koji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zbroj kvadrata odstupanja minimalan</a:t>
            </a:r>
            <a:r>
              <a:rPr b="0" lang="hr-HR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19520" y="2819520"/>
                <a:ext cx="2133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1148400" y="4343400"/>
            <a:ext cx="4930200" cy="1805040"/>
            <a:chOff x="1148400" y="4343400"/>
            <a:chExt cx="4930200" cy="1805040"/>
          </a:xfrm>
        </p:grpSpPr>
        <p:sp>
          <p:nvSpPr>
            <p:cNvPr id="191" name=""/>
            <p:cNvSpPr/>
            <p:nvPr/>
          </p:nvSpPr>
          <p:spPr>
            <a:xfrm>
              <a:off x="1148400" y="4343400"/>
              <a:ext cx="364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najvjerojatniji </a:t>
              </a:r>
              <a:r>
                <a:rPr b="0" i="1" lang="hr-HR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hr-HR" sz="2400" spc="-1" strike="noStrike" baseline="30000">
                  <a:solidFill>
                    <a:srgbClr val="ff3300"/>
                  </a:solidFill>
                  <a:latin typeface="Times New Roman"/>
                </a:rPr>
                <a:t>*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i</a:t>
              </a:r>
              <a:r>
                <a:rPr b="0" lang="en-AU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3962520" y="5105520"/>
            <a:ext cx="2116080" cy="104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5105520"/>
                      <a:ext cx="2116080" cy="10429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82880" y="1752480"/>
                <a:ext cx="19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1371600"/>
            <a:ext cx="76356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Osnove teorije po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vjerojatnija vrijednost na osnov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jerenja jest ona pri kojoj je zbroj kvadrata odstupanja mjerenih veličina najman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prav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ke veličine nepoznata, onda se kao najvjerojatnija vrijednost koj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prima uzima aritmetička sredina svih mjer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1280" y="38088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ff3300"/>
                </a:solidFill>
                <a:uFillTx/>
                <a:latin typeface="Times New Roman"/>
              </a:rPr>
              <a:t>Gama funk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90920" y="1143000"/>
          <a:ext cx="4487760" cy="11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4487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51920" y="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Svojstv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905120" y="152280"/>
                <a:ext cx="5257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86040" y="685800"/>
                <a:ext cx="4362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906560" y="1219320"/>
                <a:ext cx="2284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66360" y="80316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Izvod Stirlingove form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1295280"/>
                <a:ext cx="2289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29000" y="1523880"/>
                <a:ext cx="1544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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aspodj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143000" y="83808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Standardna 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447920"/>
            <a:ext cx="8093160" cy="3202920"/>
            <a:chOff x="457200" y="1447920"/>
            <a:chExt cx="8093160" cy="3202920"/>
          </a:xfrm>
        </p:grpSpPr>
        <p:sp>
          <p:nvSpPr>
            <p:cNvPr id="213" name=""/>
            <p:cNvSpPr/>
            <p:nvPr/>
          </p:nvSpPr>
          <p:spPr>
            <a:xfrm>
              <a:off x="457200" y="1447920"/>
              <a:ext cx="80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ndardnu 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362320" y="2210040"/>
                  <a:ext cx="3498840" cy="20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603000" y="4191120"/>
              <a:ext cx="485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parametar raspodjele (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9480" y="4943520"/>
            <a:ext cx="6705720" cy="1533600"/>
            <a:chOff x="609480" y="4943520"/>
            <a:chExt cx="6705720" cy="1533600"/>
          </a:xfrm>
        </p:grpSpPr>
        <p:sp>
          <p:nvSpPr>
            <p:cNvPr id="217" name=""/>
            <p:cNvSpPr/>
            <p:nvPr/>
          </p:nvSpPr>
          <p:spPr>
            <a:xfrm>
              <a:off x="609480" y="4943520"/>
              <a:ext cx="6705720" cy="14997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ovoljava osnovne uvjete za raspodjelu vjerojatnosti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2971800" y="5324400"/>
                  <a:ext cx="1868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2971800" y="5772240"/>
                  <a:ext cx="143208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990720" y="0"/>
          <a:ext cx="6860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686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55640" y="548640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imj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rijeme reakcije na neki podražaj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228600"/>
                <a:ext cx="1908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49960" y="165240"/>
                <a:ext cx="143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29720" cy="526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34120" y="4419720"/>
                <a:ext cx="26557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91320" y="5943600"/>
                <a:ext cx="1760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458200" cy="64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4582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na normalna rasp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2085840"/>
                <a:ext cx="1352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261936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81280" y="4114800"/>
                <a:ext cx="32641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22400"/>
          <a:ext cx="91440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400"/>
                    <a:ext cx="91440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iranje općenit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normaln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aspodjel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95280" y="1371600"/>
                <a:ext cx="1760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" name=""/>
          <p:cNvGrpSpPr/>
          <p:nvPr/>
        </p:nvGrpSpPr>
        <p:grpSpPr>
          <a:xfrm>
            <a:off x="2133720" y="2819520"/>
            <a:ext cx="5058720" cy="788760"/>
            <a:chOff x="2133720" y="2819520"/>
            <a:chExt cx="5058720" cy="788760"/>
          </a:xfrm>
        </p:grpSpPr>
        <p:sp>
          <p:nvSpPr>
            <p:cNvPr id="64" name=""/>
            <p:cNvSpPr/>
            <p:nvPr/>
          </p:nvSpPr>
          <p:spPr>
            <a:xfrm>
              <a:off x="2133720" y="2971440"/>
              <a:ext cx="49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vodimo slučajnu varijabl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775120" y="2819520"/>
                  <a:ext cx="14173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66680" y="1490760"/>
          <a:ext cx="679608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90760"/>
                    <a:ext cx="679608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61440" y="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binom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24080" y="609480"/>
                <a:ext cx="5334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1219320"/>
          <a:ext cx="761976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78360" y="1522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Poisson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52680" y="685800"/>
                <a:ext cx="4572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734480" y="1405080"/>
            <a:ext cx="5674680" cy="335520"/>
            <a:chOff x="1734480" y="1405080"/>
            <a:chExt cx="5674680" cy="335520"/>
          </a:xfrm>
        </p:grpSpPr>
        <p:sp>
          <p:nvSpPr>
            <p:cNvPr id="78" name=""/>
            <p:cNvSpPr/>
            <p:nvPr/>
          </p:nvSpPr>
          <p:spPr>
            <a:xfrm>
              <a:off x="1734480" y="1405080"/>
              <a:ext cx="124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Raspodje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40040" y="1405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Ogra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59320" y="140508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čen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65400" y="1405080"/>
              <a:ext cx="1643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Aproksimaci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614760" y="1393920"/>
            <a:ext cx="144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1920" y="1393920"/>
            <a:ext cx="180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25120" y="2209680"/>
            <a:ext cx="5424120" cy="697320"/>
            <a:chOff x="1725120" y="2209680"/>
            <a:chExt cx="5424120" cy="697320"/>
          </a:xfrm>
        </p:grpSpPr>
        <p:grpSp>
          <p:nvGrpSpPr>
            <p:cNvPr id="85" name=""/>
            <p:cNvGrpSpPr/>
            <p:nvPr/>
          </p:nvGrpSpPr>
          <p:grpSpPr>
            <a:xfrm>
              <a:off x="1725120" y="2209680"/>
              <a:ext cx="1661760" cy="366120"/>
              <a:chOff x="1725120" y="2209680"/>
              <a:chExt cx="1661760" cy="366120"/>
            </a:xfrm>
          </p:grpSpPr>
          <p:sp>
            <p:nvSpPr>
              <p:cNvPr id="86" name=""/>
              <p:cNvSpPr/>
              <p:nvPr/>
            </p:nvSpPr>
            <p:spPr>
              <a:xfrm>
                <a:off x="328392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71440" y="22096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70880" y="220968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040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2228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1916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2512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685680" y="225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25360" y="2251080"/>
              <a:ext cx="132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velik (&gt;5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85680" y="25714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26080" y="2571480"/>
              <a:ext cx="1515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malen (&lt;0,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756040" y="2209680"/>
              <a:ext cx="1393200" cy="366120"/>
              <a:chOff x="5756040" y="2209680"/>
              <a:chExt cx="1393200" cy="366120"/>
            </a:xfrm>
          </p:grpSpPr>
          <p:sp>
            <p:nvSpPr>
              <p:cNvPr id="98" name=""/>
              <p:cNvSpPr/>
              <p:nvPr/>
            </p:nvSpPr>
            <p:spPr>
              <a:xfrm>
                <a:off x="704628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00720" y="220968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5952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33800" y="2209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5604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3614760" y="2343240"/>
            <a:ext cx="1440" cy="269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41920" y="2343240"/>
            <a:ext cx="1800" cy="27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8120" y="3124080"/>
            <a:ext cx="6059520" cy="5040"/>
            <a:chOff x="1608120" y="3124080"/>
            <a:chExt cx="6059520" cy="5040"/>
          </a:xfrm>
        </p:grpSpPr>
        <p:sp>
          <p:nvSpPr>
            <p:cNvPr id="106" name=""/>
            <p:cNvSpPr/>
            <p:nvPr/>
          </p:nvSpPr>
          <p:spPr>
            <a:xfrm>
              <a:off x="1608120" y="31240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47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47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19440" y="31240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419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1920" y="3124080"/>
              <a:ext cx="180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48400" y="31240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86320" y="3247920"/>
            <a:ext cx="5907960" cy="1061280"/>
            <a:chOff x="1786320" y="3247920"/>
            <a:chExt cx="5907960" cy="1061280"/>
          </a:xfrm>
        </p:grpSpPr>
        <p:grpSp>
          <p:nvGrpSpPr>
            <p:cNvPr id="114" name=""/>
            <p:cNvGrpSpPr/>
            <p:nvPr/>
          </p:nvGrpSpPr>
          <p:grpSpPr>
            <a:xfrm>
              <a:off x="1786320" y="3247920"/>
              <a:ext cx="1661400" cy="366120"/>
              <a:chOff x="1786320" y="3247920"/>
              <a:chExt cx="1661400" cy="366120"/>
            </a:xfrm>
          </p:grpSpPr>
          <p:sp>
            <p:nvSpPr>
              <p:cNvPr id="115" name=""/>
              <p:cNvSpPr/>
              <p:nvPr/>
            </p:nvSpPr>
            <p:spPr>
              <a:xfrm>
                <a:off x="334476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3228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0880" y="324792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9124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348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8036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8632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74184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0440" y="330984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1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5788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0360" y="3276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9120" y="330984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0400" y="363060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184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0440" y="397368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3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788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90360" y="394164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9120" y="397368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818680" y="3247920"/>
              <a:ext cx="1875600" cy="366120"/>
              <a:chOff x="5818680" y="3247920"/>
              <a:chExt cx="1875600" cy="366120"/>
            </a:xfrm>
          </p:grpSpPr>
          <p:sp>
            <p:nvSpPr>
              <p:cNvPr id="134" name=""/>
              <p:cNvSpPr/>
              <p:nvPr/>
            </p:nvSpPr>
            <p:spPr>
              <a:xfrm>
                <a:off x="759132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1064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73800" y="324792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2180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63920" y="324792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41640" y="324792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1868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614760" y="3276720"/>
              <a:ext cx="144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41920" y="3276720"/>
              <a:ext cx="180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25120" y="4629240"/>
            <a:ext cx="5497200" cy="401040"/>
            <a:chOff x="1725120" y="4629240"/>
            <a:chExt cx="5497200" cy="401040"/>
          </a:xfrm>
        </p:grpSpPr>
        <p:grpSp>
          <p:nvGrpSpPr>
            <p:cNvPr id="144" name=""/>
            <p:cNvGrpSpPr/>
            <p:nvPr/>
          </p:nvGrpSpPr>
          <p:grpSpPr>
            <a:xfrm>
              <a:off x="1725120" y="4629240"/>
              <a:ext cx="1267920" cy="401040"/>
              <a:chOff x="1725120" y="4629240"/>
              <a:chExt cx="1267920" cy="401040"/>
            </a:xfrm>
          </p:grpSpPr>
          <p:sp>
            <p:nvSpPr>
              <p:cNvPr id="145" name=""/>
              <p:cNvSpPr/>
              <p:nvPr/>
            </p:nvSpPr>
            <p:spPr>
              <a:xfrm>
                <a:off x="289008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3040" y="466416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3040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9964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2512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686040" y="4684680"/>
              <a:ext cx="120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4480" y="4684680"/>
              <a:ext cx="438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56040" y="4629240"/>
              <a:ext cx="1466280" cy="401040"/>
              <a:chOff x="5756040" y="4629240"/>
              <a:chExt cx="1466280" cy="40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711936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21280" y="4664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11880" y="466416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096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285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351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604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608120" y="4495680"/>
            <a:ext cx="6059520" cy="6480"/>
            <a:chOff x="1608120" y="4495680"/>
            <a:chExt cx="6059520" cy="6480"/>
          </a:xfrm>
        </p:grpSpPr>
        <p:sp>
          <p:nvSpPr>
            <p:cNvPr id="161" name=""/>
            <p:cNvSpPr/>
            <p:nvPr/>
          </p:nvSpPr>
          <p:spPr>
            <a:xfrm>
              <a:off x="1608120" y="44956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4760" y="44956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4760" y="44956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9440" y="44956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1920" y="44956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41920" y="44956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48400" y="44956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14760" y="4290840"/>
            <a:ext cx="144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41920" y="4290840"/>
            <a:ext cx="180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23:27:54Z</dcterms:created>
  <dc:creator>miro</dc:creator>
  <dc:description/>
  <dc:language>en-US</dc:language>
  <cp:lastModifiedBy>Miroslav Požek</cp:lastModifiedBy>
  <dcterms:modified xsi:type="dcterms:W3CDTF">2006-05-02T12:12:28Z</dcterms:modified>
  <cp:revision>60</cp:revision>
  <dc:subject/>
  <dc:title>No Slide Title</dc:title>
</cp:coreProperties>
</file>