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9EE-FECB-43D9-ABB7-98CE006F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7C5-EEA9-4482-8DB3-A1AF3E6B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159-3BF1-4DC6-95E2-62A9A56B3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111-A417-49E5-9ECC-9B90FAC9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6C8-FE87-420A-A3F7-2E45EE3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217-D7C7-4201-8D84-27313987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2CB-765B-4B3E-AEE4-BEC7835F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8FF-2BA3-4CDA-BF52-156B09D3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B2C-801E-4F96-8345-AE2EDB0E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FFB-78DE-47F7-8FAD-90375A27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54F-780C-4EE3-8D62-2D6A7AFA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93C-8BEE-4281-9C5C-6952DB2E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5005-034C-454A-B98D-10E778694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kleinbottle.com/gauss.ht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0680" y="304920"/>
            <a:ext cx="77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Times New Roman"/>
              </a:rPr>
              <a:t>Kontinuirana raspodjela vjerojatnos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286000"/>
            <a:ext cx="84582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: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učajna varijabl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ira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ko skup njezinih mogućih vrijednosti čini cijeli interval brojeva, t.j. ako je za nek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&lt;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vak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gu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181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lji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ije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838080" y="1171440"/>
          <a:ext cx="670572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71440"/>
                    <a:ext cx="670572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4791240" y="650880"/>
            <a:ext cx="18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=1.94 m</a:t>
            </a:r>
            <a:r>
              <a:rPr b="0" lang="hr-HR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08800" y="1295280"/>
            <a:ext cx="19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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0280" y="28954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men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14400" y="3457440"/>
                <a:ext cx="22636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343400" y="3459240"/>
                <a:ext cx="3033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90060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11520" y="1752480"/>
            <a:ext cx="5337000" cy="511200"/>
            <a:chOff x="911520" y="1752480"/>
            <a:chExt cx="5337000" cy="511200"/>
          </a:xfrm>
        </p:grpSpPr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581280" y="1752480"/>
                  <a:ext cx="266724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"/>
            <p:cNvSpPr/>
            <p:nvPr/>
          </p:nvSpPr>
          <p:spPr>
            <a:xfrm>
              <a:off x="911520" y="1752480"/>
              <a:ext cx="24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Linearna funkcij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04920" y="380880"/>
            <a:ext cx="8381880" cy="1191240"/>
            <a:chOff x="304920" y="380880"/>
            <a:chExt cx="8381880" cy="1191240"/>
          </a:xfrm>
        </p:grpSpPr>
        <p:sp>
          <p:nvSpPr>
            <p:cNvPr id="110" name=""/>
            <p:cNvSpPr/>
            <p:nvPr/>
          </p:nvSpPr>
          <p:spPr>
            <a:xfrm>
              <a:off x="304920" y="380880"/>
              <a:ext cx="8381880" cy="119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janca funkci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370160" y="863640"/>
                  <a:ext cx="67276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E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d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d>
                      <m:r>
                        <m:t xml:space="preserve">=</m:t>
                      </m:r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−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E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h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d>
                                </m:e>
                              </m:d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228600" y="304920"/>
            <a:ext cx="7543800" cy="2288520"/>
            <a:chOff x="228600" y="304920"/>
            <a:chExt cx="7543800" cy="2288520"/>
          </a:xfrm>
        </p:grpSpPr>
        <p:sp>
          <p:nvSpPr>
            <p:cNvPr id="113" name=""/>
            <p:cNvSpPr/>
            <p:nvPr/>
          </p:nvSpPr>
          <p:spPr>
            <a:xfrm>
              <a:off x="228600" y="304920"/>
              <a:ext cx="7543800" cy="22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ma </a:t>
              </a:r>
              <a:r>
                <a:rPr b="1" lang="hr-HR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uniformn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raspodjelu u intervalu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je funkcija gustoće vjerojatnosti dana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048120" y="738360"/>
                  <a:ext cx="79200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2590920" y="1371600"/>
                  <a:ext cx="336528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ace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16" name=""/>
          <p:cNvGraphicFramePr/>
          <p:nvPr/>
        </p:nvGraphicFramePr>
        <p:xfrm>
          <a:off x="1143000" y="2651040"/>
          <a:ext cx="5105520" cy="41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51040"/>
                    <a:ext cx="5105520" cy="41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00800" y="3200400"/>
                <a:ext cx="17892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37440" y="4394160"/>
                <a:ext cx="20700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324480" y="5486400"/>
                <a:ext cx="1917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600200" y="1125360"/>
          <a:ext cx="702792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125360"/>
                    <a:ext cx="702792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048120" y="228600"/>
                <a:ext cx="38005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9556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533520"/>
          <a:ext cx="7165800" cy="58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165800" cy="58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009960" y="228600"/>
                <a:ext cx="38764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ormalna (Gaussova) raspodje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219320"/>
            <a:ext cx="77724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mda postoje mnoge druge raspodjele, normalna raspodjela objašnjava najveći broj statističkih opaž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va primj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podjela visina odraslih lj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zultati mjerenja fizikalnih velič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6994440" cy="338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887560" y="6297480"/>
            <a:ext cx="4092840" cy="39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kleinbottle.com/gauss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685800"/>
            <a:ext cx="80773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noštvo genetskih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i drugih čimbenika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tje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č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a nečiju visin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ki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čimbeni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čavlić u Galt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voj dasc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nač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isi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oj svih tih utjecaj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429000"/>
            <a:ext cx="4647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k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znih čimbenika ima jako mnogo, Gaussova krivulja dobro opisuje raspodjel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4311720" cy="4952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76920" y="22860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odjel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judskih visin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8580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zmotrimo mjerenje neke fizikalne veličine. Neka je prava vrijednost te veličin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00200" y="1828800"/>
          <a:ext cx="51339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1339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85800" y="2362320"/>
            <a:ext cx="79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likom mjerenja te veličine dolazi do pogrešak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greške mogu biti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grub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istematsk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li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slučaj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962520"/>
            <a:ext cx="816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ko smo pažljivim mjerenjem otklonili grube i sistematske, ostaju nam samo slučajne pogreške. Na njih ne možemo utjecati i one dovode do rasipanja rezulta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3962520"/>
            <a:ext cx="771228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kupna pogrešk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jest odstupanje izmjerene vrijednost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d prave vrijednosti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y=x-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895480"/>
            <a:ext cx="61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di jednostavnosti, stavimo da j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aran broj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0880"/>
            <a:ext cx="769608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tpostavke za Hagenov izvod Gaussove distribucij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kupna pogre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ška sastoji se od niza </a:t>
            </a:r>
            <a:r>
              <a:rPr b="0" lang="hr-HR" sz="2200" spc="-1" strike="noStrike">
                <a:solidFill>
                  <a:srgbClr val="ff0000"/>
                </a:solidFill>
                <a:latin typeface="Times New Roman"/>
              </a:rPr>
              <a:t>nezavisnih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ff0000"/>
                </a:solidFill>
                <a:latin typeface="Times New Roman"/>
              </a:rPr>
              <a:t>elementarnih pogrešaka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koje su sve istog iznosa </a:t>
            </a:r>
            <a:r>
              <a:rPr b="0" lang="hr-HR" sz="2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jednaka je vjerojatnost da elementarna pogreška bude pozitivna ili negativna: </a:t>
            </a:r>
            <a:r>
              <a:rPr b="0" i="1" lang="hr-HR" sz="2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hr-HR" sz="2200" spc="-1" strike="noStrike" baseline="-25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hr-HR" sz="2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hr-HR" sz="2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hr-HR" sz="2200" spc="-1" strike="noStrike" baseline="-25000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hr-HR" sz="2200" spc="-1" strike="noStrike">
                <a:solidFill>
                  <a:srgbClr val="ff0000"/>
                </a:solidFill>
                <a:latin typeface="Times New Roman"/>
              </a:rPr>
              <a:t>=1/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ukupan broj elementarnih pogrešaka j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hr-HR" sz="2200" spc="-1" strike="noStrike">
                <a:solidFill>
                  <a:srgbClr val="ff0000"/>
                </a:solidFill>
                <a:latin typeface="Symbol"/>
                <a:ea typeface="Symbol"/>
              </a:rPr>
              <a:t>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76520" y="5105520"/>
          <a:ext cx="51354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105520"/>
                    <a:ext cx="51354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19320" y="152280"/>
          <a:ext cx="647676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280"/>
                    <a:ext cx="647676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280" y="2971800"/>
          <a:ext cx="414972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971800"/>
                    <a:ext cx="414972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689360" y="2971800"/>
          <a:ext cx="4149720" cy="30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9360" y="2971800"/>
                    <a:ext cx="414972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4572000" y="0"/>
          <a:ext cx="4255920" cy="308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0"/>
                    <a:ext cx="425592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52280" y="-15840"/>
          <a:ext cx="4186440" cy="307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-15840"/>
                    <a:ext cx="418644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5181480" y="5715000"/>
                <a:ext cx="1446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/>
                    </m:nary>
                    <m:r>
                      <m:t xml:space="preserve">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819520" y="6172200"/>
                <a:ext cx="14475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60480" y="5756400"/>
            <a:ext cx="27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ijelaz s diskretne na kontinuiran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62120" y="-380880"/>
          <a:ext cx="7010280" cy="61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-380880"/>
                    <a:ext cx="7010280" cy="61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88000" y="606096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ormiran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73280" y="5319720"/>
                <a:ext cx="50641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</m:den>
                            </m:f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682920" y="304920"/>
            <a:ext cx="3847680" cy="838080"/>
            <a:chOff x="682920" y="304920"/>
            <a:chExt cx="3847680" cy="838080"/>
          </a:xfrm>
        </p:grpSpPr>
        <p:sp>
          <p:nvSpPr>
            <p:cNvPr id="153" name=""/>
            <p:cNvSpPr/>
            <p:nvPr/>
          </p:nvSpPr>
          <p:spPr>
            <a:xfrm>
              <a:off x="682920" y="422280"/>
              <a:ext cx="22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zračun integral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292560" y="304920"/>
                  <a:ext cx="12380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u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" name=""/>
          <p:cNvGrpSpPr/>
          <p:nvPr/>
        </p:nvGrpSpPr>
        <p:grpSpPr>
          <a:xfrm>
            <a:off x="605520" y="1292400"/>
            <a:ext cx="4926600" cy="841320"/>
            <a:chOff x="605520" y="1292400"/>
            <a:chExt cx="4926600" cy="841320"/>
          </a:xfrm>
        </p:grpSpPr>
        <p:sp>
          <p:nvSpPr>
            <p:cNvPr id="156" name=""/>
            <p:cNvSpPr/>
            <p:nvPr/>
          </p:nvSpPr>
          <p:spPr>
            <a:xfrm>
              <a:off x="605520" y="1292400"/>
              <a:ext cx="241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80"/>
                  </a:solidFill>
                  <a:latin typeface="Times New Roman"/>
                </a:rPr>
                <a:t>Kvadrat tog integral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3047760" y="1292400"/>
                  <a:ext cx="248436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e>
                      </m:nary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638680" y="1295280"/>
                <a:ext cx="17002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59" name=""/>
          <p:cNvGraphicFramePr/>
          <p:nvPr/>
        </p:nvGraphicFramePr>
        <p:xfrm>
          <a:off x="380880" y="2362320"/>
          <a:ext cx="304812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304812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181480" y="2438280"/>
          <a:ext cx="3200400" cy="25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2438280"/>
                    <a:ext cx="320040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3352680" y="2590920"/>
            <a:ext cx="1828800" cy="1935360"/>
            <a:chOff x="3352680" y="2590920"/>
            <a:chExt cx="1828800" cy="1935360"/>
          </a:xfrm>
        </p:grpSpPr>
        <p:sp>
          <p:nvSpPr>
            <p:cNvPr id="164" name=""/>
            <p:cNvSpPr/>
            <p:nvPr/>
          </p:nvSpPr>
          <p:spPr>
            <a:xfrm>
              <a:off x="3352680" y="2590920"/>
              <a:ext cx="1828800" cy="1935360"/>
            </a:xfrm>
            <a:prstGeom prst="rect">
              <a:avLst/>
            </a:prstGeom>
            <a:solidFill>
              <a:srgbClr val="fcfdc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Možemo prijeći na polarne koordin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581280" y="3505320"/>
                  <a:ext cx="1216080" cy="100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ϕ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r>
                            <m:t xml:space="preserve">ϕ</m:t>
                          </m:r>
                        </m:e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276720" y="5257800"/>
                <a:ext cx="1877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066680" y="833400"/>
          <a:ext cx="6858000" cy="60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33400"/>
                    <a:ext cx="6858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81040" y="304920"/>
                <a:ext cx="3257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800600" y="304920"/>
                <a:ext cx="384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480" y="21924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gustoće vjerojatnosti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8600" y="1143000"/>
            <a:ext cx="8610480" cy="2288520"/>
            <a:chOff x="228600" y="1143000"/>
            <a:chExt cx="8610480" cy="2288520"/>
          </a:xfrm>
        </p:grpSpPr>
        <p:sp>
          <p:nvSpPr>
            <p:cNvPr id="57" name=""/>
            <p:cNvSpPr/>
            <p:nvPr/>
          </p:nvSpPr>
          <p:spPr>
            <a:xfrm>
              <a:off x="228600" y="1143000"/>
              <a:ext cx="8610480" cy="22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eka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.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spodjela vjerojatnost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li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kcija gustoć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jerojatnosti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varijabl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je funkcij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takva da za bilo koja dva broja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rije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5715000" y="1905120"/>
                  <a:ext cx="69048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≤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2895480" y="2286000"/>
                  <a:ext cx="3044880" cy="106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0" name=""/>
          <p:cNvGrpSpPr/>
          <p:nvPr/>
        </p:nvGrpSpPr>
        <p:grpSpPr>
          <a:xfrm>
            <a:off x="457200" y="3581280"/>
            <a:ext cx="7864560" cy="1191240"/>
            <a:chOff x="457200" y="3581280"/>
            <a:chExt cx="7864560" cy="1191240"/>
          </a:xfrm>
        </p:grpSpPr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828800" y="3962520"/>
                  <a:ext cx="69048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[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b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457200" y="3581280"/>
              <a:ext cx="786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iječima: Vjerojatnost d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vrijednost varijabl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ude u intervalu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na je površinom ispod funkcije gustoće vjerojatnosti u tom intervalu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057400" y="6172200"/>
                <a:ext cx="2206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120760" y="5041800"/>
                <a:ext cx="1589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212400" y="50706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vje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124080" y="457200"/>
                <a:ext cx="169884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533520" y="584280"/>
          <a:ext cx="8381880" cy="66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84280"/>
                    <a:ext cx="838188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876920" y="152280"/>
                <a:ext cx="1388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324480" y="457200"/>
                <a:ext cx="1011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72120" y="14292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Funkcija raspodj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57200" y="1066680"/>
            <a:ext cx="7696080" cy="1621080"/>
            <a:chOff x="457200" y="1066680"/>
            <a:chExt cx="7696080" cy="1621080"/>
          </a:xfrm>
        </p:grpSpPr>
        <p:sp>
          <p:nvSpPr>
            <p:cNvPr id="73" name=""/>
            <p:cNvSpPr/>
            <p:nvPr/>
          </p:nvSpPr>
          <p:spPr>
            <a:xfrm>
              <a:off x="457200" y="1066680"/>
              <a:ext cx="7696080" cy="155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nkcija raspodjel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za kontinuiranu slučajnu varijablu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efinirana j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                                                                                  </a:t>
              </a:r>
              <a:r>
                <a:rPr b="1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2971800" y="1752480"/>
                  <a:ext cx="354492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y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523880" y="3581280"/>
                <a:ext cx="36496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" name=""/>
          <p:cNvGrpSpPr/>
          <p:nvPr/>
        </p:nvGrpSpPr>
        <p:grpSpPr>
          <a:xfrm>
            <a:off x="304920" y="4495680"/>
            <a:ext cx="7315200" cy="1373760"/>
            <a:chOff x="304920" y="4495680"/>
            <a:chExt cx="7315200" cy="1373760"/>
          </a:xfrm>
        </p:grpSpPr>
        <p:sp>
          <p:nvSpPr>
            <p:cNvPr id="77" name=""/>
            <p:cNvSpPr/>
            <p:nvPr/>
          </p:nvSpPr>
          <p:spPr>
            <a:xfrm>
              <a:off x="304920" y="4495680"/>
              <a:ext cx="7315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poznajemo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(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da  lako određujem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352680" y="5029200"/>
                  <a:ext cx="184644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8967960" cy="71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679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47360" y="295200"/>
            <a:ext cx="68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čekivanje kontinuirane slučajne varijable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8600" y="1066680"/>
            <a:ext cx="8381880" cy="2105280"/>
            <a:chOff x="228600" y="1066680"/>
            <a:chExt cx="8381880" cy="2105280"/>
          </a:xfrm>
        </p:grpSpPr>
        <p:sp>
          <p:nvSpPr>
            <p:cNvPr id="83" name=""/>
            <p:cNvSpPr/>
            <p:nvPr/>
          </p:nvSpPr>
          <p:spPr>
            <a:xfrm>
              <a:off x="228600" y="1066680"/>
              <a:ext cx="8381880" cy="21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jezina funkcija gustoće vjerojatnosti, onda 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njezino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čekivan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je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2666880" y="1981080"/>
                  <a:ext cx="3321000" cy="111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" name=""/>
          <p:cNvGraphicFramePr/>
          <p:nvPr/>
        </p:nvGraphicFramePr>
        <p:xfrm>
          <a:off x="1905120" y="3246480"/>
          <a:ext cx="4952880" cy="36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46480"/>
                    <a:ext cx="495288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9160" y="27000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Očekivanje funkcije kontinuirane slučaj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4920" y="1143000"/>
            <a:ext cx="8458200" cy="2654280"/>
            <a:chOff x="304920" y="1143000"/>
            <a:chExt cx="8458200" cy="2654280"/>
          </a:xfrm>
        </p:grpSpPr>
        <p:sp>
          <p:nvSpPr>
            <p:cNvPr id="89" name=""/>
            <p:cNvSpPr/>
            <p:nvPr/>
          </p:nvSpPr>
          <p:spPr>
            <a:xfrm>
              <a:off x="304920" y="1143000"/>
              <a:ext cx="8458200" cy="265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</a:t>
              </a:r>
              <a:r>
                <a:rPr b="0" i="1" lang="hr-H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 i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jezina funkcija gustoće vjerojatnosti, 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ilo koja funkcija od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nda j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133720" y="2362320"/>
                  <a:ext cx="4297320" cy="111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" name=""/>
          <p:cNvSpPr/>
          <p:nvPr/>
        </p:nvSpPr>
        <p:spPr>
          <a:xfrm>
            <a:off x="592920" y="4613400"/>
            <a:ext cx="565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 linearnu funkcij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vrij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X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66720" y="396720"/>
            <a:ext cx="610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janca kontinuirane slučajne varij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920" y="1295280"/>
            <a:ext cx="8229600" cy="3385800"/>
            <a:chOff x="304920" y="1295280"/>
            <a:chExt cx="8229600" cy="3385800"/>
          </a:xfrm>
        </p:grpSpPr>
        <p:sp>
          <p:nvSpPr>
            <p:cNvPr id="94" name=""/>
            <p:cNvSpPr/>
            <p:nvPr/>
          </p:nvSpPr>
          <p:spPr>
            <a:xfrm>
              <a:off x="304920" y="1295280"/>
              <a:ext cx="822960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f: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ko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ontinuirana slučajna varijabl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njezina funkcija gustoće vjerojatnosti, 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μ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jezino očekivan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onda je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njezin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ijanc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dana relacij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     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ndardna devijacija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je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2057400" y="2362320"/>
                  <a:ext cx="5746680" cy="103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μ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⋅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r>
                            <m:t xml:space="preserve">E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809880" y="3809880"/>
                  <a:ext cx="166716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971800" y="5334120"/>
                <a:ext cx="321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7T23:27:54Z</dcterms:created>
  <dc:creator>miro</dc:creator>
  <dc:description/>
  <dc:language>en-US</dc:language>
  <cp:lastModifiedBy>Miroslav Požek</cp:lastModifiedBy>
  <dcterms:modified xsi:type="dcterms:W3CDTF">2006-04-18T12:13:47Z</dcterms:modified>
  <cp:revision>54</cp:revision>
  <dc:subject/>
  <dc:title>No Slide Title</dc:title>
</cp:coreProperties>
</file>