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A96-43F5-4545-B46F-EA0E1A5A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79F-4C3C-4F79-90FE-577358E9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22C-DCAE-4893-BEF6-F7A71EF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F9D-AFC2-43D5-9001-2E28E83A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97A-7E1F-489D-81CE-3532F826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715-6BA8-4D93-BEBE-A8061A1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852-A821-423A-98B7-B385BCA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1D0-499B-4D8E-A232-279E0B49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5AB-7936-458E-8035-3066E4CB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62F-6B15-42FD-B3ED-C32E1A1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998-33B6-4BD0-8180-9D49806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86F-E91B-421E-BB0C-0D95A4B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C84-674D-47B3-A7E8-D248AAE6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arn-line.nrw.de/angebote/eda/medio/galton/galton.htm" TargetMode="External"/><Relationship Id="rId2" Type="http://schemas.openxmlformats.org/officeDocument/2006/relationships/hyperlink" Target="file:///gd1.exe" TargetMode="External"/><Relationship Id="rId3" Type="http://schemas.openxmlformats.org/officeDocument/2006/relationships/hyperlink" Target="http://www.phy.hr/~mpozek/SOM/galtonHM.pdf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457200"/>
          <a:ext cx="5486400" cy="39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5486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666880" y="1676520"/>
                <a:ext cx="2210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666880" y="3809880"/>
                <a:ext cx="2438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813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894888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888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097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533520"/>
          <a:ext cx="745020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450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701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. Poissonova raspodjela kao zakon malih broje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jetki događ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2280" y="320040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nski ili prostorni interva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7360" y="4156200"/>
            <a:ext cx="73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i proces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rojatnost događaja proporcionalna je veličini interv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lagođavanje empirijskih podataka Poissonovoj raspodje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(Vranić, str 189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685800"/>
          <a:ext cx="854712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54712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457200"/>
            <a:ext cx="8153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spodjela dvije nezavisne Poissonove varij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523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vije Poissonov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učajne varijabl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rdnja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čaj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jab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 Poisso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~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+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4000" y="304920"/>
            <a:ext cx="56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pergeometrijska raspodjela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17680" y="1039680"/>
            <a:ext cx="8397720" cy="2040840"/>
            <a:chOff x="517680" y="1039680"/>
            <a:chExt cx="8397720" cy="2040840"/>
          </a:xfrm>
        </p:grpSpPr>
        <p:sp>
          <p:nvSpPr>
            <p:cNvPr id="102" name=""/>
            <p:cNvSpPr/>
            <p:nvPr/>
          </p:nvSpPr>
          <p:spPr>
            <a:xfrm>
              <a:off x="517680" y="1461960"/>
              <a:ext cx="839772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cija se sastoji od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ata. (konačna populacij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vaki element ima svojstvo koje možemo označiti kao '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pješan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(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i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'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uspje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š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(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oji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pje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h elemenat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zvl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se uzorak o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lemenat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izvl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je bilo kojeg uzorka jednako je vjerojatno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438280" y="2133720"/>
                  <a:ext cx="26208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533880" y="1039680"/>
              <a:ext cx="145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000000"/>
                  </a:solidFill>
                  <a:latin typeface="Times New Roman"/>
                </a:rPr>
                <a:t>Pretpostavk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62120" y="358128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a varijabla: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roj uspješnih elemenata u uzor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19520" y="4235400"/>
                <a:ext cx="5137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3520" y="4267080"/>
                <a:ext cx="776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990720" y="5638680"/>
            <a:ext cx="6516720" cy="782640"/>
            <a:chOff x="990720" y="5638680"/>
            <a:chExt cx="6516720" cy="78264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990720" y="5638680"/>
                  <a:ext cx="102852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2415600" y="5703840"/>
              <a:ext cx="509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korekcijski </a:t>
              </a:r>
              <a:r>
                <a:rPr b="0" lang="hr-HR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</a:t>
              </a:r>
              <a:r>
                <a:rPr b="0" lang="hr-HR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faktor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načne populaci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7760" y="120600"/>
            <a:ext cx="85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gativna binomna raspodjela (Pascalo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838080"/>
            <a:ext cx="8550000" cy="2304360"/>
            <a:chOff x="304920" y="838080"/>
            <a:chExt cx="8550000" cy="2304360"/>
          </a:xfrm>
        </p:grpSpPr>
        <p:sp>
          <p:nvSpPr>
            <p:cNvPr id="113" name=""/>
            <p:cNvSpPr/>
            <p:nvPr/>
          </p:nvSpPr>
          <p:spPr>
            <a:xfrm>
              <a:off x="457200" y="1218960"/>
              <a:ext cx="8397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stoji se od niza nezavisnih pokušaj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kušaji su međusobno identični Bernoullijevi pokusi s mogućim ishodima '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pjeh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(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'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uspjeh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(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rojatnost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'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pjeha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dnaka je za sve poku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šaje i 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čavamo je s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kus traje (pokušaji se izvode) sve dok se ne opazi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pjeha, a </a:t>
              </a:r>
              <a:r>
                <a:rPr b="0" i="1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unaprijed određen prirodni broj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624120" y="1904760"/>
                  <a:ext cx="204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304920" y="8380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vjeti pokus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160" y="3809880"/>
            <a:ext cx="78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učajna varijabla: 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roj neuspjeha koji prethod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om uspje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40960" y="4495680"/>
            <a:ext cx="7788600" cy="862200"/>
            <a:chOff x="840960" y="4495680"/>
            <a:chExt cx="7788600" cy="8622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895480" y="4572000"/>
                  <a:ext cx="5734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r</m:t>
                          </m:r>
                        </m:sup>
                      </m:sSup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840960" y="4495680"/>
              <a:ext cx="179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ff0000"/>
                  </a:solidFill>
                  <a:latin typeface="Times New Roman"/>
                </a:rPr>
                <a:t>Raspodjel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ff0000"/>
                  </a:solidFill>
                  <a:latin typeface="Times New Roman"/>
                </a:rPr>
                <a:t>vjerojatnosti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5619600"/>
                <a:ext cx="1384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57400" y="5619600"/>
                <a:ext cx="1346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6680" y="838080"/>
          <a:ext cx="7620120" cy="7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76201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66680" y="457200"/>
          <a:ext cx="7112160" cy="57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11216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800" y="4267080"/>
            <a:ext cx="7796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earn-line.nrw.de/angebote/eda/medio/galton/galto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24600" y="1828800"/>
            <a:ext cx="7576920" cy="459720"/>
            <a:chOff x="624600" y="1828800"/>
            <a:chExt cx="7576920" cy="459720"/>
          </a:xfrm>
        </p:grpSpPr>
        <p:sp>
          <p:nvSpPr>
            <p:cNvPr id="51" name=""/>
            <p:cNvSpPr/>
            <p:nvPr/>
          </p:nvSpPr>
          <p:spPr>
            <a:xfrm>
              <a:off x="624600" y="1828800"/>
              <a:ext cx="4707000" cy="459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www.phy.hr/~mpozek/SOM/gd1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0920" y="182880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utor: Hrvoje Mesi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32640" y="2743200"/>
            <a:ext cx="8033760" cy="459720"/>
          </a:xfrm>
          <a:prstGeom prst="rect">
            <a:avLst/>
          </a:prstGeom>
          <a:solidFill>
            <a:srgbClr val="6666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lanak “Galtonova Daska”: </a:t>
            </a: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phy.hr/~mpozek/SOM/galtonHM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5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a raspodjel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523880"/>
            <a:ext cx="9144000" cy="3473280"/>
            <a:chOff x="228600" y="1523880"/>
            <a:chExt cx="9144000" cy="3473280"/>
          </a:xfrm>
        </p:grpSpPr>
        <p:sp>
          <p:nvSpPr>
            <p:cNvPr id="56" name=""/>
            <p:cNvSpPr/>
            <p:nvPr/>
          </p:nvSpPr>
          <p:spPr>
            <a:xfrm>
              <a:off x="228600" y="152388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kretna slučajna varijabla ima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oissonovu raspodjelu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oj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 raspodjela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 neki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Poissonovu s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lučajnu varijab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značava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666880" y="2742840"/>
                  <a:ext cx="47246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371600" y="3733560"/>
                  <a:ext cx="7621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419720" y="4571640"/>
                  <a:ext cx="1600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Po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4808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380880"/>
          <a:ext cx="8097840" cy="58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09784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91440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čekivanje i varija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95480" y="1219320"/>
                <a:ext cx="1220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95480" y="2133720"/>
                <a:ext cx="18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95480" y="4038480"/>
                <a:ext cx="12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3124080"/>
                <a:ext cx="3108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30492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kurzivna formul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38280" y="1143000"/>
                <a:ext cx="2816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57200" y="243828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jvjerojatnija vrijedn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3505320"/>
                <a:ext cx="1735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228600" y="4343400"/>
            <a:ext cx="9144000" cy="1617840"/>
            <a:chOff x="228600" y="4343400"/>
            <a:chExt cx="9144000" cy="1617840"/>
          </a:xfrm>
        </p:grpSpPr>
        <p:sp>
          <p:nvSpPr>
            <p:cNvPr id="73" name=""/>
            <p:cNvSpPr/>
            <p:nvPr/>
          </p:nvSpPr>
          <p:spPr>
            <a:xfrm>
              <a:off x="228600" y="4343400"/>
              <a:ext cx="9144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Funkcija raspodje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971800" y="5105520"/>
                  <a:ext cx="234324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f>
                            <m:num>
                              <m:sSup>
                                <m:e>
                                  <m:r>
                                    <m:t xml:space="preserve">λ</m:t>
                                  </m:r>
                                </m:e>
                                <m:sup>
                                  <m:r>
                                    <m:t xml:space="preserve">y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80880"/>
            <a:ext cx="632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jena Poissonove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. Poissnova raspodjela kao granični slučaj binom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vimo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∞, 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 tako d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.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071440" y="3006720"/>
            <a:ext cx="3424320" cy="525600"/>
            <a:chOff x="2071440" y="3006720"/>
            <a:chExt cx="3424320" cy="525600"/>
          </a:xfrm>
        </p:grpSpPr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2724120" y="3048120"/>
                  <a:ext cx="2771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071440" y="300672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4495680"/>
            <a:ext cx="3460680" cy="795600"/>
            <a:chOff x="533520" y="4495680"/>
            <a:chExt cx="3460680" cy="795600"/>
          </a:xfrm>
        </p:grpSpPr>
        <p:sp>
          <p:nvSpPr>
            <p:cNvPr id="82" name=""/>
            <p:cNvSpPr/>
            <p:nvPr/>
          </p:nvSpPr>
          <p:spPr>
            <a:xfrm>
              <a:off x="533520" y="44956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ktično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752480" y="4952880"/>
                  <a:ext cx="22417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≤</m:t>
                      </m:r>
                      <m:r>
                        <m:t xml:space="preserve">0,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6-04-11T13:11:30Z</dcterms:modified>
  <cp:revision>46</cp:revision>
  <dc:subject/>
  <dc:title>No Slide Title</dc:title>
</cp:coreProperties>
</file>