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8141-3C9D-494D-ACD8-90BCA850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DBD-C1D3-49E3-9C78-A73EDA45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4EB-92CF-43A0-B94F-60DCF022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AD7-D32E-4FAD-8104-5AB337EF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451-BD41-4A86-BA5F-5EB181C3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B3C-13B1-4CB2-B67D-B5E6A76A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35E-FA94-4E41-88FE-29241DC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AF5-BB85-4F59-BF31-8BE008FB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D56-F8BF-4F17-9625-54FE702C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AB8-6073-457B-A1D0-E3448CD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6DA-FBC0-41F3-98C7-D6AFEC0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B6D-AB0E-4356-BDF6-9379CD5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3ABA-EF68-4C5C-AA3C-B15BAAF31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hyperlink" Target="http://www.uni-koeln.de/ew-fak/Mathe/Projekte/VisuPro/galton/galton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840" y="262080"/>
          <a:ext cx="9110520" cy="63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62080"/>
                    <a:ext cx="9110520" cy="63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77280" y="2700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janca funkcij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62120" y="1679400"/>
          <a:ext cx="7315200" cy="7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9400"/>
                    <a:ext cx="7315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219320" y="3733920"/>
          <a:ext cx="5486400" cy="215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7339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33520" y="52380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menti višeg 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04920" y="914400"/>
          <a:ext cx="41749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41749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495680" y="990720"/>
          <a:ext cx="4175280" cy="591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990720"/>
                    <a:ext cx="4175280" cy="59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09800" y="685800"/>
          <a:ext cx="7238880" cy="167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685800"/>
                    <a:ext cx="7238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90720" y="2590920"/>
          <a:ext cx="7524720" cy="1790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90920"/>
                    <a:ext cx="752472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4952880"/>
                <a:ext cx="22370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359000" y="5384880"/>
                <a:ext cx="1216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876920" y="5334120"/>
                <a:ext cx="2466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59000" y="5818320"/>
                <a:ext cx="2827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66680" y="838080"/>
                <a:ext cx="2887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828800" y="2590920"/>
                <a:ext cx="38862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685800" y="685800"/>
          <a:ext cx="5486400" cy="5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5486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09480" y="1523880"/>
          <a:ext cx="5905800" cy="146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590580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143000" y="4038480"/>
          <a:ext cx="5695920" cy="1447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038480"/>
                    <a:ext cx="5695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685800"/>
          <a:ext cx="5486400" cy="36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85800" y="1828800"/>
          <a:ext cx="5486400" cy="112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54864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295280" y="3962520"/>
          <a:ext cx="5486400" cy="1104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962520"/>
                    <a:ext cx="5486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-14400" y="457200"/>
          <a:ext cx="4494240" cy="64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457200"/>
                    <a:ext cx="449424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074600" y="838080"/>
            <a:ext cx="7858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8280" y="4876920"/>
            <a:ext cx="12690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-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95680" y="533520"/>
          <a:ext cx="4497480" cy="636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533520"/>
                    <a:ext cx="4497480" cy="63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5494320" y="76212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2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94320" y="2819520"/>
            <a:ext cx="7858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8000" y="487692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4,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8640" y="274320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44720" cy="65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0" y="990720"/>
          <a:ext cx="6183360" cy="446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6183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7960" y="4255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Times New Roman"/>
              </a:rPr>
              <a:t>Binomna raspodj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371600"/>
          <a:ext cx="548640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5486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09480" y="2666880"/>
          <a:ext cx="7963200" cy="365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666880"/>
                    <a:ext cx="7963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85800" y="1143000"/>
          <a:ext cx="3627360" cy="47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36273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029200" y="990720"/>
          <a:ext cx="3490920" cy="47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90720"/>
                    <a:ext cx="349092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193840" y="193680"/>
            <a:ext cx="38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altonova dask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F. Gal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2880" y="6145200"/>
            <a:ext cx="7956000" cy="3988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uni-koeln.de/ew-fak/Mathe/Projekte/VisuPro/galton/galto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4800" y="15228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kcija raspodjele (kumulativna funkcija distribuci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995400"/>
          <a:ext cx="8259840" cy="211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95400"/>
                    <a:ext cx="825984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" y="3657600"/>
          <a:ext cx="5486400" cy="380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5486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09480" y="4724280"/>
          <a:ext cx="8331480" cy="1447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724280"/>
                    <a:ext cx="8331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228600"/>
          <a:ext cx="781056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781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09480" y="4114800"/>
          <a:ext cx="7753320" cy="245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14800"/>
                    <a:ext cx="7753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-8524800" y="1523880"/>
          <a:ext cx="25822080" cy="45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24800" y="1523880"/>
                    <a:ext cx="258220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066680" y="533520"/>
                <a:ext cx="69343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roj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hod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oj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maju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spjeha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jerojatnos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vakog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kvog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hoda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914400" y="2990880"/>
          <a:ext cx="6705720" cy="22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90880"/>
                    <a:ext cx="6705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14400" y="762120"/>
          <a:ext cx="5486400" cy="97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54864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676520" y="2133720"/>
          <a:ext cx="54864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486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19320" y="106668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981080" y="1509840"/>
                <a:ext cx="3962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762120" y="3048120"/>
          <a:ext cx="7943760" cy="175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79437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19320" y="5334120"/>
          <a:ext cx="5486400" cy="36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412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285840"/>
          <a:ext cx="9144000" cy="62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840"/>
                    <a:ext cx="914400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4720" y="371520"/>
            <a:ext cx="77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Očekivana vrijednost diskret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96880" y="2197080"/>
          <a:ext cx="8394840" cy="24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2197080"/>
                    <a:ext cx="839484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5800" y="1219320"/>
          <a:ext cx="756936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5693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2241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8120" y="228600"/>
                <a:ext cx="2695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00240" y="422280"/>
            <a:ext cx="51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čekivanje funkcij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90720" y="1447920"/>
          <a:ext cx="7785000" cy="135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7850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346040" y="3683160"/>
          <a:ext cx="5486400" cy="27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368316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752480" y="4248000"/>
          <a:ext cx="2438640" cy="1095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248000"/>
                    <a:ext cx="24386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219320" y="5791320"/>
          <a:ext cx="5651280" cy="635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5791320"/>
                    <a:ext cx="5651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33160" y="52380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janca diskret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1066680"/>
          <a:ext cx="41385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066680"/>
                    <a:ext cx="41385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0880" y="457200"/>
          <a:ext cx="83440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44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066680" y="4702320"/>
          <a:ext cx="7315200" cy="116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702320"/>
                    <a:ext cx="731520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438280" y="304920"/>
          <a:ext cx="4543560" cy="63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543560" cy="63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6-04-04T12:15:11Z</dcterms:modified>
  <cp:revision>38</cp:revision>
  <dc:subject/>
  <dc:title>No Slide Title</dc:title>
</cp:coreProperties>
</file>