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77C-FA83-40D1-9493-29D4A3E4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3142-76D0-4B1F-B7A4-FCF1207B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813B-F047-4421-9990-735C9A71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3098-E1C8-45FA-B2E0-DB0D9B0C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C133-3B47-4927-98D4-2E7E96B9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0531-E62D-4A8E-88F3-C393C0C2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206-58B7-4372-A0F3-5F2F9CCD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1C4-10D9-4B0C-BFAB-5D77D8AA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F530-F4CE-4A17-83FB-E8EFA8A2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635A-45AB-41C6-9CC8-966F715D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902-17FA-41EA-BBDF-606A64BD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577-969A-47CB-B030-D83CB7F2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14ED-1691-422E-A97F-02390323A9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6000" y="25416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zavis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3520" y="1066680"/>
          <a:ext cx="7480080" cy="15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66680"/>
                    <a:ext cx="748008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609480" y="2895480"/>
          <a:ext cx="4927680" cy="851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49276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62120" y="3657600"/>
          <a:ext cx="7441920" cy="15368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657600"/>
                    <a:ext cx="744192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745200" y="5627520"/>
            <a:ext cx="725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cc0000"/>
                </a:solidFill>
                <a:latin typeface="Times New Roman"/>
              </a:rPr>
              <a:t>OPREZ!</a:t>
            </a: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 Događaji koji se međusobno isključuju nisu nezavis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33"/>
                </a:solidFill>
                <a:latin typeface="Times New Roman"/>
              </a:rPr>
              <a:t>S</a:t>
            </a:r>
            <a:r>
              <a:rPr b="0" lang="en-AU" sz="4400" spc="-1" strike="noStrike">
                <a:solidFill>
                  <a:srgbClr val="660033"/>
                </a:solidFill>
                <a:latin typeface="Times New Roman"/>
              </a:rPr>
              <a:t>lučajna varijab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839160" y="3276720"/>
            <a:ext cx="2910600" cy="1713600"/>
            <a:chOff x="839160" y="3276720"/>
            <a:chExt cx="2910600" cy="1713600"/>
          </a:xfrm>
        </p:grpSpPr>
        <p:sp>
          <p:nvSpPr>
            <p:cNvPr id="51" name=""/>
            <p:cNvSpPr/>
            <p:nvPr/>
          </p:nvSpPr>
          <p:spPr>
            <a:xfrm>
              <a:off x="853920" y="3276720"/>
              <a:ext cx="289584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11320" y="441972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387440" y="42670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20960" y="36576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49560" y="4495680"/>
              <a:ext cx="7128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35360" y="396252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9160" y="45306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435560" y="4232160"/>
            <a:ext cx="3962160" cy="464040"/>
            <a:chOff x="4435560" y="4232160"/>
            <a:chExt cx="3962160" cy="464040"/>
          </a:xfrm>
        </p:grpSpPr>
        <p:sp>
          <p:nvSpPr>
            <p:cNvPr id="59" name=""/>
            <p:cNvSpPr/>
            <p:nvPr/>
          </p:nvSpPr>
          <p:spPr>
            <a:xfrm>
              <a:off x="4435560" y="4267080"/>
              <a:ext cx="39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5944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1980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60052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80160" y="42321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49960" y="4267080"/>
              <a:ext cx="1465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-1   0   1   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30840" y="4267080"/>
              <a:ext cx="324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11720" y="4267080"/>
              <a:ext cx="324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492960" y="4267080"/>
              <a:ext cx="288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45240" y="4267080"/>
              <a:ext cx="3240" cy="3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9" name=""/>
          <p:cNvCxnSpPr>
            <a:stCxn id="54" idx="0"/>
            <a:endCxn id="67" idx="1"/>
          </p:cNvCxnSpPr>
          <p:nvPr/>
        </p:nvCxnSpPr>
        <p:spPr>
          <a:xfrm flipH="1" rot="16200000">
            <a:off x="3920040" y="1693440"/>
            <a:ext cx="610200" cy="4536360"/>
          </a:xfrm>
          <a:prstGeom prst="curvedConnector5">
            <a:avLst>
              <a:gd name="adj1" fmla="val -37485"/>
              <a:gd name="adj2" fmla="val 50000"/>
              <a:gd name="adj3" fmla="val -374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7"/>
            <a:endCxn id="66" idx="7"/>
          </p:cNvCxnSpPr>
          <p:nvPr/>
        </p:nvCxnSpPr>
        <p:spPr>
          <a:xfrm flipH="1" flipV="1" rot="5400000">
            <a:off x="3775680" y="1938600"/>
            <a:ext cx="11880" cy="4667760"/>
          </a:xfrm>
          <a:prstGeom prst="curvedConnector5">
            <a:avLst>
              <a:gd name="adj1" fmla="val 15012500"/>
              <a:gd name="adj2" fmla="val 49996"/>
              <a:gd name="adj3" fmla="val 150125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5" idx="6"/>
            <a:endCxn id="65" idx="7"/>
          </p:cNvCxnSpPr>
          <p:nvPr/>
        </p:nvCxnSpPr>
        <p:spPr>
          <a:xfrm flipV="1">
            <a:off x="2220480" y="4266360"/>
            <a:ext cx="3513960" cy="266040"/>
          </a:xfrm>
          <a:prstGeom prst="curvedConnector5">
            <a:avLst>
              <a:gd name="adj1" fmla="val 49928"/>
              <a:gd name="adj2" fmla="val 89159"/>
              <a:gd name="adj3" fmla="val 49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56" idx="0"/>
            <a:endCxn id="66" idx="1"/>
          </p:cNvCxnSpPr>
          <p:nvPr/>
        </p:nvCxnSpPr>
        <p:spPr>
          <a:xfrm flipH="1" rot="16200000">
            <a:off x="4339440" y="2494440"/>
            <a:ext cx="305280" cy="3240720"/>
          </a:xfrm>
          <a:prstGeom prst="curvedConnector5">
            <a:avLst>
              <a:gd name="adj1" fmla="val -74970"/>
              <a:gd name="adj2" fmla="val 49994"/>
              <a:gd name="adj3" fmla="val -74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52" idx="7"/>
            <a:endCxn id="68" idx="1"/>
          </p:cNvCxnSpPr>
          <p:nvPr/>
        </p:nvCxnSpPr>
        <p:spPr>
          <a:xfrm flipH="1" flipV="1" rot="5400000">
            <a:off x="4726440" y="2511720"/>
            <a:ext cx="164520" cy="3674160"/>
          </a:xfrm>
          <a:prstGeom prst="curvedConnector5">
            <a:avLst>
              <a:gd name="adj1" fmla="val 856140"/>
              <a:gd name="adj2" fmla="val 49995"/>
              <a:gd name="adj3" fmla="val 8561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74" name=""/>
          <p:cNvGraphicFramePr/>
          <p:nvPr/>
        </p:nvGraphicFramePr>
        <p:xfrm>
          <a:off x="1066680" y="5715000"/>
          <a:ext cx="7658280" cy="59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715000"/>
                    <a:ext cx="76582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0"/>
          <a:ext cx="8877240" cy="2533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8877240" cy="25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1447920"/>
            <a:ext cx="655308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</a:rPr>
              <a:t>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ogađaj koji ima samo dva moguća ishoda zove s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Bernoullijev događa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, a slučajna varijabla koja ga opisuje zove se </a:t>
            </a:r>
            <a:r>
              <a:rPr b="1" lang="hr-HR" sz="2400" spc="-1" strike="noStrike">
                <a:solidFill>
                  <a:srgbClr val="ff0000"/>
                </a:solidFill>
                <a:latin typeface="Times New Roman"/>
              </a:rPr>
              <a:t>Bernoullijeva slučajna varijabl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35040" y="3213000"/>
          <a:ext cx="8318520" cy="248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3213000"/>
                    <a:ext cx="8318520" cy="24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660033"/>
                </a:solidFill>
                <a:latin typeface="Times New Roman"/>
              </a:rPr>
              <a:t>Diskretna slučajna varijabla i raspodjela vjerojatno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1066680"/>
          <a:ext cx="736596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736596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762120" y="4495680"/>
          <a:ext cx="5486400" cy="279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495680"/>
                    <a:ext cx="5486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62120" y="5410080"/>
          <a:ext cx="5486400" cy="279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410080"/>
                    <a:ext cx="548640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455400" y="228600"/>
            <a:ext cx="362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aspodjela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64240" y="4648320"/>
                <a:ext cx="144792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246240"/>
          <a:ext cx="9144000" cy="636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6240"/>
                    <a:ext cx="9144000" cy="636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8:59:27Z</dcterms:created>
  <dc:creator>PMFX</dc:creator>
  <dc:description/>
  <dc:language>en-US</dc:language>
  <cp:lastModifiedBy>Miroslav Požek</cp:lastModifiedBy>
  <dcterms:modified xsi:type="dcterms:W3CDTF">2006-03-30T21:00:53Z</dcterms:modified>
  <cp:revision>39</cp:revision>
  <dc:subject/>
  <dc:title>No Slide Title</dc:title>
</cp:coreProperties>
</file>