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60D-6C8D-453A-B409-024365C8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353-4695-4813-8A8B-B776DFEB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58B-EC39-496C-AB91-A9870993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441-C691-4F72-88C9-588142E3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993-B691-42FB-96A5-07745413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F8F-CB95-425E-9BDC-59999E32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5EC-D215-446C-B3BE-AAC5D995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CD2-BEF2-404A-8E8A-04DCABE0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897-51A6-4B9E-9932-B38C3EC4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FC7-5A49-410B-AB46-88A62EC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5AA-4E0A-4181-AA32-0646E79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EF4-1FB1-4AA7-8D65-3C9E94D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584B-2295-46DB-96D1-D3905D3F5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47920" y="60948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04920" y="1676520"/>
          <a:ext cx="7905600" cy="22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7905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Times New Roman"/>
              </a:rPr>
              <a:t>Uvjetna vjerojat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1295280"/>
          <a:ext cx="7620120" cy="13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76201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57200" y="2895480"/>
          <a:ext cx="3809880" cy="2463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895480"/>
                    <a:ext cx="380988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648320" y="2871720"/>
          <a:ext cx="3925800" cy="2538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871720"/>
                    <a:ext cx="392580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200400" y="5632560"/>
                <a:ext cx="205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0880" y="33012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tpun sistem događ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295280"/>
          <a:ext cx="817884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17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286000" y="3505320"/>
          <a:ext cx="4154400" cy="268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41544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0320" y="25416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Zakon totaln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990720"/>
          <a:ext cx="7213320" cy="173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72133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286000" y="3276720"/>
          <a:ext cx="4419720" cy="2859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76720"/>
                    <a:ext cx="441972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66320" y="60012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yesov t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133720"/>
          <a:ext cx="5486400" cy="20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54864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533520"/>
          <a:ext cx="5486400" cy="34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04920" y="1600200"/>
          <a:ext cx="8305560" cy="261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00200"/>
                    <a:ext cx="830556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2120" y="533520"/>
          <a:ext cx="5486400" cy="34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219320" y="1600200"/>
          <a:ext cx="5486400" cy="36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60020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362320" y="3809880"/>
                <a:ext cx="37209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2120" y="533520"/>
          <a:ext cx="5486400" cy="53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28600" y="1752480"/>
          <a:ext cx="8153280" cy="312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1532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3520" y="457200"/>
          <a:ext cx="5486400" cy="60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5486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80880" y="1371600"/>
          <a:ext cx="8305920" cy="255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371600"/>
                    <a:ext cx="83059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609480"/>
          <a:ext cx="5486400" cy="5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5486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04920" y="1295280"/>
          <a:ext cx="8134200" cy="327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295280"/>
                    <a:ext cx="8134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90720" y="609480"/>
          <a:ext cx="714348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1434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990720" y="3200400"/>
          <a:ext cx="7334280" cy="2800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200400"/>
                    <a:ext cx="73342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124080" y="5105520"/>
                <a:ext cx="26672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676520" y="1143000"/>
          <a:ext cx="5349600" cy="147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143000"/>
                    <a:ext cx="53496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76720" y="3232080"/>
                <a:ext cx="1670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9,4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057400" y="4724280"/>
                <a:ext cx="5105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295280" y="160020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62320" y="3048120"/>
                <a:ext cx="3429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8:59:27Z</dcterms:created>
  <dc:creator>PMFX</dc:creator>
  <dc:description/>
  <dc:language>en-US</dc:language>
  <cp:lastModifiedBy>Miroslav Požek</cp:lastModifiedBy>
  <dcterms:modified xsi:type="dcterms:W3CDTF">2006-03-29T10:34:58Z</dcterms:modified>
  <cp:revision>25</cp:revision>
  <dc:subject/>
  <dc:title>No Slide Title</dc:title>
</cp:coreProperties>
</file>