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C4F-6942-4125-958B-8AA5955B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0E3-E711-41EA-A278-F3D385F4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C70-F57E-449A-91F1-0C1CDF15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1B3-2F14-4A2A-8563-2E4E5527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B2B-1112-4BBF-9894-4FC6068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E91-DD65-4097-8895-A108AB77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423-B758-4551-A9BF-DA5E42A8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B0F-D99D-4AED-B677-4E819B55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571-2B15-4C88-B6AB-AC3F28C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872-7695-4EF8-9EC1-A2960F5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0E6-4342-43A5-9111-6C8975F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ACE-B766-4D8A-8878-659DDFA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D32B-1665-40D1-B4F3-0C1DD93758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a50021"/>
                </a:solidFill>
                <a:latin typeface="Times New Roman"/>
              </a:rPr>
              <a:t>TEORIJA </a:t>
            </a:r>
            <a:br>
              <a:rPr sz="4400"/>
            </a:br>
            <a:r>
              <a:rPr b="1" lang="en-AU" sz="4400" spc="-1" strike="noStrike">
                <a:solidFill>
                  <a:srgbClr val="a50021"/>
                </a:solidFill>
                <a:latin typeface="Times New Roman"/>
              </a:rPr>
              <a:t>VJEROJA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93640" y="3459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Jednako vjerojatni ish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990720"/>
          <a:ext cx="5486400" cy="135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5486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09480" y="2895480"/>
          <a:ext cx="5486400" cy="1257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54864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72000" y="55008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brojavan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74480" y="29520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KOMBINATOR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37160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57200" y="2057400"/>
          <a:ext cx="8325000" cy="215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57400"/>
                    <a:ext cx="83250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33520" y="4038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ćen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4572000"/>
          <a:ext cx="8343720" cy="2495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572000"/>
                    <a:ext cx="834372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618880" y="34596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ravila prebrojav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2120" y="533520"/>
          <a:ext cx="5486400" cy="78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85800" y="1752480"/>
          <a:ext cx="8172360" cy="1771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817236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5800" y="4648320"/>
          <a:ext cx="8096400" cy="571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648320"/>
                    <a:ext cx="80964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95280" y="160020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3048120"/>
                <a:ext cx="3429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9960" y="4302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erminolo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3760" y="1143000"/>
            <a:ext cx="78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Poku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bilo koji postupak ili proces koji rezultira opažanjem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200" y="1752480"/>
            <a:ext cx="649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Ishod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zultat poku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AU" sz="2200" spc="-1" strike="noStrike">
                <a:solidFill>
                  <a:srgbClr val="660066"/>
                </a:solidFill>
                <a:latin typeface="Times New Roman"/>
              </a:rPr>
              <a:t>Ishodi su nerazloživi i međusobno se isključuju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000" y="2971800"/>
            <a:ext cx="86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Prostor elementarnih događaja </a:t>
            </a:r>
            <a:r>
              <a:rPr b="0" lang="en-AU" sz="2400" spc="-1" strike="noStrike" u="sng">
                <a:solidFill>
                  <a:srgbClr val="a50021"/>
                </a:solidFill>
                <a:uFillTx/>
                <a:latin typeface="Symbol"/>
                <a:ea typeface="Symbol"/>
              </a:rPr>
              <a:t></a:t>
            </a:r>
            <a:r>
              <a:rPr b="1" lang="en-A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skup svih ishoda nekog pok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280" y="3657600"/>
            <a:ext cx="41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Događaj</a:t>
            </a:r>
            <a:r>
              <a:rPr b="1" lang="en-A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svaki podskup od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440" y="4343400"/>
            <a:ext cx="518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Elementar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ni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 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= jednočla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podsk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7720" y="4876920"/>
            <a:ext cx="437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Složeni događaj 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= višečlani podsk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800" y="5410080"/>
            <a:ext cx="261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Sigur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ni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</a:t>
            </a:r>
            <a:r>
              <a:rPr b="1" lang="en-A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A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560" y="5943600"/>
            <a:ext cx="45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Nemoguć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(prazan sku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57560" y="2514600"/>
            <a:ext cx="19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Times New Roman"/>
              </a:rPr>
              <a:t>Slučajni pok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1040" y="22240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ENNOVI   DIJA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47360" y="2952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finici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1031760"/>
            <a:ext cx="25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ja </a:t>
            </a: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a priori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76520"/>
          <a:ext cx="8915400" cy="18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91540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90000" y="3809880"/>
            <a:ext cx="23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jkavos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amo konačni skup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ružna defini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380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a50021"/>
                </a:solidFill>
                <a:uFillTx/>
                <a:latin typeface="Times New Roman"/>
              </a:rPr>
              <a:t>Frekve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023840"/>
          <a:ext cx="883944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23840"/>
                    <a:ext cx="88394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84760" y="278460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Statistička stabilnost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relativnih frekve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3092400"/>
          <a:ext cx="5791320" cy="35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092400"/>
                    <a:ext cx="579132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47360" y="2952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finici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2320" y="1031760"/>
            <a:ext cx="30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ja </a:t>
            </a: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a posteriori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88560" y="3809880"/>
            <a:ext cx="30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jkavos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ako provjeriti stabil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jerojatnost jednog događaj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1600200"/>
            <a:ext cx="8702640" cy="1465560"/>
            <a:chOff x="228600" y="1600200"/>
            <a:chExt cx="8702640" cy="1465560"/>
          </a:xfrm>
        </p:grpSpPr>
        <p:sp>
          <p:nvSpPr>
            <p:cNvPr id="68" name=""/>
            <p:cNvSpPr/>
            <p:nvPr/>
          </p:nvSpPr>
          <p:spPr>
            <a:xfrm>
              <a:off x="228600" y="1600200"/>
              <a:ext cx="870264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slučajni pokus zadovoljava uvjet statističke stabilnosti relativnih frekvencija, onda se </a:t>
              </a:r>
              <a:r>
                <a:rPr b="1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jerojatnost a posteriori</a:t>
              </a: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izvoljnog događaja </a:t>
              </a:r>
              <a:r>
                <a:rPr b="0" i="1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ira kao realan broj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ko kojeg se grupiraju relativne frekvencije tog događaj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3276720" y="2286000"/>
                  <a:ext cx="13618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,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9320" y="0"/>
            <a:ext cx="69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a50021"/>
                </a:solidFill>
                <a:latin typeface="Times New Roman"/>
              </a:rPr>
              <a:t>Aksiomatsko zasnivanje teori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640" y="457200"/>
            <a:ext cx="22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. N. Kolmogorov, 193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080" y="990720"/>
            <a:ext cx="758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najemo li prostor elementarnih događaja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 za neki poku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vrha teorije vjerojatnosti je da svakom događaj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 pridruž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broj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) koji će biti precizna mjera šanse da s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ostvar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vako takvo pridruživanje mora zadovoljavati sljedeće aksio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3520" y="243828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Za svaki događaj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vrijed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280" y="28954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12480" y="3352680"/>
            <a:ext cx="8893080" cy="1752480"/>
            <a:chOff x="312480" y="3352680"/>
            <a:chExt cx="8893080" cy="1752480"/>
          </a:xfrm>
        </p:grpSpPr>
        <p:sp>
          <p:nvSpPr>
            <p:cNvPr id="76" name=""/>
            <p:cNvSpPr/>
            <p:nvPr/>
          </p:nvSpPr>
          <p:spPr>
            <a:xfrm>
              <a:off x="312480" y="3352680"/>
              <a:ext cx="8893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3.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ko se konačan broj događa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međusobno isključuj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tj. ako su u parovima disjunktni),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2447640" y="4073400"/>
                  <a:ext cx="4051440" cy="103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∪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770760" y="4952880"/>
            <a:ext cx="7119720" cy="1768680"/>
            <a:chOff x="770760" y="4952880"/>
            <a:chExt cx="7119720" cy="1768680"/>
          </a:xfrm>
        </p:grpSpPr>
        <p:sp>
          <p:nvSpPr>
            <p:cNvPr id="79" name=""/>
            <p:cNvSpPr/>
            <p:nvPr/>
          </p:nvSpPr>
          <p:spPr>
            <a:xfrm>
              <a:off x="770760" y="4952880"/>
              <a:ext cx="71197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) Ako se prebrojivo beskonačan broj događa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međusobno isključuje,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438280" y="5562720"/>
                  <a:ext cx="3797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∪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3640" y="295200"/>
            <a:ext cx="36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Times New Roman"/>
              </a:rPr>
              <a:t>Svojstva vjerojatnos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066680"/>
          <a:ext cx="9144000" cy="4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2133720"/>
          <a:ext cx="9144000" cy="38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9144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0" y="3124080"/>
          <a:ext cx="9144000" cy="628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9144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160" y="4343400"/>
          <a:ext cx="9486720" cy="1924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60" y="4343400"/>
                    <a:ext cx="94867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0320" y="219240"/>
            <a:ext cx="55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Sustavno određivan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6760" y="1523880"/>
          <a:ext cx="834372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523880"/>
                    <a:ext cx="8343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6:01:47Z</dcterms:created>
  <dc:creator>PMFX</dc:creator>
  <dc:description/>
  <dc:language>en-US</dc:language>
  <cp:lastModifiedBy>Miroslav Požek</cp:lastModifiedBy>
  <dcterms:modified xsi:type="dcterms:W3CDTF">2006-03-22T14:04:34Z</dcterms:modified>
  <cp:revision>27</cp:revision>
  <dc:subject/>
  <dc:title>TEORIJA  VJEROJATNOSTI</dc:title>
</cp:coreProperties>
</file>