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90E-B89A-4D67-9553-073DC511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D5A9-BB52-4F7E-8BF2-036ACF40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8AFA-F9BA-4129-8F59-2803DF4B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5AB-86FE-4755-AC19-646801B2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E97-5BB9-4047-BFE5-AC23B1FB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84E-F6A7-4829-95A3-4AF4DBA2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DC1-B9E3-48A3-B928-E85BA7DD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105-A483-45A7-907C-4E98A175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4D8C-2739-488F-85E4-E0FEBA6E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40C-AB96-48C3-9FFB-1C0B9F89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BFC-44A4-4A17-B510-51BA3246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88D-C69C-49AA-85EA-4446469E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6166-D76B-4C6A-BDB7-605E6FD4E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Linearna regres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320" y="1793880"/>
            <a:ext cx="8686800" cy="3840120"/>
            <a:chOff x="76320" y="1793880"/>
            <a:chExt cx="8686800" cy="3840120"/>
          </a:xfrm>
        </p:grpSpPr>
        <p:sp>
          <p:nvSpPr>
            <p:cNvPr id="43" name=""/>
            <p:cNvSpPr/>
            <p:nvPr/>
          </p:nvSpPr>
          <p:spPr>
            <a:xfrm>
              <a:off x="971640" y="1793880"/>
              <a:ext cx="21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ovi varijabl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4" name=""/>
            <p:cNvGraphicFramePr/>
            <p:nvPr/>
          </p:nvGraphicFramePr>
          <p:xfrm>
            <a:off x="76320" y="2666880"/>
            <a:ext cx="8686800" cy="29671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2666880"/>
                      <a:ext cx="8686800" cy="296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1960" y="228600"/>
            <a:ext cx="129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ješen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33520" y="762120"/>
            <a:ext cx="7619400" cy="1919160"/>
            <a:chOff x="533520" y="762120"/>
            <a:chExt cx="7619400" cy="191916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533520" y="762120"/>
                  <a:ext cx="3173040" cy="191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nary>
                          <m:r>
                            <m:t xml:space="preserve">−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4471920" y="765000"/>
                  <a:ext cx="3681000" cy="191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nary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−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nary>
                          <m:r>
                            <m:t xml:space="preserve">−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228600" y="4495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pom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je računanja pravca regresije treba u grafu provjeriti ima li smisla linearna regresija i jesu li podaci podjednako rasprše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zultate sumiranja ne smije se zaokruživati jer pogreška zaokruživanja bitno utječe na razliku velikih sličnih broje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934320" y="3429000"/>
                <a:ext cx="9730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a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352680" y="3276720"/>
                <a:ext cx="20289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9480" y="3276720"/>
                <a:ext cx="1725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828800" y="990720"/>
                <a:ext cx="35434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74720" y="2387520"/>
                <a:ext cx="31575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11200" y="193680"/>
            <a:ext cx="51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ražimo nepouzdanosti parametar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724280" y="2438280"/>
                <a:ext cx="94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457200" y="4038480"/>
            <a:ext cx="7696080" cy="2102400"/>
            <a:chOff x="457200" y="4038480"/>
            <a:chExt cx="7696080" cy="2102400"/>
          </a:xfrm>
        </p:grpSpPr>
        <p:sp>
          <p:nvSpPr>
            <p:cNvPr id="111" name=""/>
            <p:cNvSpPr/>
            <p:nvPr/>
          </p:nvSpPr>
          <p:spPr>
            <a:xfrm>
              <a:off x="457200" y="4038480"/>
              <a:ext cx="7696080" cy="210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pristrani procjenjitelj za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de-DE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2</a:t>
              </a: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n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je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zrazo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1904760" y="4647960"/>
                  <a:ext cx="5973480" cy="14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σ</m:t>
                              </m:r>
                            </m:e>
                          </m:acc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</m:sSubSup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r>
                                        <m:t xml:space="preserve">b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914400"/>
            <a:ext cx="8077320" cy="44139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85800" y="1066680"/>
                <a:ext cx="301608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72000" y="1066680"/>
                <a:ext cx="3497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35701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3505320"/>
                <a:ext cx="4616640" cy="18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638680" y="3733920"/>
                <a:ext cx="214812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77640" y="30492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načni rezulta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2240" y="3207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0000"/>
                </a:solidFill>
                <a:uFillTx/>
                <a:latin typeface="Times New Roman"/>
              </a:rPr>
              <a:t>Nelinearne regresi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1680" y="95580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visna varijabla nelinearno ovisi o nezavisn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2120" y="1512720"/>
            <a:ext cx="503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imes New Roman"/>
              </a:rPr>
              <a:t>Npr.</a:t>
            </a:r>
            <a:r>
              <a:rPr b="0" lang="hr-HR" sz="2200" spc="-1" strike="noStrike">
                <a:solidFill>
                  <a:srgbClr val="006666"/>
                </a:solidFill>
                <a:latin typeface="Times New Roman"/>
              </a:rPr>
              <a:t>: tjerani prigušeni harmonički osci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371600" y="1981080"/>
                <a:ext cx="285444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731840" y="2133720"/>
            <a:ext cx="248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metr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4320" y="3048120"/>
            <a:ext cx="7417440" cy="1308600"/>
            <a:chOff x="364320" y="3048120"/>
            <a:chExt cx="7417440" cy="1308600"/>
          </a:xfrm>
        </p:grpSpPr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2819520" y="3048120"/>
                  <a:ext cx="4962240" cy="12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τ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sSup>
                                            <m:e>
                                              <m:d>
                                                <m:dPr>
                                                  <m:begChr m:val="("/>
                                                  <m:endChr m:val=")"/>
                                                </m:dPr>
                                                <m:e>
                                                  <m:sSubSup>
                                                    <m:e>
                                                      <m:r>
                                                        <m:t xml:space="preserve">ω</m:t>
                                                      </m:r>
                                                    </m:e>
                                                    <m:sub>
                                                      <m:r>
                                                        <m:t xml:space="preserve">0</m:t>
                                                      </m:r>
                                                    </m:sub>
                                                    <m:sup>
                                                      <m:r>
                                                        <m:t xml:space="preserve">2</m:t>
                                                      </m:r>
                                                    </m:sup>
                                                  </m:sSubSup>
                                                  <m:r>
                                                    <m:t xml:space="preserve">−</m:t>
                                                  </m:r>
                                                  <m:sSubSup>
                                                    <m:e>
                                                      <m:r>
                                                        <m:t xml:space="preserve">ω</m:t>
                                                      </m:r>
                                                    </m:e>
                                                    <m:sub>
                                                      <m:r>
                                                        <m:t xml:space="preserve">i</m:t>
                                                      </m:r>
                                                    </m:sub>
                                                    <m:sup>
                                                      <m:r>
                                                        <m:t xml:space="preserve">2</m:t>
                                                      </m:r>
                                                    </m:sup>
                                                  </m:sSubSup>
                                                </m:e>
                                              </m:d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  <m:r>
                                            <m:t xml:space="preserve">+</m:t>
                                          </m:r>
                                          <m:sSup>
                                            <m:e>
                                              <m:d>
                                                <m:dPr>
                                                  <m:begChr m:val="("/>
                                                  <m:endChr m:val=")"/>
                                                </m:dPr>
                                                <m:e>
                                                  <m:f>
                                                    <m:fPr>
                                                      <m:type m:val="lin"/>
                                                    </m:fPr>
                                                    <m:num>
                                                      <m:r>
                                                        <m:t xml:space="preserve">ω</m:t>
                                                      </m:r>
                                                    </m:num>
                                                    <m:den>
                                                      <m:r>
                                                        <m:t xml:space="preserve">τ</m:t>
                                                      </m:r>
                                                    </m:den>
                                                  </m:f>
                                                </m:e>
                                              </m:d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e>
                                      </m:rad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27" name=""/>
            <p:cNvSpPr/>
            <p:nvPr/>
          </p:nvSpPr>
          <p:spPr>
            <a:xfrm>
              <a:off x="364320" y="3165480"/>
              <a:ext cx="207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ma kvadrat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dstupanj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aln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15880" y="4765680"/>
            <a:ext cx="7097760" cy="1266840"/>
            <a:chOff x="515880" y="4765680"/>
            <a:chExt cx="7097760" cy="1266840"/>
          </a:xfrm>
        </p:grpSpPr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143000" y="5257800"/>
                  <a:ext cx="647064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τ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τ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"/>
            <p:cNvSpPr/>
            <p:nvPr/>
          </p:nvSpPr>
          <p:spPr>
            <a:xfrm>
              <a:off x="515880" y="4765680"/>
              <a:ext cx="195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i jednadžb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846520" y="6172200"/>
            <a:ext cx="18921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čunalo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97240" y="446040"/>
            <a:ext cx="381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66"/>
                </a:solidFill>
                <a:latin typeface="Times New Roman"/>
              </a:rPr>
              <a:t>Primjer s praktikuma (vježba 5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486400" y="2133720"/>
                <a:ext cx="2854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ω</m:t>
                                        </m:r>
                                      </m:num>
                                      <m:den>
                                        <m:r>
                                          <m:t xml:space="preserve">τ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1025640" y="1503360"/>
          <a:ext cx="3932280" cy="28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1503360"/>
                    <a:ext cx="3932280" cy="28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1800" y="270000"/>
            <a:ext cx="55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gresija s transformiranim varijab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360" y="727200"/>
            <a:ext cx="81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linearnu ovisnost prikazati u linearnom oblik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gu se primijeniti jednadžbe za linearnu regresij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akav grafički prikaz zorno potvrđuje (ili odbacuje) ispravnost primijenjene teor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360" y="2274840"/>
            <a:ext cx="425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66"/>
                </a:solidFill>
                <a:latin typeface="Times New Roman"/>
              </a:rPr>
              <a:t>Primjer iz praktikuma (vježba 6)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66"/>
                </a:solidFill>
                <a:latin typeface="Times New Roman"/>
              </a:rPr>
              <a:t>Dubina poniranja Maxwellova dis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800600" y="2362320"/>
                <a:ext cx="166212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40" name=""/>
          <p:cNvGraphicFramePr/>
          <p:nvPr/>
        </p:nvGraphicFramePr>
        <p:xfrm>
          <a:off x="287280" y="3494160"/>
          <a:ext cx="367524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494160"/>
                    <a:ext cx="367524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954600" y="385128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=t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96000" y="3505320"/>
          <a:ext cx="3638520" cy="301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96000" y="3505320"/>
                    <a:ext cx="3638520" cy="30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5840" y="270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garitamski graf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7080" y="80316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38920" y="797040"/>
            <a:ext cx="40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znamo ili želimo provjer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67560" y="1512720"/>
            <a:ext cx="685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66"/>
                </a:solidFill>
                <a:latin typeface="Times New Roman"/>
              </a:rPr>
              <a:t>Primjer iz praktikuma (vježba 8): Modul elastičnosti čelik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1600" y="1905120"/>
            <a:ext cx="2354040" cy="1255680"/>
            <a:chOff x="381600" y="1905120"/>
            <a:chExt cx="2354040" cy="1255680"/>
          </a:xfrm>
        </p:grpSpPr>
        <p:sp>
          <p:nvSpPr>
            <p:cNvPr id="150" name=""/>
            <p:cNvSpPr/>
            <p:nvPr/>
          </p:nvSpPr>
          <p:spPr>
            <a:xfrm>
              <a:off x="381600" y="1905120"/>
              <a:ext cx="2354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6666"/>
                  </a:solidFill>
                  <a:latin typeface="Times New Roman"/>
                </a:rPr>
                <a:t>Savijenost šipke j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838080" y="2362320"/>
                  <a:ext cx="155412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E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352680" y="2286000"/>
            <a:ext cx="6019920" cy="451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0" y="3352680"/>
          <a:ext cx="3489480" cy="350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352680"/>
                    <a:ext cx="3489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514600" y="4876920"/>
            <a:ext cx="12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 li ovo kubna ovisno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5840" y="270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garitamski graf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7080" y="80316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38920" y="797040"/>
            <a:ext cx="40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 znamo ili želimo provjer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7560" y="1512720"/>
            <a:ext cx="6852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6666"/>
                </a:solidFill>
                <a:latin typeface="Times New Roman"/>
              </a:rPr>
              <a:t>Primjer iz praktikuma (vježba 8): Modul elastičnosti čelik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1600" y="1905120"/>
            <a:ext cx="2354040" cy="1255680"/>
            <a:chOff x="381600" y="1905120"/>
            <a:chExt cx="2354040" cy="1255680"/>
          </a:xfrm>
        </p:grpSpPr>
        <p:sp>
          <p:nvSpPr>
            <p:cNvPr id="161" name=""/>
            <p:cNvSpPr/>
            <p:nvPr/>
          </p:nvSpPr>
          <p:spPr>
            <a:xfrm>
              <a:off x="381600" y="1905120"/>
              <a:ext cx="2354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200" spc="-1" strike="noStrike">
                  <a:solidFill>
                    <a:srgbClr val="006666"/>
                  </a:solidFill>
                  <a:latin typeface="Times New Roman"/>
                </a:rPr>
                <a:t>Savijenost šipke j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838080" y="2362320"/>
                  <a:ext cx="155412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λ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E</m:t>
                          </m:r>
                        </m:den>
                      </m:f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800600" y="2133720"/>
                <a:ext cx="29336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E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4" name=""/>
          <p:cNvGrpSpPr/>
          <p:nvPr/>
        </p:nvGrpSpPr>
        <p:grpSpPr>
          <a:xfrm>
            <a:off x="4724280" y="3048120"/>
            <a:ext cx="2473560" cy="345960"/>
            <a:chOff x="4724280" y="3048120"/>
            <a:chExt cx="2473560" cy="345960"/>
          </a:xfrm>
        </p:grpSpPr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4724280" y="3048120"/>
                  <a:ext cx="100008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6172200" y="3048120"/>
                  <a:ext cx="102564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67" name=""/>
          <p:cNvGraphicFramePr/>
          <p:nvPr/>
        </p:nvGraphicFramePr>
        <p:xfrm>
          <a:off x="0" y="3352680"/>
          <a:ext cx="34894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2680"/>
                    <a:ext cx="34894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343400" y="3429000"/>
          <a:ext cx="3352680" cy="33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29000"/>
                    <a:ext cx="33526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514600" y="4876920"/>
            <a:ext cx="12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 li ovo kubna ovisno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934320" y="4952880"/>
                <a:ext cx="13381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,9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9400" y="42228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čki povezane varij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22600" y="979560"/>
            <a:ext cx="6340320" cy="4924440"/>
            <a:chOff x="822600" y="979560"/>
            <a:chExt cx="6340320" cy="4924440"/>
          </a:xfrm>
        </p:grpSpPr>
        <p:sp>
          <p:nvSpPr>
            <p:cNvPr id="48" name=""/>
            <p:cNvSpPr/>
            <p:nvPr/>
          </p:nvSpPr>
          <p:spPr>
            <a:xfrm>
              <a:off x="822600" y="979560"/>
              <a:ext cx="3885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Times New Roman"/>
                </a:rPr>
                <a:t>Vrijeme i put u slobodnom padu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1447920" y="1374840"/>
            <a:ext cx="5715000" cy="452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1374840"/>
                      <a:ext cx="5715000" cy="452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9040" y="42228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deterministički povezane varij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23320" y="979560"/>
            <a:ext cx="6009120" cy="5135400"/>
            <a:chOff x="823320" y="979560"/>
            <a:chExt cx="6009120" cy="5135400"/>
          </a:xfrm>
        </p:grpSpPr>
        <p:sp>
          <p:nvSpPr>
            <p:cNvPr id="53" name=""/>
            <p:cNvSpPr/>
            <p:nvPr/>
          </p:nvSpPr>
          <p:spPr>
            <a:xfrm>
              <a:off x="823320" y="979560"/>
              <a:ext cx="479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Times New Roman"/>
                </a:rPr>
                <a:t>Početna brzina i domet topovske granat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1449360" y="1776240"/>
            <a:ext cx="5383080" cy="433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9360" y="1776240"/>
                      <a:ext cx="5383080" cy="43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8040" y="369720"/>
            <a:ext cx="423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Snaga automobila i potrošnja gor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90720" y="1371600"/>
          <a:ext cx="5502240" cy="432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550224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92200" y="32076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Linearan odn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14080" y="955800"/>
            <a:ext cx="4227840" cy="517320"/>
            <a:chOff x="514080" y="955800"/>
            <a:chExt cx="4227840" cy="517320"/>
          </a:xfrm>
        </p:grpSpPr>
        <p:sp>
          <p:nvSpPr>
            <p:cNvPr id="61" name=""/>
            <p:cNvSpPr/>
            <p:nvPr/>
          </p:nvSpPr>
          <p:spPr>
            <a:xfrm>
              <a:off x="514080" y="955800"/>
              <a:ext cx="216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terminističk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3429000" y="1066680"/>
            <a:ext cx="1312920" cy="4064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1066680"/>
                      <a:ext cx="131292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4" name=""/>
          <p:cNvGrpSpPr/>
          <p:nvPr/>
        </p:nvGrpSpPr>
        <p:grpSpPr>
          <a:xfrm>
            <a:off x="594720" y="1817640"/>
            <a:ext cx="4150440" cy="717480"/>
            <a:chOff x="594720" y="1817640"/>
            <a:chExt cx="4150440" cy="717480"/>
          </a:xfrm>
        </p:grpSpPr>
        <p:sp>
          <p:nvSpPr>
            <p:cNvPr id="65" name=""/>
            <p:cNvSpPr/>
            <p:nvPr/>
          </p:nvSpPr>
          <p:spPr>
            <a:xfrm>
              <a:off x="594720" y="1817640"/>
              <a:ext cx="262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800080"/>
                  </a:solidFill>
                  <a:latin typeface="Times New Roman"/>
                </a:rPr>
                <a:t>Npr.: poznata opruga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352680" y="1828800"/>
                  <a:ext cx="13924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m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666000" y="327672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deterministič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920" y="5867280"/>
            <a:ext cx="30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80"/>
                </a:solidFill>
                <a:latin typeface="Times New Roman"/>
              </a:rPr>
              <a:t>Npr.: opruge iz iste seri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42280" y="3699000"/>
            <a:ext cx="482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zavisna varijab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rijednost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8240" y="4232160"/>
            <a:ext cx="7346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određen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visna varijab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 slučajna varijabl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rima vrijedn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75560" y="345960"/>
            <a:ext cx="58240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....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- vrijednosti nezavisne varij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lučajna varijabla pridružen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opažena vrijednost pridružen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-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opaženih parova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,....., (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hr-H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5960" y="205740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2438280"/>
          <a:ext cx="535464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535464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714280" y="3124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21000" y="4038480"/>
            <a:ext cx="64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967280"/>
            <a:ext cx="25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žimo najvjerojatnij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07400" y="15228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Određivanje koeficijenata metodom najmanjih kvad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371600" y="3873600"/>
          <a:ext cx="643428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73600"/>
                    <a:ext cx="643428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204560" y="3429000"/>
            <a:ext cx="43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jednaka za sve vrijednost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65040" y="990720"/>
            <a:ext cx="8398080" cy="2320920"/>
            <a:chOff x="365040" y="990720"/>
            <a:chExt cx="8398080" cy="2320920"/>
          </a:xfrm>
        </p:grpSpPr>
        <p:sp>
          <p:nvSpPr>
            <p:cNvPr id="83" name=""/>
            <p:cNvSpPr/>
            <p:nvPr/>
          </p:nvSpPr>
          <p:spPr>
            <a:xfrm>
              <a:off x="365040" y="990720"/>
              <a:ext cx="8398080" cy="9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toje parametri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akvi da za svaku vrijednost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en-GB" sz="24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zavisne varijable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zavisnu varijablu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žemo pisat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3352680" y="2016360"/>
                  <a:ext cx="199260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370440" y="2438640"/>
              <a:ext cx="6974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dje je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malna slučajna varijabla s očekivanjem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varijancom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         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360440" y="2460600"/>
                  <a:ext cx="2556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7026120" y="2473560"/>
                  <a:ext cx="112428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2149560" y="2778120"/>
                  <a:ext cx="13525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ε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"/>
          <p:cNvSpPr/>
          <p:nvPr/>
        </p:nvSpPr>
        <p:spPr>
          <a:xfrm>
            <a:off x="134640" y="7002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</a:rPr>
              <a:t>Pretpostav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28600" y="4162320"/>
          <a:ext cx="8458200" cy="19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62320"/>
                    <a:ext cx="845820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52280" y="685800"/>
          <a:ext cx="8382240" cy="2706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85800"/>
                    <a:ext cx="83822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2320" y="38088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ne jednadž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1311120"/>
          <a:ext cx="10896840" cy="112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11120"/>
                    <a:ext cx="1089684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362320" y="3581280"/>
                <a:ext cx="358452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t xml:space="preserve">b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2T13:33:46Z</dcterms:created>
  <dc:creator>miro</dc:creator>
  <dc:description/>
  <dc:language>en-US</dc:language>
  <cp:lastModifiedBy>Miroslav Požek</cp:lastModifiedBy>
  <dcterms:modified xsi:type="dcterms:W3CDTF">2006-05-30T14:40:36Z</dcterms:modified>
  <cp:revision>42</cp:revision>
  <dc:subject/>
  <dc:title>Linearna regresija</dc:title>
</cp:coreProperties>
</file>