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23D-0989-4404-88D0-6FB64852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F0F-C9C0-4DB5-B317-BFEE597F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C39-5D87-4BF3-9E06-CF1E2303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4BC-DB99-4133-B778-656DE33B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E54-F373-43DD-9A32-EF603AA6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824-56E0-4788-B561-3159E024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442-0D50-4CD1-84D1-1FF26845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E9C-F155-45B0-9C86-F1C3513E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625-5A05-440B-BD13-EB5AC04D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396-B99E-41AA-90EE-16E8A565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276-F46C-4429-87F4-EE75EE23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41D-1B44-441C-BB33-1E4B44CC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5021-A96D-4D01-AA26-9A8C59B6C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tat.sc.edu/~west/javahtml/CLT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30492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Slučajni uzora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61048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U mnogim statističkim problemima vrijednosti u uzorku od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elemenat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 i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z neke populacije mogu se zamisliti kao opažene vrijednosti niza od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jednakih slučajnih varijabl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Neka su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takve nove slučajne varij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66688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ka s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lučajne varijable. Kažemo da one čine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slučajni uzora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veličin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ako su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a) nezavisne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b) imaju iste raspodjele vjerojat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648320"/>
            <a:ext cx="69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žemo da s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nezavisn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i identično raspodijelj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06760" y="5183280"/>
            <a:ext cx="600372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je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jerenje fizikalne veličine (populacija je beskonač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zimanje uzorka s povr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zimanje uzorka iz velike popul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80880" y="304920"/>
          <a:ext cx="3116520" cy="25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311652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486400" y="304920"/>
          <a:ext cx="3116160" cy="25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04920"/>
                    <a:ext cx="311616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192920" y="10666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95480" y="2895480"/>
            <a:ext cx="3809880" cy="762120"/>
            <a:chOff x="2895480" y="2895480"/>
            <a:chExt cx="3809880" cy="762120"/>
          </a:xfrm>
        </p:grpSpPr>
        <p:sp>
          <p:nvSpPr>
            <p:cNvPr id="108" name=""/>
            <p:cNvSpPr/>
            <p:nvPr/>
          </p:nvSpPr>
          <p:spPr>
            <a:xfrm>
              <a:off x="2895480" y="2895480"/>
              <a:ext cx="114300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409720" y="2895480"/>
              <a:ext cx="129564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3048120" y="3962520"/>
          <a:ext cx="3228840" cy="25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3962520"/>
                    <a:ext cx="322884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1363680"/>
            <a:ext cx="3116160" cy="3439440"/>
            <a:chOff x="0" y="1363680"/>
            <a:chExt cx="3116160" cy="3439440"/>
          </a:xfrm>
        </p:grpSpPr>
        <p:graphicFrame>
          <p:nvGraphicFramePr>
            <p:cNvPr id="113" name=""/>
            <p:cNvGraphicFramePr/>
            <p:nvPr/>
          </p:nvGraphicFramePr>
          <p:xfrm>
            <a:off x="0" y="1363680"/>
            <a:ext cx="3116160" cy="257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363680"/>
                      <a:ext cx="311616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900000" y="43434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486400" y="1219320"/>
            <a:ext cx="3657600" cy="3507480"/>
            <a:chOff x="5486400" y="1219320"/>
            <a:chExt cx="3657600" cy="3507480"/>
          </a:xfrm>
        </p:grpSpPr>
        <p:graphicFrame>
          <p:nvGraphicFramePr>
            <p:cNvPr id="117" name=""/>
            <p:cNvGraphicFramePr/>
            <p:nvPr/>
          </p:nvGraphicFramePr>
          <p:xfrm>
            <a:off x="5486400" y="1219320"/>
            <a:ext cx="3657600" cy="288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19320"/>
                      <a:ext cx="3657600" cy="28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7316640" y="42670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819520" y="1414440"/>
            <a:ext cx="3228840" cy="3388680"/>
            <a:chOff x="2819520" y="1414440"/>
            <a:chExt cx="3228840" cy="3388680"/>
          </a:xfrm>
        </p:grpSpPr>
        <p:graphicFrame>
          <p:nvGraphicFramePr>
            <p:cNvPr id="121" name=""/>
            <p:cNvGraphicFramePr/>
            <p:nvPr/>
          </p:nvGraphicFramePr>
          <p:xfrm>
            <a:off x="2819520" y="1414440"/>
            <a:ext cx="3228840" cy="2540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19520" y="1414440"/>
                      <a:ext cx="3228840" cy="254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4192200" y="43434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1760" y="2286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mjer 2 (kontinuirana raspodjel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776160"/>
            <a:ext cx="807732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a putu do posla čekam autobus koji vozi svakih 10 minuta, a zatim tramvaj koji također vozi svakih 10 minu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ka su slučajne varij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 vrijeme čekanja autob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 vrijeme čekanja tramv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80880" y="2666880"/>
                <a:ext cx="8263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li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li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7" name=""/>
          <p:cNvGraphicFramePr/>
          <p:nvPr/>
        </p:nvGraphicFramePr>
        <p:xfrm>
          <a:off x="762120" y="3352680"/>
          <a:ext cx="322560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52680"/>
                    <a:ext cx="322560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029200" y="3352680"/>
          <a:ext cx="3225960" cy="293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352680"/>
                    <a:ext cx="322596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771560" y="6095880"/>
            <a:ext cx="46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0 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 ukupno vrijeme čekanja =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514600" y="2743200"/>
            <a:ext cx="3809520" cy="762120"/>
            <a:chOff x="2514600" y="2743200"/>
            <a:chExt cx="3809520" cy="762120"/>
          </a:xfrm>
        </p:grpSpPr>
        <p:sp>
          <p:nvSpPr>
            <p:cNvPr id="133" name=""/>
            <p:cNvSpPr/>
            <p:nvPr/>
          </p:nvSpPr>
          <p:spPr>
            <a:xfrm>
              <a:off x="2514600" y="2743200"/>
              <a:ext cx="114264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28840" y="2743200"/>
              <a:ext cx="129528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380880" y="0"/>
          <a:ext cx="274176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274176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192920" y="0"/>
            <a:ext cx="3882600" cy="2494080"/>
            <a:chOff x="4192920" y="0"/>
            <a:chExt cx="3882600" cy="2494080"/>
          </a:xfrm>
        </p:grpSpPr>
        <p:sp>
          <p:nvSpPr>
            <p:cNvPr id="138" name=""/>
            <p:cNvSpPr/>
            <p:nvPr/>
          </p:nvSpPr>
          <p:spPr>
            <a:xfrm>
              <a:off x="4192920" y="1066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5334120" y="0"/>
            <a:ext cx="2741400" cy="2494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0"/>
                      <a:ext cx="2741400" cy="249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1" name=""/>
          <p:cNvGraphicFramePr/>
          <p:nvPr/>
        </p:nvGraphicFramePr>
        <p:xfrm>
          <a:off x="2895480" y="3733920"/>
          <a:ext cx="2835360" cy="24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733920"/>
                    <a:ext cx="283536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6760" y="1143000"/>
            <a:ext cx="566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tat.sc.edu/~west/javahtml/CLT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56080" y="15228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Središnji granični teorem (C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685800"/>
            <a:ext cx="8229600" cy="2724120"/>
            <a:chOff x="380880" y="685800"/>
            <a:chExt cx="8229600" cy="2724120"/>
          </a:xfrm>
        </p:grpSpPr>
        <p:sp>
          <p:nvSpPr>
            <p:cNvPr id="146" name=""/>
            <p:cNvSpPr/>
            <p:nvPr/>
          </p:nvSpPr>
          <p:spPr>
            <a:xfrm>
              <a:off x="380880" y="685800"/>
              <a:ext cx="8229600" cy="27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Neka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...,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slučajni uzorak </a:t>
              </a: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ilo koje raspodjel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s očekivanjem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i standardnom devijacijom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. Ako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dovoljno velik,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ima približno </a:t>
              </a:r>
              <a:r>
                <a:rPr b="1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rmalnu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raspodjelu s očekivanjem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i standardnom devijacijom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ima također približno normalnu raspodjelu s očekivanjem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i standardnom devijacijom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1219320" y="1447560"/>
                  <a:ext cx="3524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457200" y="1981080"/>
                  <a:ext cx="104292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029200" y="1752480"/>
                  <a:ext cx="1295280" cy="83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457200" y="2846160"/>
                  <a:ext cx="122400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>
                        <m:t xml:space="preserve">n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105520" y="2819160"/>
                  <a:ext cx="1619280" cy="55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2" name="prosjekCLT" descr=""/>
          <p:cNvPicPr/>
          <p:nvPr/>
        </p:nvPicPr>
        <p:blipFill>
          <a:blip r:embed="rId1"/>
          <a:stretch/>
        </p:blipFill>
        <p:spPr>
          <a:xfrm>
            <a:off x="1143000" y="3492360"/>
            <a:ext cx="67518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28954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pulacija koja nas zanima ima karakteristične parametre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momenti, proporcije it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ismo u mogućnosti odrediti ih na cijelom sk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zimamo uzor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 osnovi uzorka želimo procijeniti parametre osnovnog skupa (populaci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5880" y="533520"/>
            <a:ext cx="66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ocjena parametara </a:t>
            </a: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populacij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a </a:t>
            </a: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osnovi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u</a:t>
            </a: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zor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69960" y="345960"/>
            <a:ext cx="79405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ka je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neki parametar raspodjele osnovnog skupa (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..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a bismo procjenili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zimamo uzora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...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efiniramo slučajnu varijablu      kao funkciju slučajnih varijabl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...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zivamo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procjenjitel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arametra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120" y="1851120"/>
                <a:ext cx="284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669960" y="2479680"/>
            <a:ext cx="8016840" cy="1922760"/>
            <a:chOff x="669960" y="2479680"/>
            <a:chExt cx="8016840" cy="1922760"/>
          </a:xfrm>
        </p:grpSpPr>
        <p:sp>
          <p:nvSpPr>
            <p:cNvPr id="158" name=""/>
            <p:cNvSpPr/>
            <p:nvPr/>
          </p:nvSpPr>
          <p:spPr>
            <a:xfrm>
              <a:off x="669960" y="2479680"/>
              <a:ext cx="8016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a procjenjitelj       kažemo da je 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</a:rPr>
                <a:t>nepristrani procjenjitelj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parametr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ako je njegovo očekivan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743200" y="2819520"/>
                  <a:ext cx="2840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352680" y="3733920"/>
                  <a:ext cx="120168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609480" y="4876920"/>
            <a:ext cx="8016840" cy="1607400"/>
            <a:chOff x="609480" y="4876920"/>
            <a:chExt cx="8016840" cy="1607400"/>
          </a:xfrm>
        </p:grpSpPr>
        <p:sp>
          <p:nvSpPr>
            <p:cNvPr id="162" name=""/>
            <p:cNvSpPr/>
            <p:nvPr/>
          </p:nvSpPr>
          <p:spPr>
            <a:xfrm>
              <a:off x="609480" y="4876920"/>
              <a:ext cx="801684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ropo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zicij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ko j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...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slučajni uzorak neke populacije, onda je slučajna varijabla      nepristrani procjenjitelj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kivanj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te populacije 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2895480" y="5638680"/>
                  <a:ext cx="3621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419720" y="1066680"/>
                <a:ext cx="2840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89080" y="117360"/>
            <a:ext cx="84740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o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zici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...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lučajni uzorak neke populacije, onda je slučajna varijab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pristrani procjenjitelj varijance osnovnog skupa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147840" y="1117440"/>
                <a:ext cx="30718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0" y="4038480"/>
            <a:ext cx="9144000" cy="861840"/>
            <a:chOff x="0" y="4038480"/>
            <a:chExt cx="9144000" cy="861840"/>
          </a:xfrm>
        </p:grpSpPr>
        <p:sp>
          <p:nvSpPr>
            <p:cNvPr id="168" name=""/>
            <p:cNvSpPr/>
            <p:nvPr/>
          </p:nvSpPr>
          <p:spPr>
            <a:xfrm>
              <a:off x="0" y="42145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Mogli smo za procjenjitelja odabrat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4876920" y="4038480"/>
                  <a:ext cx="25984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0" name=""/>
          <p:cNvGrpSpPr/>
          <p:nvPr/>
        </p:nvGrpSpPr>
        <p:grpSpPr>
          <a:xfrm>
            <a:off x="1829520" y="5257800"/>
            <a:ext cx="3351600" cy="882720"/>
            <a:chOff x="1829520" y="5257800"/>
            <a:chExt cx="3351600" cy="882720"/>
          </a:xfrm>
        </p:grpSpPr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2895480" y="5257800"/>
                  <a:ext cx="228564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1829520" y="548640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li 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1960" y="304920"/>
            <a:ext cx="81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Interval pouzdanosti prosjeka populaci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205740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zimamo uzorak od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elemenata (velik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i izračunamo njegov prosjek. Tako smo nepristrano procijenili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nima nas koliko pouzdano, tj., u kojem intervalu se pouzdano nalazi prosjek populacije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528840" y="4648320"/>
            <a:ext cx="9542520" cy="909000"/>
            <a:chOff x="-528840" y="4648320"/>
            <a:chExt cx="9542520" cy="909000"/>
          </a:xfrm>
        </p:grpSpPr>
        <p:sp>
          <p:nvSpPr>
            <p:cNvPr id="176" name=""/>
            <p:cNvSpPr/>
            <p:nvPr/>
          </p:nvSpPr>
          <p:spPr>
            <a:xfrm>
              <a:off x="-528840" y="4648320"/>
              <a:ext cx="95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Prema središnjem graničnom teoremu (CLT),      je normalno raspodijeljen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638680" y="4700520"/>
                  <a:ext cx="315720" cy="34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3608280" y="5081400"/>
                  <a:ext cx="18968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/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9" name=""/>
          <p:cNvSpPr/>
          <p:nvPr/>
        </p:nvSpPr>
        <p:spPr>
          <a:xfrm>
            <a:off x="-295560" y="3962520"/>
            <a:ext cx="467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Neka je varijanca populacije </a:t>
            </a:r>
            <a:r>
              <a:rPr b="0" i="1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000" y="9907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ešće želimo procijeniti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opula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npr., pravu vrijednost mjerene velič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74320" y="304920"/>
            <a:ext cx="53013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Slučajni uzo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219320"/>
            <a:ext cx="7010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skup od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identičnih i nezavisnih slučajnih varijabl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895480"/>
            <a:ext cx="6454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v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maju istu raspodjelu vjerojatnosti pa dak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to očekivanje 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tu varijancu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711000" y="1905120"/>
            <a:ext cx="464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Za normalnu raspodjelu vrijed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17800" y="4114800"/>
            <a:ext cx="8152920" cy="1600200"/>
            <a:chOff x="217800" y="4114800"/>
            <a:chExt cx="8152920" cy="1600200"/>
          </a:xfrm>
        </p:grpSpPr>
        <p:sp>
          <p:nvSpPr>
            <p:cNvPr id="183" name=""/>
            <p:cNvSpPr/>
            <p:nvPr/>
          </p:nvSpPr>
          <p:spPr>
            <a:xfrm>
              <a:off x="217800" y="4114800"/>
              <a:ext cx="81529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3333cc"/>
                  </a:solidFill>
                  <a:latin typeface="Times New Roman"/>
                </a:rPr>
                <a:t>To možemo pisat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Prava vrijednost prosjeka populacije nalazi se u interval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s vjerojatnošću 68%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893960" y="4878360"/>
                  <a:ext cx="14670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∈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5" name=""/>
          <p:cNvGrpSpPr/>
          <p:nvPr/>
        </p:nvGrpSpPr>
        <p:grpSpPr>
          <a:xfrm>
            <a:off x="297000" y="2457360"/>
            <a:ext cx="8847000" cy="773280"/>
            <a:chOff x="297000" y="2457360"/>
            <a:chExt cx="8847000" cy="77328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2944800" y="2457360"/>
                  <a:ext cx="279072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r>
                            <m:t xml:space="preserve">≤</m:t>
                          </m:r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  <m:r>
                                <m:t xml:space="preserve">/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5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6068880" y="2457360"/>
                  <a:ext cx="307512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575</m:t>
                          </m:r>
                          <m:r>
                            <m:t xml:space="preserve">≤</m:t>
                          </m:r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  <m:r>
                                <m:t xml:space="preserve">/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575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9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297000" y="2509920"/>
                  <a:ext cx="24271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  <m:r>
                                <m:t xml:space="preserve">/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8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9" name=""/>
          <p:cNvSpPr/>
          <p:nvPr/>
        </p:nvSpPr>
        <p:spPr>
          <a:xfrm>
            <a:off x="448164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6720" y="914400"/>
            <a:ext cx="8712360" cy="459720"/>
            <a:chOff x="216720" y="914400"/>
            <a:chExt cx="8712360" cy="459720"/>
          </a:xfrm>
        </p:grpSpPr>
        <p:sp>
          <p:nvSpPr>
            <p:cNvPr id="192" name=""/>
            <p:cNvSpPr/>
            <p:nvPr/>
          </p:nvSpPr>
          <p:spPr>
            <a:xfrm>
              <a:off x="216720" y="914400"/>
              <a:ext cx="87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ad odaberemo uzorak, slučajna varijabl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poprimit će vrijednost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457960" y="952560"/>
                  <a:ext cx="3078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8537400" y="965160"/>
                  <a:ext cx="3016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-381960" y="533520"/>
            <a:ext cx="8968320" cy="1557360"/>
            <a:chOff x="-381960" y="533520"/>
            <a:chExt cx="8968320" cy="1557360"/>
          </a:xfrm>
        </p:grpSpPr>
        <p:sp>
          <p:nvSpPr>
            <p:cNvPr id="196" name=""/>
            <p:cNvSpPr/>
            <p:nvPr/>
          </p:nvSpPr>
          <p:spPr>
            <a:xfrm>
              <a:off x="-381960" y="533520"/>
              <a:ext cx="8968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Obično </a:t>
              </a:r>
              <a:r>
                <a:rPr b="0" lang="hr-HR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 znamo varijancu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osnovnog skupa pa ju moramo procijeniti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Nepristrani procjenjitelj varijance j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68720" y="925560"/>
                  <a:ext cx="2590920" cy="11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-433800" y="2540160"/>
            <a:ext cx="8808120" cy="2044440"/>
            <a:chOff x="-433800" y="2540160"/>
            <a:chExt cx="8808120" cy="2044440"/>
          </a:xfrm>
        </p:grpSpPr>
        <p:sp>
          <p:nvSpPr>
            <p:cNvPr id="199" name=""/>
            <p:cNvSpPr/>
            <p:nvPr/>
          </p:nvSpPr>
          <p:spPr>
            <a:xfrm>
              <a:off x="-433800" y="2540160"/>
              <a:ext cx="880812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Za procjenjitelja standardne devijacije najčešće uzimamo slučajnu varijabl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koja je vrlo bliska nepristranom procjenjitelju standardne devijacij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3392280" y="2895480"/>
                  <a:ext cx="2076480" cy="125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" name=""/>
          <p:cNvGrpSpPr/>
          <p:nvPr/>
        </p:nvGrpSpPr>
        <p:grpSpPr>
          <a:xfrm>
            <a:off x="145800" y="4732200"/>
            <a:ext cx="8617320" cy="1436760"/>
            <a:chOff x="145800" y="4732200"/>
            <a:chExt cx="8617320" cy="1436760"/>
          </a:xfrm>
        </p:grpSpPr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562720" y="4732200"/>
                  <a:ext cx="3200400" cy="14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145800" y="5486400"/>
              <a:ext cx="531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Interval 68% pouzdanosti prosjeka je t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6440" y="11736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fizici se dogovorno svi rezultati mjerenja pišu s navođenjem iznosa 68-postotne nepouzdanost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505320" y="990720"/>
                <a:ext cx="838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2160" y="1447920"/>
            <a:ext cx="9068040" cy="1369800"/>
            <a:chOff x="2160" y="1447920"/>
            <a:chExt cx="9068040" cy="13698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990720" y="1447920"/>
                  <a:ext cx="2147760" cy="13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"/>
            <p:cNvSpPr/>
            <p:nvPr/>
          </p:nvSpPr>
          <p:spPr>
            <a:xfrm>
              <a:off x="2160" y="2157120"/>
              <a:ext cx="9068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gdje je  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hr-HR" sz="2200" spc="-1" strike="noStrike">
                  <a:solidFill>
                    <a:srgbClr val="ff0000"/>
                  </a:solidFill>
                  <a:latin typeface="Times New Roman"/>
                </a:rPr>
                <a:t>nepouzdanost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izračunata iz </a:t>
              </a: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nezavisnih mjerenja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12760" y="3733920"/>
            <a:ext cx="8931240" cy="2288520"/>
            <a:chOff x="212760" y="3733920"/>
            <a:chExt cx="8931240" cy="2288520"/>
          </a:xfrm>
        </p:grpSpPr>
        <p:sp>
          <p:nvSpPr>
            <p:cNvPr id="210" name=""/>
            <p:cNvSpPr/>
            <p:nvPr/>
          </p:nvSpPr>
          <p:spPr>
            <a:xfrm>
              <a:off x="212760" y="3733920"/>
              <a:ext cx="8931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Također se upotrebljava veličina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oja označava 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</a:rPr>
                <a:t>preciznost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svakog pojedinog mjerenj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4367160" y="3886200"/>
                  <a:ext cx="2743200" cy="14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x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2" name=""/>
          <p:cNvSpPr/>
          <p:nvPr/>
        </p:nvSpPr>
        <p:spPr>
          <a:xfrm>
            <a:off x="4037040" y="2708280"/>
            <a:ext cx="3955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ANDARDNA POGRE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00400" y="2286000"/>
                <a:ext cx="17035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0" name=""/>
          <p:cNvGrpSpPr/>
          <p:nvPr/>
        </p:nvGrpSpPr>
        <p:grpSpPr>
          <a:xfrm>
            <a:off x="1679400" y="254160"/>
            <a:ext cx="4475520" cy="585360"/>
            <a:chOff x="1679400" y="254160"/>
            <a:chExt cx="4475520" cy="585360"/>
          </a:xfrm>
        </p:grpSpPr>
        <p:sp>
          <p:nvSpPr>
            <p:cNvPr id="51" name=""/>
            <p:cNvSpPr/>
            <p:nvPr/>
          </p:nvSpPr>
          <p:spPr>
            <a:xfrm>
              <a:off x="1679400" y="318960"/>
              <a:ext cx="447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rosjek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hr-HR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lu</a:t>
              </a:r>
              <a:r>
                <a:rPr b="1" lang="hr-HR" sz="2800" spc="-1" strike="noStrike">
                  <a:solidFill>
                    <a:srgbClr val="000000"/>
                  </a:solidFill>
                  <a:latin typeface="Times New Roman"/>
                </a:rPr>
                <a:t>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jnog u</a:t>
              </a:r>
              <a:r>
                <a:rPr b="1" lang="hr-HR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rk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971800" y="254160"/>
                  <a:ext cx="5205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" name=""/>
          <p:cNvSpPr/>
          <p:nvPr/>
        </p:nvSpPr>
        <p:spPr>
          <a:xfrm>
            <a:off x="533520" y="1066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lučajna varijab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010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linearna kombinacija slučajnih varijabl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6280" y="4114800"/>
            <a:ext cx="4213440" cy="459720"/>
            <a:chOff x="836280" y="4114800"/>
            <a:chExt cx="4213440" cy="459720"/>
          </a:xfrm>
        </p:grpSpPr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733560" y="4114800"/>
                  <a:ext cx="131616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" name=""/>
            <p:cNvSpPr/>
            <p:nvPr/>
          </p:nvSpPr>
          <p:spPr>
            <a:xfrm>
              <a:off x="836280" y="4114800"/>
              <a:ext cx="27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Očekivanje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 prosjek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60320" y="5105520"/>
            <a:ext cx="6701040" cy="909000"/>
            <a:chOff x="760320" y="5105520"/>
            <a:chExt cx="6701040" cy="909000"/>
          </a:xfrm>
        </p:grpSpPr>
        <p:sp>
          <p:nvSpPr>
            <p:cNvPr id="59" name=""/>
            <p:cNvSpPr/>
            <p:nvPr/>
          </p:nvSpPr>
          <p:spPr>
            <a:xfrm>
              <a:off x="760320" y="533376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Varijanca 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prosjek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6172560" y="5181480"/>
                  <a:ext cx="128880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429360" y="5105520"/>
                  <a:ext cx="1535040" cy="89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78680" y="318960"/>
            <a:ext cx="42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u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jnog u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066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lučajna varijab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600200"/>
            <a:ext cx="7010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linearna kombinacija slučajnih varijabl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666880" y="304920"/>
                <a:ext cx="478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429000" y="2209680"/>
                <a:ext cx="141120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1064160" y="3962520"/>
            <a:ext cx="4141080" cy="532800"/>
            <a:chOff x="1064160" y="3962520"/>
            <a:chExt cx="4141080" cy="53280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733920" y="4038480"/>
                  <a:ext cx="147132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1064160" y="3962520"/>
              <a:ext cx="240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Očekivanje 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total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835200" y="5410080"/>
            <a:ext cx="6884640" cy="711000"/>
            <a:chOff x="835200" y="5410080"/>
            <a:chExt cx="6884640" cy="711000"/>
          </a:xfrm>
        </p:grpSpPr>
        <p:sp>
          <p:nvSpPr>
            <p:cNvPr id="71" name=""/>
            <p:cNvSpPr/>
            <p:nvPr/>
          </p:nvSpPr>
          <p:spPr>
            <a:xfrm>
              <a:off x="835200" y="5410080"/>
              <a:ext cx="21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Varijanca 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total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6248520" y="5562360"/>
                  <a:ext cx="14713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>
                        <m:t xml:space="preserve">σ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3352680" y="5410080"/>
                  <a:ext cx="16639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n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94800" y="533520"/>
            <a:ext cx="47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aspodjela prosjeka uzork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5238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ka je uzorak sastavljen od slučajnih varijabli proizvoljna oblika raspodje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9920" y="2971800"/>
            <a:ext cx="64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kav će bit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oblik raspodjel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rosjeka (ili totala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609480" y="2084400"/>
            <a:ext cx="8097840" cy="4135320"/>
            <a:chOff x="609480" y="2084400"/>
            <a:chExt cx="8097840" cy="4135320"/>
          </a:xfrm>
        </p:grpSpPr>
        <p:pic>
          <p:nvPicPr>
            <p:cNvPr id="78" name="normalniprosjek" descr=""/>
            <p:cNvPicPr/>
            <p:nvPr/>
          </p:nvPicPr>
          <p:blipFill>
            <a:blip r:embed="rId1"/>
            <a:stretch/>
          </p:blipFill>
          <p:spPr>
            <a:xfrm>
              <a:off x="609480" y="2084400"/>
              <a:ext cx="8097840" cy="41353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838080" y="2666880"/>
                  <a:ext cx="131616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838080" y="3429000"/>
                  <a:ext cx="128916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445680" y="533520"/>
            <a:ext cx="822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uzorak sastavljen od normalnih slučajnih varijabli, onda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prosjek normalno raspodijel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9800" y="1763640"/>
            <a:ext cx="51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račun pomoću pravila vjerojatnost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mulacijski eks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880" y="879480"/>
            <a:ext cx="61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spodjela prosjeka i totala u općenitom sluča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2960" y="19368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mjer 1 (diskretna raspodjel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80316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Prodavač automobila prodaje 50% automobila niže klase po cijeni 65.000 kuna, 35% automobila srednje klase po 100.000 kuna i 15% automobila više klase po 135.000 kun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Definirajmo slučajnu varijab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prihod od prodaje jednog automobila (u tisućama k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429000" y="2565360"/>
          <a:ext cx="518148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65360"/>
                    <a:ext cx="518148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066680" y="3063960"/>
          <a:ext cx="5762880" cy="379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063960"/>
                    <a:ext cx="57628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9720" y="270000"/>
            <a:ext cx="8683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dređenog dana najavila su se dva kupca. Neka su slučajne varij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prihod od prvog kup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prihod od drugog kup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8480" y="1676520"/>
            <a:ext cx="4768920" cy="1828800"/>
            <a:chOff x="4038480" y="1676520"/>
            <a:chExt cx="4768920" cy="1828800"/>
          </a:xfrm>
        </p:grpSpPr>
        <p:sp>
          <p:nvSpPr>
            <p:cNvPr id="92" name=""/>
            <p:cNvSpPr/>
            <p:nvPr/>
          </p:nvSpPr>
          <p:spPr>
            <a:xfrm>
              <a:off x="4038480" y="1676520"/>
              <a:ext cx="358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lučajna varijabla     raspodijeljena je ovak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477120" y="167652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4" name=""/>
            <p:cNvGraphicFramePr/>
            <p:nvPr/>
          </p:nvGraphicFramePr>
          <p:xfrm>
            <a:off x="7238880" y="1828800"/>
            <a:ext cx="1568520" cy="1676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8880" y="1828800"/>
                      <a:ext cx="156852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224640" y="1752480"/>
            <a:ext cx="3661560" cy="3936960"/>
            <a:chOff x="224640" y="1752480"/>
            <a:chExt cx="3661560" cy="3936960"/>
          </a:xfrm>
        </p:grpSpPr>
        <p:graphicFrame>
          <p:nvGraphicFramePr>
            <p:cNvPr id="97" name=""/>
            <p:cNvGraphicFramePr/>
            <p:nvPr/>
          </p:nvGraphicFramePr>
          <p:xfrm>
            <a:off x="318960" y="2305080"/>
            <a:ext cx="3567240" cy="33843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8960" y="2305080"/>
                      <a:ext cx="3567240" cy="33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224640" y="1752480"/>
              <a:ext cx="33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Tablica mogućih prihod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" name=""/>
          <p:cNvGraphicFramePr/>
          <p:nvPr/>
        </p:nvGraphicFramePr>
        <p:xfrm>
          <a:off x="4191120" y="3571920"/>
          <a:ext cx="4178160" cy="32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571920"/>
                    <a:ext cx="417816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7T20:52:28Z</dcterms:created>
  <dc:creator>miro</dc:creator>
  <dc:description/>
  <dc:language>en-US</dc:language>
  <cp:lastModifiedBy>Miroslav Požek</cp:lastModifiedBy>
  <dcterms:modified xsi:type="dcterms:W3CDTF">2006-05-17T05:57:26Z</dcterms:modified>
  <cp:revision>61</cp:revision>
  <dc:subject/>
  <dc:title>No Slide Title</dc:title>
</cp:coreProperties>
</file>