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E50-F5C0-4479-A277-FEA99349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E7E-B63F-4EC6-B6CE-7A0B7857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B0C-A222-4801-AEBD-9D2C82B6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8D7-2B8D-4819-B3B6-E48D29CC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14E-C235-49C8-80E5-4D681C9F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2DF-F4D9-4BD6-896C-DCB3A91C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75D-4812-4FE7-990F-D673CDC8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A3E-D161-4A9B-81C9-11EDF73C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5A3-4D6E-4D12-9C72-73AE53FD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695-2485-481C-9092-71FCC915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AA5-A6CF-4F78-B659-F3E7A1A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489-2A96-4D38-8CCF-DDFE2BC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9C9E-56DF-43BC-BA97-0627F7C4D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ts.gla.ac.uk/steps/glossary/index.html" TargetMode="External"/><Relationship Id="rId2" Type="http://schemas.openxmlformats.org/officeDocument/2006/relationships/hyperlink" Target="http://www.stats.gla.ac.uk/steps/glossary/index.html" TargetMode="External"/><Relationship Id="rId3" Type="http://schemas.openxmlformats.org/officeDocument/2006/relationships/hyperlink" Target="http://www.stats.gla.ac.uk/steps/glossary/index.html" TargetMode="External"/><Relationship Id="rId4" Type="http://schemas.openxmlformats.org/officeDocument/2006/relationships/hyperlink" Target="http://www.stats.gla.ac.uk/steps/glossary/index.html" TargetMode="External"/><Relationship Id="rId5" Type="http://schemas.openxmlformats.org/officeDocument/2006/relationships/hyperlink" Target="http://www.stats.gla.ac.uk/steps/glossary/index.html" TargetMode="External"/><Relationship Id="rId6" Type="http://schemas.openxmlformats.org/officeDocument/2006/relationships/hyperlink" Target="http://www.stats.gla.ac.uk/steps/glossary/index.html" TargetMode="External"/><Relationship Id="rId7" Type="http://schemas.openxmlformats.org/officeDocument/2006/relationships/hyperlink" Target="http://www.stats.gla.ac.uk/steps/glossary/index.html" TargetMode="External"/><Relationship Id="rId8" Type="http://schemas.openxmlformats.org/officeDocument/2006/relationships/hyperlink" Target="http://www.stats.gla.ac.uk/steps/glossary/index.html" TargetMode="External"/><Relationship Id="rId9" Type="http://schemas.openxmlformats.org/officeDocument/2006/relationships/hyperlink" Target="http://www.stats.gla.ac.uk/steps/glossary/index.html" TargetMode="External"/><Relationship Id="rId10" Type="http://schemas.openxmlformats.org/officeDocument/2006/relationships/hyperlink" Target="http://www.stats.gla.ac.uk/steps/glossary/index.html" TargetMode="External"/><Relationship Id="rId11" Type="http://schemas.openxmlformats.org/officeDocument/2006/relationships/hyperlink" Target="http://www.stats.gla.ac.uk/steps/glossary/index.html" TargetMode="External"/><Relationship Id="rId12" Type="http://schemas.openxmlformats.org/officeDocument/2006/relationships/hyperlink" Target="http://www.stats.gla.ac.uk/steps/glossary/index.html" TargetMode="External"/><Relationship Id="rId13" Type="http://schemas.openxmlformats.org/officeDocument/2006/relationships/hyperlink" Target="http://www.stats.gla.ac.uk/steps/glossary/index.html" TargetMode="External"/><Relationship Id="rId14" Type="http://schemas.openxmlformats.org/officeDocument/2006/relationships/hyperlink" Target="http://www.stats.gla.ac.uk/steps/glossary/index.html" TargetMode="External"/><Relationship Id="rId15" Type="http://schemas.openxmlformats.org/officeDocument/2006/relationships/hyperlink" Target="http://www.stats.gla.ac.uk/steps/glossary/index.html" TargetMode="External"/><Relationship Id="rId16" Type="http://schemas.openxmlformats.org/officeDocument/2006/relationships/hyperlink" Target="http://www.stats.gla.ac.uk/steps/glossary/index.html" TargetMode="External"/><Relationship Id="rId17" Type="http://schemas.openxmlformats.org/officeDocument/2006/relationships/hyperlink" Target="http://mathworld.wolfram.com/topics/ProbabilityandStatistics.html" TargetMode="External"/><Relationship Id="rId18" Type="http://schemas.openxmlformats.org/officeDocument/2006/relationships/hyperlink" Target="http://mathworld.wolfram.com/topics/ProbabilityandStatistics.html" TargetMode="External"/><Relationship Id="rId19" Type="http://schemas.openxmlformats.org/officeDocument/2006/relationships/hyperlink" Target="http://mathworld.wolfram.com/topics/ProbabilityandStatistics.html" TargetMode="External"/><Relationship Id="rId20" Type="http://schemas.openxmlformats.org/officeDocument/2006/relationships/hyperlink" Target="http://mathworld.wolfram.com/topics/ProbabilityandStatistics.html" TargetMode="External"/><Relationship Id="rId21" Type="http://schemas.openxmlformats.org/officeDocument/2006/relationships/hyperlink" Target="http://mathworld.wolfram.com/topics/ProbabilityandStatistics.html" TargetMode="External"/><Relationship Id="rId22" Type="http://schemas.openxmlformats.org/officeDocument/2006/relationships/hyperlink" Target="http://mathworld.wolfram.com/topics/ProbabilityandStatistics.html" TargetMode="External"/><Relationship Id="rId23" Type="http://schemas.openxmlformats.org/officeDocument/2006/relationships/hyperlink" Target="http://mathworld.wolfram.com/topics/ProbabilityandStatistics.html" TargetMode="External"/><Relationship Id="rId24" Type="http://schemas.openxmlformats.org/officeDocument/2006/relationships/hyperlink" Target="http://mathworld.wolfram.com/topics/ProbabilityandStatistics.html" TargetMode="External"/><Relationship Id="rId25" Type="http://schemas.openxmlformats.org/officeDocument/2006/relationships/hyperlink" Target="http://mathworld.wolfram.com/topics/ProbabilityandStatistics.html" TargetMode="External"/><Relationship Id="rId26" Type="http://schemas.openxmlformats.org/officeDocument/2006/relationships/hyperlink" Target="http://mathworld.wolfram.com/topics/ProbabilityandStatistics.html" TargetMode="External"/><Relationship Id="rId27" Type="http://schemas.openxmlformats.org/officeDocument/2006/relationships/hyperlink" Target="http://mathworld.wolfram.com/topics/ProbabilityandStatistics.html" TargetMode="External"/><Relationship Id="rId28" Type="http://schemas.openxmlformats.org/officeDocument/2006/relationships/hyperlink" Target="http://mathworld.wolfram.com/topics/ProbabilityandStatistics.html" TargetMode="Externa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eteo.hr/" TargetMode="External"/><Relationship Id="rId2" Type="http://schemas.openxmlformats.org/officeDocument/2006/relationships/hyperlink" Target="http://meteo.hr/" TargetMode="External"/><Relationship Id="rId3" Type="http://schemas.openxmlformats.org/officeDocument/2006/relationships/hyperlink" Target="http://meteo.hr/" TargetMode="External"/><Relationship Id="rId4" Type="http://schemas.openxmlformats.org/officeDocument/2006/relationships/hyperlink" Target="http://meteo.hr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hy.hr/otvims" TargetMode="External"/><Relationship Id="rId2" Type="http://schemas.openxmlformats.org/officeDocument/2006/relationships/hyperlink" Target="http://www.phy.hr/otvims" TargetMode="External"/><Relationship Id="rId3" Type="http://schemas.openxmlformats.org/officeDocument/2006/relationships/hyperlink" Target="http://www.phy.hr/otvims" TargetMode="External"/><Relationship Id="rId4" Type="http://schemas.openxmlformats.org/officeDocument/2006/relationships/hyperlink" Target="http://www.phy.hr/otvims" TargetMode="External"/><Relationship Id="rId5" Type="http://schemas.openxmlformats.org/officeDocument/2006/relationships/hyperlink" Target="http://www.phy.hr/otvims" TargetMode="External"/><Relationship Id="rId6" Type="http://schemas.openxmlformats.org/officeDocument/2006/relationships/hyperlink" Target="http://www.phy.hr/~mpozek/predavanja/index.html" TargetMode="External"/><Relationship Id="rId7" Type="http://schemas.openxmlformats.org/officeDocument/2006/relationships/hyperlink" Target="http://www.phy.hr/~mpozek/predavanja/index.html" TargetMode="External"/><Relationship Id="rId8" Type="http://schemas.openxmlformats.org/officeDocument/2006/relationships/hyperlink" Target="http://www.phy.hr/~mpozek/predavanja/index.html" TargetMode="External"/><Relationship Id="rId9" Type="http://schemas.openxmlformats.org/officeDocument/2006/relationships/hyperlink" Target="http://www.phy.hr/~mpozek/predavanja/index.html" TargetMode="External"/><Relationship Id="rId10" Type="http://schemas.openxmlformats.org/officeDocument/2006/relationships/hyperlink" Target="http://www.phy.hr/~mpozek/predavanja/index.html" TargetMode="External"/><Relationship Id="rId11" Type="http://schemas.openxmlformats.org/officeDocument/2006/relationships/hyperlink" Target="http://www.phy.hr/~mpozek/predavanja/index.html" TargetMode="External"/><Relationship Id="rId12" Type="http://schemas.openxmlformats.org/officeDocument/2006/relationships/hyperlink" Target="http://www.phy.hr/~mpozek/predavanja/index.html" TargetMode="External"/><Relationship Id="rId13" Type="http://schemas.openxmlformats.org/officeDocument/2006/relationships/hyperlink" Target="http://www.phy.hr/~mpozek/predavanja/index.html" TargetMode="External"/><Relationship Id="rId14" Type="http://schemas.openxmlformats.org/officeDocument/2006/relationships/hyperlink" Target="http://www.phy.hr/~mpozek/predavanja/index.html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1691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teratur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L. Devore: Probability &amp; Statistics for Engineering and the Sciences, Brooks/Cole, Monterey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 Šošić, V. Serdar: Uvod u Statistiku,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Školska knjiga, Zagreb 1994. (Ekonomski fakulte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. Vran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ć: Vjerojatnost i statistika, Tehnička knjiga, Zagreb 197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. Pavlić: Statistička teorija i primjena, Tehnička knjiga, Zagreb 1970. (Strojarski fakult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. Sarapa: Teorija vjerojatnosti, Školska knjiga, Zagreb 1992. (PMF- Matemati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. Ugrin-Šparac: Primijenjena teorija vjerojatnosti I., II., Sveučilišna naklada - Liber, Zagreb, 1975/1976. (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W. Feller: An Introduction to Probability Theory and its Applications I., II., Willey, New York 1968/197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16960" y="4994280"/>
            <a:ext cx="8389800" cy="951840"/>
            <a:chOff x="516960" y="4994280"/>
            <a:chExt cx="8389800" cy="951840"/>
          </a:xfrm>
        </p:grpSpPr>
        <p:sp>
          <p:nvSpPr>
            <p:cNvPr id="43" name=""/>
            <p:cNvSpPr/>
            <p:nvPr/>
          </p:nvSpPr>
          <p:spPr>
            <a:xfrm>
              <a:off x="1194120" y="4994280"/>
              <a:ext cx="65700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http://www.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stats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gla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.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6"/>
                </a:rPr>
                <a:t>ac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.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8"/>
                </a:rPr>
                <a:t>uk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9"/>
                </a:rPr>
                <a:t>/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0"/>
                </a:rPr>
                <a:t>steps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1"/>
                </a:rPr>
                <a:t>/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2"/>
                </a:rPr>
                <a:t>glossary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3"/>
                </a:rPr>
                <a:t>/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4"/>
                </a:rPr>
                <a:t>index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5"/>
                </a:rPr>
                <a:t>.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6"/>
                </a:rPr>
                <a:t>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6960" y="5486400"/>
              <a:ext cx="83898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7"/>
                </a:rPr>
                <a:t>http://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8"/>
                </a:rPr>
                <a:t>mathworld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9"/>
                </a:rPr>
                <a:t>.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0"/>
                </a:rPr>
                <a:t>wolfram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1"/>
                </a:rPr>
                <a:t>.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2"/>
                </a:rPr>
                <a:t>com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3"/>
                </a:rPr>
                <a:t>/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4"/>
                </a:rPr>
                <a:t>topics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5"/>
                </a:rPr>
                <a:t>/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6"/>
                </a:rPr>
                <a:t>ProbabilityandStatistics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7"/>
                </a:rPr>
                <a:t>.</a:t>
              </a: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8"/>
                </a:rPr>
                <a:t>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469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85800" y="609480"/>
          <a:ext cx="9296280" cy="1185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92962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28600" y="1371600"/>
          <a:ext cx="8915400" cy="3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9154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80880" y="2209680"/>
          <a:ext cx="9372600" cy="298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93726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28600" y="3429000"/>
          <a:ext cx="8763120" cy="60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429000"/>
                    <a:ext cx="8763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57200" y="4495680"/>
          <a:ext cx="9753480" cy="309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495680"/>
                    <a:ext cx="97534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976840" y="304920"/>
            <a:ext cx="24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80880" y="1219320"/>
          <a:ext cx="1234440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1234440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53600" y="2700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ost djece u par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380880"/>
          <a:ext cx="8915400" cy="6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915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828800" y="1143000"/>
          <a:ext cx="6781680" cy="4676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143000"/>
                    <a:ext cx="67816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339800" y="32004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spodjela frekven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419720" y="2209680"/>
          <a:ext cx="6172200" cy="43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09680"/>
                    <a:ext cx="61722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04920" y="228600"/>
          <a:ext cx="8839080" cy="160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"/>
                    <a:ext cx="88390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143000" y="2249640"/>
          <a:ext cx="6019920" cy="415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249640"/>
                    <a:ext cx="601992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439720" y="563868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04920" y="533520"/>
          <a:ext cx="9372600" cy="119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937260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52280" y="2254320"/>
          <a:ext cx="7543800" cy="42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254320"/>
                    <a:ext cx="75438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04920" y="2209680"/>
          <a:ext cx="8839080" cy="274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83908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47000" y="674640"/>
            <a:ext cx="200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trošnja gor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62120" y="609480"/>
          <a:ext cx="8076960" cy="15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80769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62120" y="3048120"/>
          <a:ext cx="3504960" cy="280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350496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800600" y="2971800"/>
          <a:ext cx="3733920" cy="297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971800"/>
                    <a:ext cx="3733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" y="304920"/>
          <a:ext cx="7086600" cy="227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708660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66680" y="3124080"/>
          <a:ext cx="4496040" cy="362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449604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774040" y="369900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bl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imodal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zitivno nagn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96920" y="2362320"/>
            <a:ext cx="326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J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POLOŽA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0840" y="2209680"/>
            <a:ext cx="67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dava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utorkom 12-14) F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Vježb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srijedom 13-15) (1-2 sata) F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ktiku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četiri turnusa, četiri tjedna)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drum soba 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jet: položen 1. kolokv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13760" y="53352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TISTIKA I OSNOVNA MJ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533520" y="533520"/>
          <a:ext cx="8610480" cy="110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61048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0880" y="1828800"/>
          <a:ext cx="7848720" cy="1946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828800"/>
                    <a:ext cx="784872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80880" y="3657600"/>
          <a:ext cx="8763120" cy="331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657600"/>
                    <a:ext cx="87631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0" y="4267080"/>
          <a:ext cx="9144000" cy="1752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267080"/>
                    <a:ext cx="91440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08080" y="6134040"/>
            <a:ext cx="378792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šišani prosjek;  kvartili;  percentili;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4203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05280" y="355680"/>
            <a:ext cx="60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JERE RASPRŠEN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04920" y="304920"/>
          <a:ext cx="9144000" cy="34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91440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04920" y="1371600"/>
          <a:ext cx="9219960" cy="43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371600"/>
                    <a:ext cx="92199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-4114800" y="2286000"/>
          <a:ext cx="14982840" cy="1374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114800" y="2286000"/>
                    <a:ext cx="1498284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95680" y="77328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visi samo o ekstrem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-1600200" y="4267080"/>
          <a:ext cx="11006280" cy="1020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1600200" y="4267080"/>
                    <a:ext cx="1100628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533520"/>
          <a:ext cx="8464680" cy="20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4646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680" y="3657600"/>
          <a:ext cx="13025520" cy="205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0" y="3657600"/>
                    <a:ext cx="13025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5800" y="247680"/>
            <a:ext cx="367092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sjetiti </a:t>
            </a:r>
            <a:r>
              <a:rPr b="0" lang="hr-HR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hr-HR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teo</a:t>
            </a:r>
            <a:r>
              <a:rPr b="0" lang="hr-HR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hr-HR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07120" y="1184400"/>
            <a:ext cx="819684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i kolokvi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kolokvij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trećem tjed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jet za praktik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lučajni uzorak, račun pogrešaka, obrada rezultata mjerenj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opagacija pogreške, metoda najmanjih kvadrata,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kolokvij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ombinatorika, vjerojatnost, diskretne raspodj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okvi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ontinuirane raspodj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5070600"/>
            <a:ext cx="5744880" cy="825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hy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hr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otvims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phy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.hr/~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mpozek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predavanj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index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13760" y="53352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TISTIKA I OSNOVNA MJ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5880" y="803160"/>
            <a:ext cx="7859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Čemu služi teorija vjerojatnosti i statistik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gre na sreć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litika i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ospodar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drav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ene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iz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eorijska fiz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tistička fiz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vantna fiz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ksperimentalna fiz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brada rezultata mjerenja - procjena pogreš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vjera hipo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8080" y="533520"/>
          <a:ext cx="13030200" cy="48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33520"/>
                    <a:ext cx="13030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52280" y="1371600"/>
          <a:ext cx="10363320" cy="392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371600"/>
                    <a:ext cx="1036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85800" y="1905120"/>
          <a:ext cx="8458200" cy="269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905120"/>
                    <a:ext cx="845820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4191120"/>
          <a:ext cx="10363320" cy="392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191120"/>
                    <a:ext cx="1036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3520" y="3505320"/>
          <a:ext cx="8458200" cy="269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505320"/>
                    <a:ext cx="845820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39640" y="4876920"/>
          <a:ext cx="8431200" cy="2556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4876920"/>
                    <a:ext cx="84312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520" y="5486400"/>
          <a:ext cx="8431200" cy="25560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5486400"/>
                    <a:ext cx="843120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35000" y="2666880"/>
            <a:ext cx="9014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ora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odskup populacije koji uzimamo na unaprijed određen nač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2590920"/>
            <a:ext cx="243828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2666880"/>
            <a:ext cx="27432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o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196800" y="2133720"/>
            <a:ext cx="2166480" cy="709200"/>
            <a:chOff x="3196800" y="2133720"/>
            <a:chExt cx="2166480" cy="709200"/>
          </a:xfrm>
        </p:grpSpPr>
        <p:grpSp>
          <p:nvGrpSpPr>
            <p:cNvPr id="69" name=""/>
            <p:cNvGrpSpPr/>
            <p:nvPr/>
          </p:nvGrpSpPr>
          <p:grpSpPr>
            <a:xfrm>
              <a:off x="3200400" y="2538360"/>
              <a:ext cx="1981080" cy="304560"/>
              <a:chOff x="3200400" y="2538360"/>
              <a:chExt cx="1981080" cy="304560"/>
            </a:xfrm>
          </p:grpSpPr>
          <p:sp>
            <p:nvSpPr>
              <p:cNvPr id="70" name=""/>
              <p:cNvSpPr/>
              <p:nvPr/>
            </p:nvSpPr>
            <p:spPr>
              <a:xfrm>
                <a:off x="3200400" y="2538360"/>
                <a:ext cx="1600200" cy="256680"/>
              </a:xfrm>
              <a:custGeom>
                <a:avLst/>
                <a:gdLst/>
                <a:ahLst/>
                <a:rect l="l" t="t" r="r" b="b"/>
                <a:pathLst>
                  <a:path w="1008" h="256">
                    <a:moveTo>
                      <a:pt x="0" y="256"/>
                    </a:moveTo>
                    <a:cubicBezTo>
                      <a:pt x="204" y="144"/>
                      <a:pt x="408" y="32"/>
                      <a:pt x="576" y="16"/>
                    </a:cubicBezTo>
                    <a:cubicBezTo>
                      <a:pt x="744" y="0"/>
                      <a:pt x="928" y="88"/>
                      <a:pt x="1008" y="1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0600" y="2698560"/>
                <a:ext cx="380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3196800" y="2133720"/>
              <a:ext cx="21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orija vjerojatnos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349080" y="3886200"/>
            <a:ext cx="2238120" cy="680040"/>
            <a:chOff x="3349080" y="3886200"/>
            <a:chExt cx="2238120" cy="680040"/>
          </a:xfrm>
        </p:grpSpPr>
        <p:grpSp>
          <p:nvGrpSpPr>
            <p:cNvPr id="74" name=""/>
            <p:cNvGrpSpPr/>
            <p:nvPr/>
          </p:nvGrpSpPr>
          <p:grpSpPr>
            <a:xfrm>
              <a:off x="3353040" y="3886200"/>
              <a:ext cx="1981080" cy="304560"/>
              <a:chOff x="3353040" y="3886200"/>
              <a:chExt cx="1981080" cy="304560"/>
            </a:xfrm>
          </p:grpSpPr>
          <p:sp>
            <p:nvSpPr>
              <p:cNvPr id="75" name=""/>
              <p:cNvSpPr/>
              <p:nvPr/>
            </p:nvSpPr>
            <p:spPr>
              <a:xfrm rot="10800000">
                <a:off x="3733920" y="3934080"/>
                <a:ext cx="1600200" cy="256680"/>
              </a:xfrm>
              <a:custGeom>
                <a:avLst/>
                <a:gdLst/>
                <a:ahLst/>
                <a:rect l="l" t="t" r="r" b="b"/>
                <a:pathLst>
                  <a:path w="1008" h="256">
                    <a:moveTo>
                      <a:pt x="0" y="256"/>
                    </a:moveTo>
                    <a:cubicBezTo>
                      <a:pt x="204" y="144"/>
                      <a:pt x="408" y="32"/>
                      <a:pt x="576" y="16"/>
                    </a:cubicBezTo>
                    <a:cubicBezTo>
                      <a:pt x="744" y="0"/>
                      <a:pt x="928" y="88"/>
                      <a:pt x="1008" y="1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3353040" y="3886200"/>
                <a:ext cx="380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349080" y="4167360"/>
              <a:ext cx="22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duktivna statisti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45200" y="3715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djela statis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53600" y="115740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isna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4440" y="1447920"/>
            <a:ext cx="679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OPISNA STATISTIK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8680" y="2590920"/>
            <a:ext cx="592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GRAFIČKE METO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57200" y="1295280"/>
          <a:ext cx="7315200" cy="48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3152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89200" y="42228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lum-pijanci na američkim koledž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85800" y="2743200"/>
          <a:ext cx="12115800" cy="308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12115800" cy="30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990720"/>
          <a:ext cx="11277720" cy="107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990720"/>
                    <a:ext cx="112777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68880" y="1173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-L dij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21:29:55Z</dcterms:created>
  <dc:creator>miro</dc:creator>
  <dc:description/>
  <dc:language>en-US</dc:language>
  <cp:lastModifiedBy>Miroslav Požek</cp:lastModifiedBy>
  <cp:lastPrinted>2001-10-08T06:24:57Z</cp:lastPrinted>
  <dcterms:modified xsi:type="dcterms:W3CDTF">2006-03-17T07:52:02Z</dcterms:modified>
  <cp:revision>27</cp:revision>
  <dc:subject/>
  <dc:title>No Slide Title</dc:title>
</cp:coreProperties>
</file>