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62D-2E56-4F47-AD95-C343491B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C33-7A46-4539-93E5-55207046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016-59DE-4A0E-9AA1-14C3A282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5A8-12AC-41B1-88EC-E1CE08A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7B0-B11C-4450-9875-1804D59C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84F-1A3C-49B1-9A5C-578C6DB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C14-172E-400B-A364-F12302CF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B31-0F43-45D8-B485-7FDB180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0C2-C410-4AC7-ADC7-628F892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EE3-B7BB-467B-87C3-86383D2C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46A-282E-4D94-94D4-03D8181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9A4-028E-4BE1-9E17-CA8A5B94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89E4-0559-4618-899F-D3F6031AD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06240" y="1908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jam integr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5360" y="609480"/>
            <a:ext cx="8248680" cy="5403600"/>
            <a:chOff x="225360" y="609480"/>
            <a:chExt cx="8248680" cy="5403600"/>
          </a:xfrm>
        </p:grpSpPr>
        <p:graphicFrame>
          <p:nvGraphicFramePr>
            <p:cNvPr id="43" name=""/>
            <p:cNvGraphicFramePr/>
            <p:nvPr/>
          </p:nvGraphicFramePr>
          <p:xfrm>
            <a:off x="1600200" y="609480"/>
            <a:ext cx="5603760" cy="458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609480"/>
                      <a:ext cx="5603760" cy="458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225360" y="5370480"/>
              <a:ext cx="8248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Jedan od najjednostavnijih primjera upotrebe integrala je problem izračunav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površine ispod krivulje grafa funkcij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(x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u nekom intervalu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,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]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06240" y="1908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ojam integr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98760" y="611280"/>
          <a:ext cx="559404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8760" y="611280"/>
                    <a:ext cx="559404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28600" y="533412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namo geometrijski izračunati plavo obojenu površinu čija granica je zakrivljena cr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oga ćemo plohu podijeliti na manje dijelove i pokušati približno riješ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ka je tražena površina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56037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037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5851440" y="189000"/>
            <a:ext cx="30639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dijelimo promatrani interval [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] na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ekvidistantnih segmenata [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-1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]. Pritom je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75480" y="2017800"/>
            <a:ext cx="306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svakom segmentu pronađemo najmanju vrijednost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funkcije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44800" y="4532400"/>
            <a:ext cx="4008240" cy="1666800"/>
            <a:chOff x="2044800" y="4532400"/>
            <a:chExt cx="4008240" cy="166680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133720" y="5334120"/>
                  <a:ext cx="391932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Δ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044800" y="4532400"/>
              <a:ext cx="20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Definirajmo sumu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56037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037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638680" y="1066680"/>
            <a:ext cx="3063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akođer, na svakom segmentu pronađemo najveću vrijednost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funkcije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76920" y="3505320"/>
            <a:ext cx="4106880" cy="1474560"/>
            <a:chOff x="4876920" y="3505320"/>
            <a:chExt cx="4106880" cy="147456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4876920" y="4114800"/>
                  <a:ext cx="41068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Δ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5794560" y="3505320"/>
              <a:ext cx="208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Definirajmo sumu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59120" y="5257800"/>
            <a:ext cx="7053840" cy="1228680"/>
            <a:chOff x="159120" y="5257800"/>
            <a:chExt cx="7053840" cy="122868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3352680" y="5715000"/>
                  <a:ext cx="17686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59120" y="5257800"/>
              <a:ext cx="70538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Očito je tražena površina 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veća od 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hr-HR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, a manja od </a:t>
              </a:r>
              <a:r>
                <a:rPr b="0" i="1" lang="hr-HR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i="1" lang="hr-HR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j., veća od crvene površine, a manja od zeleno uokvirene površin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56037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037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962520" y="4724280"/>
                <a:ext cx="34210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638680" y="2438280"/>
            <a:ext cx="2683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većamo li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razlika između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staje sve m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granici kad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teži prema beskonačnom, vrije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9480" y="3181320"/>
                <a:ext cx="801072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43520" y="217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še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5040" y="5141880"/>
            <a:ext cx="78645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vdje je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prava vrijednost funkcije na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tom segmentu. I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se približavaju vrijednosti 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hr-H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kako se širina segmenta smanj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80880" y="380880"/>
            <a:ext cx="7925040" cy="1907280"/>
            <a:chOff x="380880" y="380880"/>
            <a:chExt cx="7925040" cy="1907280"/>
          </a:xfrm>
        </p:grpSpPr>
        <p:sp>
          <p:nvSpPr>
            <p:cNvPr id="74" name=""/>
            <p:cNvSpPr/>
            <p:nvPr/>
          </p:nvSpPr>
          <p:spPr>
            <a:xfrm>
              <a:off x="380880" y="3808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80" y="914400"/>
              <a:ext cx="7925040" cy="13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Primitivna funkcij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svaka funkcij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a svojstv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3505320" y="1600200"/>
                  <a:ext cx="16905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'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"/>
          <p:cNvGrpSpPr/>
          <p:nvPr/>
        </p:nvGrpSpPr>
        <p:grpSpPr>
          <a:xfrm>
            <a:off x="304920" y="3809880"/>
            <a:ext cx="8610480" cy="1556280"/>
            <a:chOff x="304920" y="3809880"/>
            <a:chExt cx="8610480" cy="1556280"/>
          </a:xfrm>
        </p:grpSpPr>
        <p:sp>
          <p:nvSpPr>
            <p:cNvPr id="78" name=""/>
            <p:cNvSpPr/>
            <p:nvPr/>
          </p:nvSpPr>
          <p:spPr>
            <a:xfrm>
              <a:off x="304920" y="3809880"/>
              <a:ext cx="8610480" cy="155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 neprekidne funkcije vrijedi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ibniz-Newtonova formul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2558880" y="4235400"/>
                  <a:ext cx="2768760" cy="96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01920" y="1347840"/>
                <a:ext cx="15987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918040" y="1219320"/>
                <a:ext cx="600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054320" y="2185920"/>
                <a:ext cx="398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918040" y="2185920"/>
                <a:ext cx="5112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054320" y="2828880"/>
                <a:ext cx="309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985000" y="2828880"/>
                <a:ext cx="3110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987720" y="3473280"/>
                <a:ext cx="33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918040" y="3344760"/>
                <a:ext cx="5112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851440" y="4826160"/>
                <a:ext cx="5778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830920" y="4309920"/>
                <a:ext cx="79848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965400" y="4890960"/>
                <a:ext cx="598680" cy="2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965400" y="4246560"/>
                <a:ext cx="576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854520" y="5211720"/>
                <a:ext cx="776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851440" y="5405400"/>
                <a:ext cx="466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98800" y="5964120"/>
                <a:ext cx="7542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719680" y="6178680"/>
                <a:ext cx="7765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896280" y="27000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6440" y="341280"/>
            <a:ext cx="20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ke tablične primitivne funk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1:13:59Z</dcterms:created>
  <dc:creator>Miroslav Požek</dc:creator>
  <dc:description/>
  <dc:language>en-US</dc:language>
  <cp:lastModifiedBy>Miroslav Požek</cp:lastModifiedBy>
  <dcterms:modified xsi:type="dcterms:W3CDTF">2006-04-08T21:58:52Z</dcterms:modified>
  <cp:revision>3</cp:revision>
  <dc:subject/>
  <dc:title>Slide 1</dc:title>
</cp:coreProperties>
</file>